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5F7-CBE7-45DF-8228-A7DFB0D6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2F2-E577-4069-95EE-9C6F7372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06E-861B-474E-A48D-27AB473C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6F8-5AB8-4079-B136-9A414F2B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52A8-22E9-4AA8-BE2F-84F5774F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7C9B-AE0D-4F25-A123-BD2C373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A7BC-69D5-4D00-A179-441AC22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D7A1-F25B-4FE3-BA8F-29D09014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AA38-D4C4-4294-9409-AAD8396C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0E85-3204-4AD9-B116-4EC2159D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4BF-5BC5-4A34-B381-7C53289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ED7-EBFD-43D1-A569-9971E3B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E7F2-A5CF-4C36-B529-81F5BD0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41A-4A15-4EFF-A2CD-DF85E9E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8CF0-A49A-4807-AD35-0225305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B40C-10A5-4954-9897-08AD59EF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50F-35F4-4ED7-B16E-E9AA6AFC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499-1B64-4702-A359-27E67108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35C-E0F7-49B0-BCFD-78955E47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751-3E9A-4531-963A-C8ADCD8E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970-77DD-4325-811A-5025B56B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DEA-6094-478C-B79D-2354444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35E-8E92-475F-8D55-A2A9440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272-4E4A-4524-B290-72C0A98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F95-E757-443B-9341-433FFCC19E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8B06-DA4D-4DBA-A6D9-0E0B8E19E8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Warm-up:  Solve the expressions below using x = 1.12, y = 83.4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and z =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) x • 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) 3.2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) 9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) x •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8000" y="3751200"/>
            <a:ext cx="2251080" cy="1150920"/>
          </a:xfrm>
          <a:custGeom>
            <a:avLst/>
            <a:gdLst/>
            <a:ahLst/>
            <a:rect l="l" t="t" r="r" b="b"/>
            <a:pathLst>
              <a:path w="6252" h="3201">
                <a:moveTo>
                  <a:pt x="7541" y="11237"/>
                </a:moveTo>
                <a:cubicBezTo>
                  <a:pt x="7597" y="11108"/>
                  <a:pt x="7629" y="10969"/>
                  <a:pt x="7541" y="10840"/>
                </a:cubicBezTo>
                <a:cubicBezTo>
                  <a:pt x="7516" y="10823"/>
                  <a:pt x="7491" y="10807"/>
                  <a:pt x="7466" y="10790"/>
                </a:cubicBezTo>
                <a:cubicBezTo>
                  <a:pt x="7341" y="10884"/>
                  <a:pt x="7066" y="11148"/>
                  <a:pt x="7293" y="11311"/>
                </a:cubicBezTo>
                <a:cubicBezTo>
                  <a:pt x="7474" y="11441"/>
                  <a:pt x="7588" y="11030"/>
                  <a:pt x="7615" y="10939"/>
                </a:cubicBezTo>
                <a:cubicBezTo>
                  <a:pt x="7615" y="11156"/>
                  <a:pt x="7620" y="11368"/>
                  <a:pt x="7590" y="11584"/>
                </a:cubicBezTo>
                <a:cubicBezTo>
                  <a:pt x="7571" y="11658"/>
                  <a:pt x="7563" y="11665"/>
                  <a:pt x="7565" y="11708"/>
                </a:cubicBezTo>
              </a:path>
              <a:path w="6252" h="3201">
                <a:moveTo>
                  <a:pt x="6077" y="12055"/>
                </a:moveTo>
                <a:cubicBezTo>
                  <a:pt x="6167" y="12188"/>
                  <a:pt x="6258" y="12320"/>
                  <a:pt x="6350" y="12452"/>
                </a:cubicBezTo>
              </a:path>
              <a:path w="6252" h="3201">
                <a:moveTo>
                  <a:pt x="6400" y="11981"/>
                </a:moveTo>
                <a:cubicBezTo>
                  <a:pt x="6334" y="12132"/>
                  <a:pt x="6212" y="12280"/>
                  <a:pt x="6127" y="12427"/>
                </a:cubicBezTo>
                <a:cubicBezTo>
                  <a:pt x="6090" y="12500"/>
                  <a:pt x="6102" y="12533"/>
                  <a:pt x="6052" y="12526"/>
                </a:cubicBezTo>
              </a:path>
              <a:path w="6252" h="3201">
                <a:moveTo>
                  <a:pt x="6846" y="12105"/>
                </a:moveTo>
                <a:cubicBezTo>
                  <a:pt x="6846" y="12025"/>
                  <a:pt x="6780" y="12008"/>
                  <a:pt x="6697" y="12030"/>
                </a:cubicBezTo>
                <a:cubicBezTo>
                  <a:pt x="6526" y="12076"/>
                  <a:pt x="6513" y="12207"/>
                  <a:pt x="6623" y="12328"/>
                </a:cubicBezTo>
                <a:cubicBezTo>
                  <a:pt x="6652" y="12360"/>
                  <a:pt x="6878" y="12550"/>
                  <a:pt x="6672" y="12576"/>
                </a:cubicBezTo>
                <a:cubicBezTo>
                  <a:pt x="6647" y="12568"/>
                  <a:pt x="6623" y="12559"/>
                  <a:pt x="6598" y="12551"/>
                </a:cubicBezTo>
                <a:cubicBezTo>
                  <a:pt x="6630" y="12376"/>
                  <a:pt x="6731" y="12234"/>
                  <a:pt x="6821" y="12080"/>
                </a:cubicBezTo>
              </a:path>
              <a:path w="6252" h="3201">
                <a:moveTo>
                  <a:pt x="6945" y="12030"/>
                </a:moveTo>
                <a:cubicBezTo>
                  <a:pt x="6945" y="12064"/>
                  <a:pt x="6976" y="12018"/>
                  <a:pt x="7020" y="11981"/>
                </a:cubicBezTo>
                <a:cubicBezTo>
                  <a:pt x="7072" y="12043"/>
                  <a:pt x="7142" y="12124"/>
                  <a:pt x="7069" y="12204"/>
                </a:cubicBezTo>
                <a:cubicBezTo>
                  <a:pt x="7053" y="12212"/>
                  <a:pt x="7036" y="12221"/>
                  <a:pt x="7020" y="12229"/>
                </a:cubicBezTo>
                <a:cubicBezTo>
                  <a:pt x="7102" y="12260"/>
                  <a:pt x="7184" y="12350"/>
                  <a:pt x="7069" y="12427"/>
                </a:cubicBezTo>
                <a:cubicBezTo>
                  <a:pt x="7026" y="12456"/>
                  <a:pt x="6946" y="12469"/>
                  <a:pt x="6896" y="12477"/>
                </a:cubicBezTo>
              </a:path>
              <a:path w="6252" h="3201">
                <a:moveTo>
                  <a:pt x="7491" y="12005"/>
                </a:moveTo>
                <a:cubicBezTo>
                  <a:pt x="7491" y="12068"/>
                  <a:pt x="7472" y="12118"/>
                  <a:pt x="7466" y="12179"/>
                </a:cubicBezTo>
                <a:cubicBezTo>
                  <a:pt x="7461" y="12230"/>
                  <a:pt x="7598" y="12235"/>
                  <a:pt x="7640" y="12229"/>
                </a:cubicBezTo>
                <a:cubicBezTo>
                  <a:pt x="7665" y="12221"/>
                  <a:pt x="7689" y="12212"/>
                  <a:pt x="7714" y="12204"/>
                </a:cubicBezTo>
              </a:path>
              <a:path w="6252" h="3201">
                <a:moveTo>
                  <a:pt x="7714" y="11881"/>
                </a:moveTo>
                <a:cubicBezTo>
                  <a:pt x="7714" y="12023"/>
                  <a:pt x="7692" y="12161"/>
                  <a:pt x="7689" y="12303"/>
                </a:cubicBezTo>
                <a:cubicBezTo>
                  <a:pt x="7688" y="12377"/>
                  <a:pt x="7689" y="12452"/>
                  <a:pt x="7689" y="12526"/>
                </a:cubicBezTo>
              </a:path>
              <a:path w="6252" h="3201">
                <a:moveTo>
                  <a:pt x="6127" y="12948"/>
                </a:moveTo>
                <a:cubicBezTo>
                  <a:pt x="6377" y="12904"/>
                  <a:pt x="6642" y="12878"/>
                  <a:pt x="6896" y="12849"/>
                </a:cubicBezTo>
                <a:cubicBezTo>
                  <a:pt x="7262" y="12807"/>
                  <a:pt x="7619" y="12774"/>
                  <a:pt x="7987" y="12774"/>
                </a:cubicBezTo>
                <a:cubicBezTo>
                  <a:pt x="7995" y="12774"/>
                  <a:pt x="8004" y="12774"/>
                  <a:pt x="8012" y="12774"/>
                </a:cubicBezTo>
              </a:path>
              <a:path w="6252" h="3201">
                <a:moveTo>
                  <a:pt x="10740" y="10418"/>
                </a:moveTo>
                <a:cubicBezTo>
                  <a:pt x="10740" y="10466"/>
                  <a:pt x="10709" y="10634"/>
                  <a:pt x="10765" y="10666"/>
                </a:cubicBezTo>
                <a:cubicBezTo>
                  <a:pt x="10881" y="10732"/>
                  <a:pt x="10981" y="10679"/>
                  <a:pt x="11088" y="10641"/>
                </a:cubicBezTo>
              </a:path>
              <a:path w="6252" h="3201">
                <a:moveTo>
                  <a:pt x="11881" y="11013"/>
                </a:moveTo>
                <a:cubicBezTo>
                  <a:pt x="11806" y="10955"/>
                  <a:pt x="11737" y="11056"/>
                  <a:pt x="11733" y="11137"/>
                </a:cubicBezTo>
                <a:cubicBezTo>
                  <a:pt x="11741" y="11154"/>
                  <a:pt x="11749" y="11170"/>
                  <a:pt x="11757" y="11187"/>
                </a:cubicBezTo>
                <a:cubicBezTo>
                  <a:pt x="11780" y="11190"/>
                  <a:pt x="12017" y="11132"/>
                  <a:pt x="11931" y="11038"/>
                </a:cubicBezTo>
                <a:cubicBezTo>
                  <a:pt x="11906" y="11030"/>
                  <a:pt x="11882" y="11021"/>
                  <a:pt x="11857" y="11013"/>
                </a:cubicBezTo>
              </a:path>
              <a:path w="6252" h="3201">
                <a:moveTo>
                  <a:pt x="11683" y="11559"/>
                </a:moveTo>
                <a:cubicBezTo>
                  <a:pt x="11892" y="11437"/>
                  <a:pt x="12073" y="11334"/>
                  <a:pt x="12303" y="11261"/>
                </a:cubicBezTo>
              </a:path>
              <a:path w="6252" h="3201">
                <a:moveTo>
                  <a:pt x="12055" y="11485"/>
                </a:moveTo>
                <a:cubicBezTo>
                  <a:pt x="12055" y="11601"/>
                  <a:pt x="12055" y="11716"/>
                  <a:pt x="12055" y="11832"/>
                </a:cubicBezTo>
              </a:path>
              <a:path w="6252" h="3201">
                <a:moveTo>
                  <a:pt x="10691" y="12923"/>
                </a:moveTo>
                <a:cubicBezTo>
                  <a:pt x="10743" y="12976"/>
                  <a:pt x="10718" y="12982"/>
                  <a:pt x="10765" y="12923"/>
                </a:cubicBezTo>
                <a:cubicBezTo>
                  <a:pt x="10719" y="12941"/>
                  <a:pt x="10656" y="13049"/>
                  <a:pt x="10740" y="13022"/>
                </a:cubicBezTo>
                <a:cubicBezTo>
                  <a:pt x="10807" y="13001"/>
                  <a:pt x="10788" y="12869"/>
                  <a:pt x="10740" y="12923"/>
                </a:cubicBezTo>
                <a:cubicBezTo>
                  <a:pt x="10720" y="12964"/>
                  <a:pt x="10712" y="12970"/>
                  <a:pt x="10716" y="12998"/>
                </a:cubicBezTo>
              </a:path>
              <a:path w="6252" h="3201">
                <a:moveTo>
                  <a:pt x="8756" y="13395"/>
                </a:moveTo>
                <a:cubicBezTo>
                  <a:pt x="8843" y="13424"/>
                  <a:pt x="8931" y="13446"/>
                  <a:pt x="9029" y="13469"/>
                </a:cubicBezTo>
                <a:cubicBezTo>
                  <a:pt x="9298" y="13531"/>
                  <a:pt x="9550" y="13547"/>
                  <a:pt x="9823" y="13568"/>
                </a:cubicBezTo>
                <a:cubicBezTo>
                  <a:pt x="10124" y="13592"/>
                  <a:pt x="10413" y="13618"/>
                  <a:pt x="10716" y="13618"/>
                </a:cubicBezTo>
                <a:cubicBezTo>
                  <a:pt x="10858" y="13618"/>
                  <a:pt x="11029" y="13602"/>
                  <a:pt x="11162" y="13543"/>
                </a:cubicBezTo>
                <a:cubicBezTo>
                  <a:pt x="11278" y="13491"/>
                  <a:pt x="11430" y="13448"/>
                  <a:pt x="11534" y="13370"/>
                </a:cubicBezTo>
                <a:cubicBezTo>
                  <a:pt x="11648" y="13285"/>
                  <a:pt x="11685" y="13149"/>
                  <a:pt x="11708" y="13022"/>
                </a:cubicBezTo>
                <a:cubicBezTo>
                  <a:pt x="11733" y="12885"/>
                  <a:pt x="11758" y="12737"/>
                  <a:pt x="11708" y="12601"/>
                </a:cubicBezTo>
                <a:cubicBezTo>
                  <a:pt x="11659" y="12468"/>
                  <a:pt x="11630" y="12412"/>
                  <a:pt x="11509" y="12353"/>
                </a:cubicBezTo>
                <a:cubicBezTo>
                  <a:pt x="11462" y="12330"/>
                  <a:pt x="11364" y="12285"/>
                  <a:pt x="11311" y="12278"/>
                </a:cubicBezTo>
                <a:cubicBezTo>
                  <a:pt x="11224" y="12267"/>
                  <a:pt x="11148" y="12241"/>
                  <a:pt x="11063" y="12229"/>
                </a:cubicBezTo>
                <a:cubicBezTo>
                  <a:pt x="10954" y="12214"/>
                  <a:pt x="10848" y="12197"/>
                  <a:pt x="10740" y="12179"/>
                </a:cubicBezTo>
                <a:cubicBezTo>
                  <a:pt x="10620" y="12159"/>
                  <a:pt x="10489" y="12117"/>
                  <a:pt x="10368" y="12105"/>
                </a:cubicBezTo>
                <a:cubicBezTo>
                  <a:pt x="10241" y="12093"/>
                  <a:pt x="10122" y="12071"/>
                  <a:pt x="9996" y="12055"/>
                </a:cubicBezTo>
                <a:cubicBezTo>
                  <a:pt x="9879" y="12040"/>
                  <a:pt x="9768" y="12030"/>
                  <a:pt x="9649" y="12030"/>
                </a:cubicBezTo>
                <a:cubicBezTo>
                  <a:pt x="9446" y="12030"/>
                  <a:pt x="9200" y="11991"/>
                  <a:pt x="9004" y="12055"/>
                </a:cubicBezTo>
                <a:cubicBezTo>
                  <a:pt x="8801" y="12121"/>
                  <a:pt x="8561" y="12218"/>
                  <a:pt x="8434" y="12402"/>
                </a:cubicBezTo>
                <a:cubicBezTo>
                  <a:pt x="8363" y="12505"/>
                  <a:pt x="8322" y="12675"/>
                  <a:pt x="8334" y="12799"/>
                </a:cubicBezTo>
                <a:cubicBezTo>
                  <a:pt x="8356" y="13026"/>
                  <a:pt x="8466" y="13264"/>
                  <a:pt x="8632" y="13419"/>
                </a:cubicBezTo>
                <a:cubicBezTo>
                  <a:pt x="8723" y="13504"/>
                  <a:pt x="8756" y="13473"/>
                  <a:pt x="8880" y="13494"/>
                </a:cubicBezTo>
                <a:cubicBezTo>
                  <a:pt x="8920" y="13514"/>
                  <a:pt x="8927" y="13523"/>
                  <a:pt x="8954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08160" y="2062080"/>
            <a:ext cx="1258920" cy="1144800"/>
          </a:xfrm>
          <a:custGeom>
            <a:avLst/>
            <a:gdLst/>
            <a:ahLst/>
            <a:rect l="l" t="t" r="r" b="b"/>
            <a:pathLst>
              <a:path w="3498" h="3176">
                <a:moveTo>
                  <a:pt x="7293" y="7764"/>
                </a:moveTo>
                <a:cubicBezTo>
                  <a:pt x="7286" y="7798"/>
                  <a:pt x="7275" y="7829"/>
                  <a:pt x="7268" y="7863"/>
                </a:cubicBezTo>
                <a:cubicBezTo>
                  <a:pt x="7268" y="7838"/>
                  <a:pt x="7276" y="7774"/>
                  <a:pt x="7293" y="7764"/>
                </a:cubicBezTo>
                <a:cubicBezTo>
                  <a:pt x="7357" y="7728"/>
                  <a:pt x="7454" y="7733"/>
                  <a:pt x="7516" y="7714"/>
                </a:cubicBezTo>
                <a:cubicBezTo>
                  <a:pt x="7524" y="7714"/>
                  <a:pt x="7533" y="7714"/>
                  <a:pt x="7541" y="7714"/>
                </a:cubicBezTo>
                <a:cubicBezTo>
                  <a:pt x="7520" y="7862"/>
                  <a:pt x="7476" y="8023"/>
                  <a:pt x="7417" y="8161"/>
                </a:cubicBezTo>
                <a:cubicBezTo>
                  <a:pt x="7392" y="8186"/>
                  <a:pt x="7384" y="8194"/>
                  <a:pt x="7417" y="8210"/>
                </a:cubicBezTo>
              </a:path>
              <a:path w="3498" h="3176">
                <a:moveTo>
                  <a:pt x="6697" y="7789"/>
                </a:moveTo>
                <a:cubicBezTo>
                  <a:pt x="6673" y="7717"/>
                  <a:pt x="6642" y="7850"/>
                  <a:pt x="6623" y="7888"/>
                </a:cubicBezTo>
                <a:cubicBezTo>
                  <a:pt x="6573" y="7991"/>
                  <a:pt x="6533" y="8094"/>
                  <a:pt x="6524" y="8210"/>
                </a:cubicBezTo>
                <a:cubicBezTo>
                  <a:pt x="6521" y="8253"/>
                  <a:pt x="6622" y="8291"/>
                  <a:pt x="6672" y="8285"/>
                </a:cubicBezTo>
                <a:cubicBezTo>
                  <a:pt x="6745" y="8276"/>
                  <a:pt x="6851" y="8219"/>
                  <a:pt x="6896" y="8161"/>
                </a:cubicBezTo>
                <a:cubicBezTo>
                  <a:pt x="6919" y="8131"/>
                  <a:pt x="6944" y="8061"/>
                  <a:pt x="6896" y="8037"/>
                </a:cubicBezTo>
                <a:cubicBezTo>
                  <a:pt x="6843" y="8011"/>
                  <a:pt x="6807" y="8007"/>
                  <a:pt x="6772" y="8062"/>
                </a:cubicBezTo>
                <a:cubicBezTo>
                  <a:pt x="6737" y="8117"/>
                  <a:pt x="6747" y="8173"/>
                  <a:pt x="6747" y="8235"/>
                </a:cubicBezTo>
                <a:cubicBezTo>
                  <a:pt x="6747" y="8291"/>
                  <a:pt x="6732" y="8297"/>
                  <a:pt x="6772" y="8310"/>
                </a:cubicBezTo>
              </a:path>
              <a:path w="3498" h="3176">
                <a:moveTo>
                  <a:pt x="8855" y="5779"/>
                </a:moveTo>
                <a:cubicBezTo>
                  <a:pt x="8912" y="5747"/>
                  <a:pt x="8962" y="5737"/>
                  <a:pt x="9029" y="5730"/>
                </a:cubicBezTo>
                <a:cubicBezTo>
                  <a:pt x="9009" y="5837"/>
                  <a:pt x="8988" y="5880"/>
                  <a:pt x="8930" y="5978"/>
                </a:cubicBezTo>
                <a:cubicBezTo>
                  <a:pt x="8986" y="6001"/>
                  <a:pt x="9012" y="5966"/>
                  <a:pt x="9079" y="5953"/>
                </a:cubicBezTo>
              </a:path>
              <a:path w="3498" h="3176">
                <a:moveTo>
                  <a:pt x="9079" y="6251"/>
                </a:moveTo>
                <a:cubicBezTo>
                  <a:pt x="9100" y="6262"/>
                  <a:pt x="9061" y="6339"/>
                  <a:pt x="9054" y="6400"/>
                </a:cubicBezTo>
                <a:cubicBezTo>
                  <a:pt x="9150" y="6384"/>
                  <a:pt x="9254" y="6368"/>
                  <a:pt x="9203" y="6251"/>
                </a:cubicBezTo>
                <a:cubicBezTo>
                  <a:pt x="9179" y="6203"/>
                  <a:pt x="9173" y="6186"/>
                  <a:pt x="9128" y="6201"/>
                </a:cubicBezTo>
              </a:path>
              <a:path w="3498" h="3176">
                <a:moveTo>
                  <a:pt x="8731" y="6276"/>
                </a:moveTo>
                <a:cubicBezTo>
                  <a:pt x="8753" y="6341"/>
                  <a:pt x="8761" y="6356"/>
                  <a:pt x="8756" y="6400"/>
                </a:cubicBezTo>
              </a:path>
              <a:path w="3498" h="3176">
                <a:moveTo>
                  <a:pt x="8756" y="6424"/>
                </a:moveTo>
                <a:cubicBezTo>
                  <a:pt x="8807" y="6416"/>
                  <a:pt x="8839" y="6402"/>
                  <a:pt x="8880" y="6375"/>
                </a:cubicBezTo>
              </a:path>
              <a:path w="3498" h="3176">
                <a:moveTo>
                  <a:pt x="8806" y="6672"/>
                </a:moveTo>
                <a:cubicBezTo>
                  <a:pt x="8928" y="6603"/>
                  <a:pt x="9090" y="6569"/>
                  <a:pt x="9227" y="6524"/>
                </a:cubicBezTo>
                <a:cubicBezTo>
                  <a:pt x="9287" y="6504"/>
                  <a:pt x="9298" y="6499"/>
                  <a:pt x="9351" y="6499"/>
                </a:cubicBezTo>
              </a:path>
              <a:path w="3498" h="3176">
                <a:moveTo>
                  <a:pt x="9103" y="6697"/>
                </a:moveTo>
                <a:cubicBezTo>
                  <a:pt x="9147" y="6688"/>
                  <a:pt x="9180" y="6672"/>
                  <a:pt x="9227" y="6672"/>
                </a:cubicBezTo>
                <a:cubicBezTo>
                  <a:pt x="9209" y="6761"/>
                  <a:pt x="9158" y="6821"/>
                  <a:pt x="9128" y="6896"/>
                </a:cubicBezTo>
                <a:cubicBezTo>
                  <a:pt x="9196" y="6896"/>
                  <a:pt x="9235" y="6856"/>
                  <a:pt x="9302" y="6846"/>
                </a:cubicBezTo>
                <a:cubicBezTo>
                  <a:pt x="9327" y="6846"/>
                  <a:pt x="9335" y="6846"/>
                  <a:pt x="9327" y="6821"/>
                </a:cubicBezTo>
              </a:path>
              <a:path w="3498" h="3176">
                <a:moveTo>
                  <a:pt x="7094" y="8260"/>
                </a:moveTo>
                <a:cubicBezTo>
                  <a:pt x="7076" y="8207"/>
                  <a:pt x="7077" y="8240"/>
                  <a:pt x="7069" y="8285"/>
                </a:cubicBezTo>
                <a:cubicBezTo>
                  <a:pt x="7012" y="8421"/>
                  <a:pt x="7098" y="8316"/>
                  <a:pt x="7094" y="8260"/>
                </a:cubicBezTo>
                <a:cubicBezTo>
                  <a:pt x="7090" y="8207"/>
                  <a:pt x="7002" y="8281"/>
                  <a:pt x="7020" y="8334"/>
                </a:cubicBezTo>
                <a:cubicBezTo>
                  <a:pt x="7054" y="8435"/>
                  <a:pt x="7159" y="8248"/>
                  <a:pt x="7119" y="8235"/>
                </a:cubicBezTo>
                <a:cubicBezTo>
                  <a:pt x="7075" y="8257"/>
                  <a:pt x="7064" y="8260"/>
                  <a:pt x="7045" y="8285"/>
                </a:cubicBezTo>
                <a:cubicBezTo>
                  <a:pt x="7055" y="8344"/>
                  <a:pt x="7144" y="8201"/>
                  <a:pt x="7144" y="8260"/>
                </a:cubicBezTo>
                <a:cubicBezTo>
                  <a:pt x="7136" y="8268"/>
                  <a:pt x="7127" y="8277"/>
                  <a:pt x="7119" y="8285"/>
                </a:cubicBezTo>
              </a:path>
              <a:path w="3498" h="3176">
                <a:moveTo>
                  <a:pt x="6424" y="8682"/>
                </a:moveTo>
                <a:cubicBezTo>
                  <a:pt x="6509" y="8744"/>
                  <a:pt x="6527" y="8773"/>
                  <a:pt x="6648" y="8806"/>
                </a:cubicBezTo>
                <a:cubicBezTo>
                  <a:pt x="6750" y="8834"/>
                  <a:pt x="6870" y="8868"/>
                  <a:pt x="6970" y="8880"/>
                </a:cubicBezTo>
                <a:cubicBezTo>
                  <a:pt x="7088" y="8894"/>
                  <a:pt x="7195" y="8905"/>
                  <a:pt x="7317" y="8905"/>
                </a:cubicBezTo>
                <a:cubicBezTo>
                  <a:pt x="7456" y="8905"/>
                  <a:pt x="7603" y="8908"/>
                  <a:pt x="7739" y="8880"/>
                </a:cubicBezTo>
                <a:cubicBezTo>
                  <a:pt x="7826" y="8862"/>
                  <a:pt x="7958" y="8844"/>
                  <a:pt x="8037" y="8806"/>
                </a:cubicBezTo>
                <a:cubicBezTo>
                  <a:pt x="8125" y="8764"/>
                  <a:pt x="8205" y="8711"/>
                  <a:pt x="8285" y="8657"/>
                </a:cubicBezTo>
                <a:cubicBezTo>
                  <a:pt x="8372" y="8599"/>
                  <a:pt x="8409" y="8527"/>
                  <a:pt x="8458" y="8434"/>
                </a:cubicBezTo>
                <a:cubicBezTo>
                  <a:pt x="8501" y="8352"/>
                  <a:pt x="8529" y="8250"/>
                  <a:pt x="8558" y="8161"/>
                </a:cubicBezTo>
                <a:cubicBezTo>
                  <a:pt x="8581" y="8091"/>
                  <a:pt x="8604" y="8022"/>
                  <a:pt x="8607" y="7938"/>
                </a:cubicBezTo>
                <a:cubicBezTo>
                  <a:pt x="8611" y="7843"/>
                  <a:pt x="8599" y="7714"/>
                  <a:pt x="8533" y="7640"/>
                </a:cubicBezTo>
                <a:cubicBezTo>
                  <a:pt x="8488" y="7589"/>
                  <a:pt x="8398" y="7545"/>
                  <a:pt x="8334" y="7516"/>
                </a:cubicBezTo>
                <a:cubicBezTo>
                  <a:pt x="8254" y="7480"/>
                  <a:pt x="8148" y="7469"/>
                  <a:pt x="8062" y="7466"/>
                </a:cubicBezTo>
                <a:cubicBezTo>
                  <a:pt x="7935" y="7462"/>
                  <a:pt x="7815" y="7445"/>
                  <a:pt x="7689" y="7441"/>
                </a:cubicBezTo>
                <a:cubicBezTo>
                  <a:pt x="7576" y="7438"/>
                  <a:pt x="7477" y="7404"/>
                  <a:pt x="7367" y="7392"/>
                </a:cubicBezTo>
                <a:cubicBezTo>
                  <a:pt x="7267" y="7381"/>
                  <a:pt x="7171" y="7370"/>
                  <a:pt x="7069" y="7367"/>
                </a:cubicBezTo>
                <a:cubicBezTo>
                  <a:pt x="6889" y="7362"/>
                  <a:pt x="6697" y="7350"/>
                  <a:pt x="6524" y="7392"/>
                </a:cubicBezTo>
                <a:cubicBezTo>
                  <a:pt x="6345" y="7436"/>
                  <a:pt x="6250" y="7478"/>
                  <a:pt x="6102" y="7590"/>
                </a:cubicBezTo>
                <a:cubicBezTo>
                  <a:pt x="5963" y="7695"/>
                  <a:pt x="5874" y="7809"/>
                  <a:pt x="5854" y="7987"/>
                </a:cubicBezTo>
                <a:cubicBezTo>
                  <a:pt x="5837" y="8139"/>
                  <a:pt x="5834" y="8368"/>
                  <a:pt x="5904" y="8508"/>
                </a:cubicBezTo>
                <a:cubicBezTo>
                  <a:pt x="5965" y="8630"/>
                  <a:pt x="6085" y="8758"/>
                  <a:pt x="6201" y="8830"/>
                </a:cubicBezTo>
                <a:cubicBezTo>
                  <a:pt x="6270" y="8873"/>
                  <a:pt x="6293" y="8862"/>
                  <a:pt x="6375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86040" y="1830240"/>
            <a:ext cx="1197000" cy="2394000"/>
          </a:xfrm>
          <a:custGeom>
            <a:avLst/>
            <a:gdLst/>
            <a:ahLst/>
            <a:rect l="l" t="t" r="r" b="b"/>
            <a:pathLst>
              <a:path w="3325" h="6649">
                <a:moveTo>
                  <a:pt x="7838" y="5085"/>
                </a:moveTo>
                <a:cubicBezTo>
                  <a:pt x="7806" y="5186"/>
                  <a:pt x="7771" y="5281"/>
                  <a:pt x="7739" y="5383"/>
                </a:cubicBezTo>
              </a:path>
              <a:path w="3325" h="6649">
                <a:moveTo>
                  <a:pt x="10517" y="10840"/>
                </a:moveTo>
                <a:cubicBezTo>
                  <a:pt x="10547" y="10869"/>
                  <a:pt x="10562" y="10874"/>
                  <a:pt x="10592" y="10840"/>
                </a:cubicBezTo>
              </a:path>
              <a:path w="3325" h="6649">
                <a:moveTo>
                  <a:pt x="11063" y="10294"/>
                </a:moveTo>
                <a:cubicBezTo>
                  <a:pt x="11048" y="10513"/>
                  <a:pt x="10964" y="10744"/>
                  <a:pt x="10988" y="10964"/>
                </a:cubicBezTo>
                <a:cubicBezTo>
                  <a:pt x="10996" y="10989"/>
                  <a:pt x="11005" y="11013"/>
                  <a:pt x="11013" y="11038"/>
                </a:cubicBezTo>
              </a:path>
              <a:path w="3325" h="6649">
                <a:moveTo>
                  <a:pt x="9252" y="11361"/>
                </a:moveTo>
                <a:cubicBezTo>
                  <a:pt x="9291" y="11495"/>
                  <a:pt x="9338" y="11607"/>
                  <a:pt x="9401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03640" y="2428920"/>
            <a:ext cx="839520" cy="473040"/>
          </a:xfrm>
          <a:custGeom>
            <a:avLst/>
            <a:gdLst/>
            <a:ahLst/>
            <a:rect l="l" t="t" r="r" b="b"/>
            <a:pathLst>
              <a:path w="2332" h="1316">
                <a:moveTo>
                  <a:pt x="6548" y="6772"/>
                </a:moveTo>
                <a:cubicBezTo>
                  <a:pt x="6548" y="6916"/>
                  <a:pt x="6546" y="7057"/>
                  <a:pt x="6573" y="7193"/>
                </a:cubicBezTo>
                <a:cubicBezTo>
                  <a:pt x="6573" y="7218"/>
                  <a:pt x="6573" y="7226"/>
                  <a:pt x="6573" y="7193"/>
                </a:cubicBezTo>
              </a:path>
              <a:path w="2332" h="1316">
                <a:moveTo>
                  <a:pt x="6722" y="6821"/>
                </a:moveTo>
                <a:cubicBezTo>
                  <a:pt x="6636" y="6843"/>
                  <a:pt x="6553" y="7023"/>
                  <a:pt x="6499" y="7094"/>
                </a:cubicBezTo>
                <a:cubicBezTo>
                  <a:pt x="6442" y="7169"/>
                  <a:pt x="6438" y="7181"/>
                  <a:pt x="6400" y="7218"/>
                </a:cubicBezTo>
              </a:path>
              <a:path w="2332" h="1316">
                <a:moveTo>
                  <a:pt x="7888" y="6772"/>
                </a:moveTo>
                <a:cubicBezTo>
                  <a:pt x="7921" y="6673"/>
                  <a:pt x="7792" y="6916"/>
                  <a:pt x="7789" y="6921"/>
                </a:cubicBezTo>
                <a:cubicBezTo>
                  <a:pt x="7742" y="7000"/>
                  <a:pt x="7650" y="7145"/>
                  <a:pt x="7640" y="7243"/>
                </a:cubicBezTo>
                <a:cubicBezTo>
                  <a:pt x="7640" y="7251"/>
                  <a:pt x="7640" y="7260"/>
                  <a:pt x="7640" y="7268"/>
                </a:cubicBezTo>
                <a:cubicBezTo>
                  <a:pt x="7731" y="7299"/>
                  <a:pt x="7795" y="7302"/>
                  <a:pt x="7888" y="7268"/>
                </a:cubicBezTo>
                <a:cubicBezTo>
                  <a:pt x="7995" y="7229"/>
                  <a:pt x="8081" y="7218"/>
                  <a:pt x="8111" y="7119"/>
                </a:cubicBezTo>
                <a:cubicBezTo>
                  <a:pt x="8111" y="7094"/>
                  <a:pt x="8111" y="7086"/>
                  <a:pt x="8086" y="7094"/>
                </a:cubicBezTo>
                <a:cubicBezTo>
                  <a:pt x="7957" y="7120"/>
                  <a:pt x="7884" y="7164"/>
                  <a:pt x="7838" y="7293"/>
                </a:cubicBezTo>
                <a:cubicBezTo>
                  <a:pt x="7838" y="7317"/>
                  <a:pt x="7838" y="7326"/>
                  <a:pt x="7838" y="7342"/>
                </a:cubicBezTo>
              </a:path>
              <a:path w="2332" h="1316">
                <a:moveTo>
                  <a:pt x="6424" y="7491"/>
                </a:moveTo>
                <a:cubicBezTo>
                  <a:pt x="6540" y="7491"/>
                  <a:pt x="6606" y="7471"/>
                  <a:pt x="6722" y="7466"/>
                </a:cubicBezTo>
                <a:cubicBezTo>
                  <a:pt x="7094" y="7450"/>
                  <a:pt x="7466" y="7456"/>
                  <a:pt x="7838" y="7441"/>
                </a:cubicBezTo>
                <a:cubicBezTo>
                  <a:pt x="8125" y="7429"/>
                  <a:pt x="8400" y="7406"/>
                  <a:pt x="8682" y="7367"/>
                </a:cubicBezTo>
                <a:cubicBezTo>
                  <a:pt x="8706" y="7367"/>
                  <a:pt x="8715" y="7367"/>
                  <a:pt x="8731" y="7367"/>
                </a:cubicBezTo>
              </a:path>
              <a:path w="2332" h="1316">
                <a:moveTo>
                  <a:pt x="7888" y="7739"/>
                </a:moveTo>
                <a:cubicBezTo>
                  <a:pt x="7958" y="7697"/>
                  <a:pt x="8050" y="7696"/>
                  <a:pt x="8136" y="7689"/>
                </a:cubicBezTo>
                <a:cubicBezTo>
                  <a:pt x="8136" y="7848"/>
                  <a:pt x="8046" y="7886"/>
                  <a:pt x="7938" y="7987"/>
                </a:cubicBezTo>
                <a:cubicBezTo>
                  <a:pt x="7882" y="8043"/>
                  <a:pt x="7884" y="8068"/>
                  <a:pt x="7838" y="8062"/>
                </a:cubicBezTo>
                <a:cubicBezTo>
                  <a:pt x="7956" y="8062"/>
                  <a:pt x="8069" y="8024"/>
                  <a:pt x="8186" y="8012"/>
                </a:cubicBezTo>
                <a:cubicBezTo>
                  <a:pt x="8211" y="8012"/>
                  <a:pt x="8235" y="8012"/>
                  <a:pt x="8260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78080" y="3517920"/>
            <a:ext cx="912960" cy="1179360"/>
          </a:xfrm>
          <a:custGeom>
            <a:avLst/>
            <a:gdLst/>
            <a:ahLst/>
            <a:rect l="l" t="t" r="r" b="b"/>
            <a:pathLst>
              <a:path w="2532" h="3275">
                <a:moveTo>
                  <a:pt x="9723" y="10567"/>
                </a:moveTo>
                <a:cubicBezTo>
                  <a:pt x="9703" y="10503"/>
                  <a:pt x="9564" y="10560"/>
                  <a:pt x="9525" y="10592"/>
                </a:cubicBezTo>
                <a:cubicBezTo>
                  <a:pt x="9460" y="10679"/>
                  <a:pt x="9440" y="10697"/>
                  <a:pt x="9426" y="10765"/>
                </a:cubicBezTo>
                <a:cubicBezTo>
                  <a:pt x="9538" y="10844"/>
                  <a:pt x="9741" y="10916"/>
                  <a:pt x="9649" y="11038"/>
                </a:cubicBezTo>
                <a:cubicBezTo>
                  <a:pt x="9641" y="11046"/>
                  <a:pt x="9632" y="11055"/>
                  <a:pt x="9624" y="11063"/>
                </a:cubicBezTo>
                <a:cubicBezTo>
                  <a:pt x="9543" y="10898"/>
                  <a:pt x="9687" y="10809"/>
                  <a:pt x="9798" y="10666"/>
                </a:cubicBezTo>
                <a:cubicBezTo>
                  <a:pt x="9898" y="10537"/>
                  <a:pt x="9888" y="10553"/>
                  <a:pt x="9798" y="10592"/>
                </a:cubicBezTo>
              </a:path>
              <a:path w="2532" h="3275">
                <a:moveTo>
                  <a:pt x="10071" y="10517"/>
                </a:moveTo>
                <a:cubicBezTo>
                  <a:pt x="10148" y="10495"/>
                  <a:pt x="10175" y="10486"/>
                  <a:pt x="10244" y="10492"/>
                </a:cubicBezTo>
                <a:cubicBezTo>
                  <a:pt x="10257" y="10653"/>
                  <a:pt x="10205" y="10676"/>
                  <a:pt x="10071" y="10765"/>
                </a:cubicBezTo>
                <a:cubicBezTo>
                  <a:pt x="10190" y="10765"/>
                  <a:pt x="10312" y="10793"/>
                  <a:pt x="10195" y="10939"/>
                </a:cubicBezTo>
                <a:cubicBezTo>
                  <a:pt x="10151" y="10994"/>
                  <a:pt x="9856" y="11157"/>
                  <a:pt x="9823" y="11013"/>
                </a:cubicBezTo>
                <a:cubicBezTo>
                  <a:pt x="9831" y="11005"/>
                  <a:pt x="9839" y="10996"/>
                  <a:pt x="9847" y="10988"/>
                </a:cubicBezTo>
              </a:path>
              <a:path w="2532" h="3275">
                <a:moveTo>
                  <a:pt x="9525" y="11286"/>
                </a:moveTo>
                <a:cubicBezTo>
                  <a:pt x="9404" y="11448"/>
                  <a:pt x="9297" y="11650"/>
                  <a:pt x="9203" y="11832"/>
                </a:cubicBezTo>
                <a:cubicBezTo>
                  <a:pt x="9203" y="11875"/>
                  <a:pt x="9220" y="11877"/>
                  <a:pt x="9277" y="11832"/>
                </a:cubicBezTo>
              </a:path>
              <a:path w="2532" h="3275">
                <a:moveTo>
                  <a:pt x="10964" y="11385"/>
                </a:moveTo>
                <a:cubicBezTo>
                  <a:pt x="11046" y="11385"/>
                  <a:pt x="11030" y="11352"/>
                  <a:pt x="11013" y="11286"/>
                </a:cubicBezTo>
                <a:cubicBezTo>
                  <a:pt x="10994" y="11212"/>
                  <a:pt x="11012" y="11179"/>
                  <a:pt x="10964" y="11187"/>
                </a:cubicBezTo>
                <a:cubicBezTo>
                  <a:pt x="10885" y="11212"/>
                  <a:pt x="10558" y="11421"/>
                  <a:pt x="10740" y="11559"/>
                </a:cubicBezTo>
                <a:cubicBezTo>
                  <a:pt x="10869" y="11657"/>
                  <a:pt x="10977" y="11408"/>
                  <a:pt x="11013" y="11336"/>
                </a:cubicBezTo>
                <a:cubicBezTo>
                  <a:pt x="11013" y="11506"/>
                  <a:pt x="10992" y="11665"/>
                  <a:pt x="10964" y="11832"/>
                </a:cubicBezTo>
              </a:path>
              <a:path w="2532" h="3275">
                <a:moveTo>
                  <a:pt x="9128" y="12129"/>
                </a:moveTo>
                <a:cubicBezTo>
                  <a:pt x="9335" y="12099"/>
                  <a:pt x="9562" y="12084"/>
                  <a:pt x="9773" y="12080"/>
                </a:cubicBezTo>
                <a:cubicBezTo>
                  <a:pt x="10261" y="12070"/>
                  <a:pt x="10749" y="12055"/>
                  <a:pt x="11237" y="12055"/>
                </a:cubicBezTo>
                <a:cubicBezTo>
                  <a:pt x="11245" y="12055"/>
                  <a:pt x="11253" y="12055"/>
                  <a:pt x="11261" y="12055"/>
                </a:cubicBezTo>
              </a:path>
              <a:path w="2532" h="3275">
                <a:moveTo>
                  <a:pt x="11063" y="12303"/>
                </a:moveTo>
                <a:cubicBezTo>
                  <a:pt x="11028" y="12443"/>
                  <a:pt x="10961" y="12601"/>
                  <a:pt x="10964" y="12750"/>
                </a:cubicBezTo>
                <a:cubicBezTo>
                  <a:pt x="10984" y="12851"/>
                  <a:pt x="10970" y="12882"/>
                  <a:pt x="11038" y="12898"/>
                </a:cubicBezTo>
                <a:cubicBezTo>
                  <a:pt x="11223" y="12864"/>
                  <a:pt x="11285" y="12799"/>
                  <a:pt x="11361" y="12626"/>
                </a:cubicBezTo>
                <a:cubicBezTo>
                  <a:pt x="11226" y="12608"/>
                  <a:pt x="11214" y="12745"/>
                  <a:pt x="11187" y="12874"/>
                </a:cubicBezTo>
                <a:cubicBezTo>
                  <a:pt x="11187" y="12882"/>
                  <a:pt x="11187" y="12890"/>
                  <a:pt x="11187" y="12898"/>
                </a:cubicBezTo>
              </a:path>
              <a:path w="2532" h="3275">
                <a:moveTo>
                  <a:pt x="9996" y="9971"/>
                </a:moveTo>
                <a:cubicBezTo>
                  <a:pt x="10018" y="9943"/>
                  <a:pt x="10179" y="9755"/>
                  <a:pt x="10195" y="9823"/>
                </a:cubicBezTo>
                <a:cubicBezTo>
                  <a:pt x="10195" y="9919"/>
                  <a:pt x="10197" y="9949"/>
                  <a:pt x="10145" y="9996"/>
                </a:cubicBezTo>
                <a:cubicBezTo>
                  <a:pt x="10145" y="10004"/>
                  <a:pt x="10145" y="10013"/>
                  <a:pt x="10145" y="10021"/>
                </a:cubicBezTo>
                <a:cubicBezTo>
                  <a:pt x="10196" y="9983"/>
                  <a:pt x="10268" y="9968"/>
                  <a:pt x="10244" y="10096"/>
                </a:cubicBezTo>
                <a:cubicBezTo>
                  <a:pt x="10217" y="10239"/>
                  <a:pt x="10111" y="10294"/>
                  <a:pt x="9996" y="10244"/>
                </a:cubicBezTo>
              </a:path>
              <a:path w="2532" h="3275">
                <a:moveTo>
                  <a:pt x="10368" y="12427"/>
                </a:moveTo>
                <a:cubicBezTo>
                  <a:pt x="10301" y="12471"/>
                  <a:pt x="10198" y="12720"/>
                  <a:pt x="10195" y="12874"/>
                </a:cubicBezTo>
                <a:cubicBezTo>
                  <a:pt x="10203" y="12907"/>
                  <a:pt x="10212" y="12940"/>
                  <a:pt x="10220" y="12973"/>
                </a:cubicBezTo>
                <a:cubicBezTo>
                  <a:pt x="10432" y="12914"/>
                  <a:pt x="10500" y="12750"/>
                  <a:pt x="10468" y="12526"/>
                </a:cubicBezTo>
                <a:cubicBezTo>
                  <a:pt x="10457" y="12450"/>
                  <a:pt x="10403" y="12429"/>
                  <a:pt x="10368" y="12378"/>
                </a:cubicBezTo>
              </a:path>
              <a:path w="2532" h="3275">
                <a:moveTo>
                  <a:pt x="9252" y="9947"/>
                </a:moveTo>
                <a:cubicBezTo>
                  <a:pt x="9269" y="9921"/>
                  <a:pt x="9424" y="9704"/>
                  <a:pt x="9451" y="9798"/>
                </a:cubicBezTo>
                <a:cubicBezTo>
                  <a:pt x="9451" y="9898"/>
                  <a:pt x="9451" y="9932"/>
                  <a:pt x="9426" y="9996"/>
                </a:cubicBezTo>
                <a:cubicBezTo>
                  <a:pt x="9426" y="10070"/>
                  <a:pt x="9402" y="9907"/>
                  <a:pt x="9475" y="9971"/>
                </a:cubicBezTo>
                <a:cubicBezTo>
                  <a:pt x="9571" y="10056"/>
                  <a:pt x="9527" y="10266"/>
                  <a:pt x="9376" y="10244"/>
                </a:cubicBezTo>
                <a:cubicBezTo>
                  <a:pt x="9351" y="10228"/>
                  <a:pt x="9327" y="10211"/>
                  <a:pt x="9302" y="10195"/>
                </a:cubicBezTo>
              </a:path>
              <a:path w="2532" h="3275">
                <a:moveTo>
                  <a:pt x="8830" y="12452"/>
                </a:moveTo>
                <a:cubicBezTo>
                  <a:pt x="8861" y="12483"/>
                  <a:pt x="8855" y="12538"/>
                  <a:pt x="8855" y="12601"/>
                </a:cubicBezTo>
                <a:cubicBezTo>
                  <a:pt x="8855" y="12567"/>
                  <a:pt x="8842" y="12521"/>
                  <a:pt x="8880" y="12502"/>
                </a:cubicBezTo>
                <a:cubicBezTo>
                  <a:pt x="8928" y="12479"/>
                  <a:pt x="9070" y="12487"/>
                  <a:pt x="9128" y="12477"/>
                </a:cubicBezTo>
                <a:cubicBezTo>
                  <a:pt x="9153" y="12477"/>
                  <a:pt x="9161" y="12477"/>
                  <a:pt x="9178" y="12477"/>
                </a:cubicBezTo>
                <a:cubicBezTo>
                  <a:pt x="9158" y="12665"/>
                  <a:pt x="9093" y="12836"/>
                  <a:pt x="9054" y="13022"/>
                </a:cubicBezTo>
                <a:cubicBezTo>
                  <a:pt x="9054" y="13030"/>
                  <a:pt x="9054" y="13039"/>
                  <a:pt x="9054" y="13047"/>
                </a:cubicBezTo>
              </a:path>
              <a:path w="2532" h="3275">
                <a:moveTo>
                  <a:pt x="9699" y="12353"/>
                </a:moveTo>
                <a:cubicBezTo>
                  <a:pt x="9675" y="12358"/>
                  <a:pt x="9480" y="12396"/>
                  <a:pt x="9475" y="12402"/>
                </a:cubicBezTo>
                <a:cubicBezTo>
                  <a:pt x="9432" y="12462"/>
                  <a:pt x="9423" y="12579"/>
                  <a:pt x="9401" y="12650"/>
                </a:cubicBezTo>
                <a:cubicBezTo>
                  <a:pt x="9486" y="12650"/>
                  <a:pt x="9570" y="12637"/>
                  <a:pt x="9649" y="12675"/>
                </a:cubicBezTo>
                <a:cubicBezTo>
                  <a:pt x="9751" y="12723"/>
                  <a:pt x="9689" y="12877"/>
                  <a:pt x="9624" y="12923"/>
                </a:cubicBezTo>
                <a:cubicBezTo>
                  <a:pt x="9543" y="12980"/>
                  <a:pt x="9489" y="12973"/>
                  <a:pt x="9401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1000" y="2259000"/>
            <a:ext cx="1347840" cy="187200"/>
          </a:xfrm>
          <a:custGeom>
            <a:avLst/>
            <a:gdLst/>
            <a:ahLst/>
            <a:rect l="l" t="t" r="r" b="b"/>
            <a:pathLst>
              <a:path w="3746" h="521">
                <a:moveTo>
                  <a:pt x="3497" y="6747"/>
                </a:moveTo>
                <a:cubicBezTo>
                  <a:pt x="3475" y="6769"/>
                  <a:pt x="3467" y="6774"/>
                  <a:pt x="3473" y="6796"/>
                </a:cubicBezTo>
              </a:path>
              <a:path w="3746" h="521">
                <a:moveTo>
                  <a:pt x="7218" y="6276"/>
                </a:moveTo>
                <a:cubicBezTo>
                  <a:pt x="7218" y="6344"/>
                  <a:pt x="7221" y="6363"/>
                  <a:pt x="7193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33640" y="2251080"/>
            <a:ext cx="911160" cy="249120"/>
          </a:xfrm>
          <a:custGeom>
            <a:avLst/>
            <a:gdLst/>
            <a:ahLst/>
            <a:rect l="l" t="t" r="r" b="b"/>
            <a:pathLst>
              <a:path w="2531" h="695">
                <a:moveTo>
                  <a:pt x="3398" y="6325"/>
                </a:moveTo>
                <a:cubicBezTo>
                  <a:pt x="3398" y="6230"/>
                  <a:pt x="3358" y="6459"/>
                  <a:pt x="3324" y="6548"/>
                </a:cubicBezTo>
                <a:cubicBezTo>
                  <a:pt x="3275" y="6678"/>
                  <a:pt x="3178" y="6811"/>
                  <a:pt x="3150" y="6945"/>
                </a:cubicBezTo>
              </a:path>
              <a:path w="2531" h="695">
                <a:moveTo>
                  <a:pt x="4018" y="6350"/>
                </a:moveTo>
                <a:cubicBezTo>
                  <a:pt x="4018" y="6325"/>
                  <a:pt x="4018" y="6317"/>
                  <a:pt x="4018" y="6300"/>
                </a:cubicBezTo>
                <a:cubicBezTo>
                  <a:pt x="3953" y="6463"/>
                  <a:pt x="3854" y="6629"/>
                  <a:pt x="3746" y="6772"/>
                </a:cubicBezTo>
                <a:cubicBezTo>
                  <a:pt x="3724" y="6794"/>
                  <a:pt x="3715" y="6805"/>
                  <a:pt x="3721" y="6772"/>
                </a:cubicBezTo>
              </a:path>
              <a:path w="2531" h="695">
                <a:moveTo>
                  <a:pt x="4316" y="6375"/>
                </a:moveTo>
                <a:cubicBezTo>
                  <a:pt x="4316" y="6329"/>
                  <a:pt x="4323" y="6304"/>
                  <a:pt x="4366" y="6276"/>
                </a:cubicBezTo>
                <a:cubicBezTo>
                  <a:pt x="4382" y="6268"/>
                  <a:pt x="4399" y="6259"/>
                  <a:pt x="4415" y="6251"/>
                </a:cubicBezTo>
                <a:cubicBezTo>
                  <a:pt x="4432" y="6453"/>
                  <a:pt x="4435" y="6591"/>
                  <a:pt x="4242" y="6722"/>
                </a:cubicBezTo>
                <a:cubicBezTo>
                  <a:pt x="4141" y="6790"/>
                  <a:pt x="4019" y="6821"/>
                  <a:pt x="3919" y="6796"/>
                </a:cubicBezTo>
                <a:cubicBezTo>
                  <a:pt x="3972" y="6670"/>
                  <a:pt x="4037" y="6582"/>
                  <a:pt x="4192" y="6672"/>
                </a:cubicBezTo>
                <a:cubicBezTo>
                  <a:pt x="4277" y="6722"/>
                  <a:pt x="4288" y="6812"/>
                  <a:pt x="4316" y="6896"/>
                </a:cubicBezTo>
              </a:path>
              <a:path w="2531" h="695">
                <a:moveTo>
                  <a:pt x="4837" y="6499"/>
                </a:moveTo>
                <a:cubicBezTo>
                  <a:pt x="4855" y="6588"/>
                  <a:pt x="4921" y="6662"/>
                  <a:pt x="4936" y="6747"/>
                </a:cubicBezTo>
                <a:cubicBezTo>
                  <a:pt x="4936" y="6755"/>
                  <a:pt x="4936" y="6764"/>
                  <a:pt x="4936" y="6772"/>
                </a:cubicBezTo>
              </a:path>
              <a:path w="2531" h="695">
                <a:moveTo>
                  <a:pt x="5060" y="6449"/>
                </a:moveTo>
                <a:cubicBezTo>
                  <a:pt x="4976" y="6572"/>
                  <a:pt x="4889" y="6688"/>
                  <a:pt x="4787" y="6796"/>
                </a:cubicBezTo>
                <a:cubicBezTo>
                  <a:pt x="4779" y="6804"/>
                  <a:pt x="4770" y="6813"/>
                  <a:pt x="4762" y="6821"/>
                </a:cubicBezTo>
              </a:path>
              <a:path w="2531" h="695">
                <a:moveTo>
                  <a:pt x="5556" y="6325"/>
                </a:moveTo>
                <a:cubicBezTo>
                  <a:pt x="5539" y="6273"/>
                  <a:pt x="5485" y="6374"/>
                  <a:pt x="5457" y="6424"/>
                </a:cubicBezTo>
                <a:cubicBezTo>
                  <a:pt x="5412" y="6504"/>
                  <a:pt x="5373" y="6610"/>
                  <a:pt x="5333" y="6697"/>
                </a:cubicBezTo>
                <a:cubicBezTo>
                  <a:pt x="5312" y="6744"/>
                  <a:pt x="5258" y="6787"/>
                  <a:pt x="5283" y="6846"/>
                </a:cubicBezTo>
                <a:cubicBezTo>
                  <a:pt x="5313" y="6917"/>
                  <a:pt x="5398" y="6896"/>
                  <a:pt x="5457" y="6896"/>
                </a:cubicBezTo>
                <a:cubicBezTo>
                  <a:pt x="5543" y="6896"/>
                  <a:pt x="5573" y="6854"/>
                  <a:pt x="5631" y="6796"/>
                </a:cubicBezTo>
                <a:cubicBezTo>
                  <a:pt x="5675" y="6752"/>
                  <a:pt x="5697" y="6719"/>
                  <a:pt x="5655" y="6672"/>
                </a:cubicBezTo>
                <a:cubicBezTo>
                  <a:pt x="5631" y="6645"/>
                  <a:pt x="5610" y="6645"/>
                  <a:pt x="5581" y="6623"/>
                </a:cubicBezTo>
                <a:cubicBezTo>
                  <a:pt x="5487" y="6693"/>
                  <a:pt x="5465" y="6751"/>
                  <a:pt x="5457" y="6871"/>
                </a:cubicBezTo>
                <a:cubicBezTo>
                  <a:pt x="5457" y="6879"/>
                  <a:pt x="5457" y="6888"/>
                  <a:pt x="5457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73200" y="2044800"/>
            <a:ext cx="500040" cy="32220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7094" y="5730"/>
                </a:moveTo>
                <a:cubicBezTo>
                  <a:pt x="7094" y="5693"/>
                  <a:pt x="6974" y="6188"/>
                  <a:pt x="6970" y="6201"/>
                </a:cubicBezTo>
                <a:cubicBezTo>
                  <a:pt x="6939" y="6311"/>
                  <a:pt x="6901" y="6419"/>
                  <a:pt x="6871" y="6524"/>
                </a:cubicBezTo>
              </a:path>
              <a:path w="1390" h="894">
                <a:moveTo>
                  <a:pt x="7764" y="5829"/>
                </a:moveTo>
                <a:cubicBezTo>
                  <a:pt x="7764" y="5782"/>
                  <a:pt x="7596" y="6229"/>
                  <a:pt x="7565" y="6300"/>
                </a:cubicBezTo>
                <a:cubicBezTo>
                  <a:pt x="7528" y="6394"/>
                  <a:pt x="7535" y="6412"/>
                  <a:pt x="7491" y="6449"/>
                </a:cubicBezTo>
              </a:path>
              <a:path w="1390" h="894">
                <a:moveTo>
                  <a:pt x="8111" y="5730"/>
                </a:moveTo>
                <a:cubicBezTo>
                  <a:pt x="8062" y="5779"/>
                  <a:pt x="8045" y="5796"/>
                  <a:pt x="8012" y="5829"/>
                </a:cubicBezTo>
                <a:cubicBezTo>
                  <a:pt x="8107" y="5805"/>
                  <a:pt x="8129" y="5762"/>
                  <a:pt x="8210" y="5680"/>
                </a:cubicBezTo>
                <a:cubicBezTo>
                  <a:pt x="8297" y="5868"/>
                  <a:pt x="8255" y="6099"/>
                  <a:pt x="8111" y="6276"/>
                </a:cubicBezTo>
                <a:cubicBezTo>
                  <a:pt x="8065" y="6332"/>
                  <a:pt x="7876" y="6490"/>
                  <a:pt x="7813" y="6400"/>
                </a:cubicBezTo>
                <a:cubicBezTo>
                  <a:pt x="7859" y="6281"/>
                  <a:pt x="7925" y="6203"/>
                  <a:pt x="8037" y="6350"/>
                </a:cubicBezTo>
                <a:cubicBezTo>
                  <a:pt x="8087" y="6416"/>
                  <a:pt x="8100" y="6495"/>
                  <a:pt x="8111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05640" y="1535040"/>
            <a:ext cx="1482480" cy="1322640"/>
          </a:xfrm>
          <a:custGeom>
            <a:avLst/>
            <a:gdLst/>
            <a:ahLst/>
            <a:rect l="l" t="t" r="r" b="b"/>
            <a:pathLst>
              <a:path w="4119" h="3673">
                <a:moveTo>
                  <a:pt x="16966" y="5035"/>
                </a:moveTo>
                <a:cubicBezTo>
                  <a:pt x="17038" y="5015"/>
                  <a:pt x="17115" y="4984"/>
                  <a:pt x="17190" y="4961"/>
                </a:cubicBezTo>
                <a:cubicBezTo>
                  <a:pt x="17248" y="5101"/>
                  <a:pt x="17171" y="5145"/>
                  <a:pt x="17066" y="5234"/>
                </a:cubicBezTo>
                <a:cubicBezTo>
                  <a:pt x="17026" y="5294"/>
                  <a:pt x="17100" y="5204"/>
                  <a:pt x="17165" y="5259"/>
                </a:cubicBezTo>
                <a:cubicBezTo>
                  <a:pt x="17352" y="5418"/>
                  <a:pt x="17036" y="5634"/>
                  <a:pt x="16892" y="5655"/>
                </a:cubicBezTo>
                <a:cubicBezTo>
                  <a:pt x="16801" y="5637"/>
                  <a:pt x="16760" y="5663"/>
                  <a:pt x="16768" y="5606"/>
                </a:cubicBezTo>
              </a:path>
              <a:path w="4119" h="3673">
                <a:moveTo>
                  <a:pt x="18033" y="4936"/>
                </a:moveTo>
                <a:cubicBezTo>
                  <a:pt x="18101" y="4833"/>
                  <a:pt x="18138" y="4849"/>
                  <a:pt x="18256" y="4812"/>
                </a:cubicBezTo>
                <a:cubicBezTo>
                  <a:pt x="18403" y="5022"/>
                  <a:pt x="18304" y="5263"/>
                  <a:pt x="18083" y="5432"/>
                </a:cubicBezTo>
                <a:cubicBezTo>
                  <a:pt x="17948" y="5535"/>
                  <a:pt x="17880" y="5538"/>
                  <a:pt x="17835" y="5432"/>
                </a:cubicBezTo>
                <a:cubicBezTo>
                  <a:pt x="17963" y="5303"/>
                  <a:pt x="18096" y="5206"/>
                  <a:pt x="18256" y="5383"/>
                </a:cubicBezTo>
                <a:cubicBezTo>
                  <a:pt x="18301" y="5433"/>
                  <a:pt x="18331" y="5636"/>
                  <a:pt x="18331" y="5606"/>
                </a:cubicBezTo>
              </a:path>
              <a:path w="4119" h="3673">
                <a:moveTo>
                  <a:pt x="18008" y="5779"/>
                </a:moveTo>
                <a:cubicBezTo>
                  <a:pt x="17942" y="5863"/>
                  <a:pt x="17851" y="6123"/>
                  <a:pt x="17810" y="6251"/>
                </a:cubicBezTo>
                <a:cubicBezTo>
                  <a:pt x="17788" y="6359"/>
                  <a:pt x="17775" y="6385"/>
                  <a:pt x="17810" y="6449"/>
                </a:cubicBezTo>
                <a:cubicBezTo>
                  <a:pt x="17989" y="6509"/>
                  <a:pt x="18108" y="6522"/>
                  <a:pt x="18256" y="6375"/>
                </a:cubicBezTo>
                <a:cubicBezTo>
                  <a:pt x="18363" y="6269"/>
                  <a:pt x="18375" y="6220"/>
                  <a:pt x="18281" y="6127"/>
                </a:cubicBezTo>
                <a:cubicBezTo>
                  <a:pt x="18119" y="6167"/>
                  <a:pt x="18067" y="6286"/>
                  <a:pt x="18008" y="6449"/>
                </a:cubicBezTo>
                <a:cubicBezTo>
                  <a:pt x="18008" y="6457"/>
                  <a:pt x="18008" y="6466"/>
                  <a:pt x="18008" y="6474"/>
                </a:cubicBezTo>
              </a:path>
              <a:path w="4119" h="3673">
                <a:moveTo>
                  <a:pt x="16396" y="6672"/>
                </a:moveTo>
                <a:cubicBezTo>
                  <a:pt x="16619" y="6672"/>
                  <a:pt x="16844" y="6661"/>
                  <a:pt x="17066" y="6648"/>
                </a:cubicBezTo>
                <a:cubicBezTo>
                  <a:pt x="17587" y="6618"/>
                  <a:pt x="18108" y="6563"/>
                  <a:pt x="18628" y="6524"/>
                </a:cubicBezTo>
                <a:cubicBezTo>
                  <a:pt x="18668" y="6521"/>
                  <a:pt x="18711" y="6524"/>
                  <a:pt x="18752" y="6524"/>
                </a:cubicBezTo>
              </a:path>
              <a:path w="4119" h="3673">
                <a:moveTo>
                  <a:pt x="16470" y="6102"/>
                </a:moveTo>
                <a:cubicBezTo>
                  <a:pt x="16470" y="6029"/>
                  <a:pt x="16510" y="6187"/>
                  <a:pt x="16545" y="6251"/>
                </a:cubicBezTo>
                <a:cubicBezTo>
                  <a:pt x="16584" y="6310"/>
                  <a:pt x="16588" y="6322"/>
                  <a:pt x="16619" y="6350"/>
                </a:cubicBezTo>
              </a:path>
              <a:path w="4119" h="3673">
                <a:moveTo>
                  <a:pt x="16619" y="6028"/>
                </a:moveTo>
                <a:cubicBezTo>
                  <a:pt x="16540" y="6171"/>
                  <a:pt x="16450" y="6306"/>
                  <a:pt x="16371" y="6449"/>
                </a:cubicBezTo>
              </a:path>
              <a:path w="4119" h="3673">
                <a:moveTo>
                  <a:pt x="18008" y="6921"/>
                </a:moveTo>
                <a:cubicBezTo>
                  <a:pt x="18027" y="6863"/>
                  <a:pt x="18211" y="6821"/>
                  <a:pt x="18281" y="6821"/>
                </a:cubicBezTo>
                <a:cubicBezTo>
                  <a:pt x="18298" y="6829"/>
                  <a:pt x="18314" y="6838"/>
                  <a:pt x="18331" y="6846"/>
                </a:cubicBezTo>
                <a:cubicBezTo>
                  <a:pt x="18262" y="7007"/>
                  <a:pt x="18189" y="7061"/>
                  <a:pt x="18058" y="7169"/>
                </a:cubicBezTo>
                <a:cubicBezTo>
                  <a:pt x="18166" y="7169"/>
                  <a:pt x="18272" y="7149"/>
                  <a:pt x="18380" y="7144"/>
                </a:cubicBezTo>
                <a:cubicBezTo>
                  <a:pt x="18388" y="7144"/>
                  <a:pt x="18397" y="7144"/>
                  <a:pt x="18405" y="7144"/>
                </a:cubicBezTo>
              </a:path>
              <a:path w="4119" h="3673">
                <a:moveTo>
                  <a:pt x="16867" y="4266"/>
                </a:moveTo>
                <a:cubicBezTo>
                  <a:pt x="16867" y="4374"/>
                  <a:pt x="16867" y="4481"/>
                  <a:pt x="16867" y="4589"/>
                </a:cubicBezTo>
              </a:path>
              <a:path w="4119" h="3673">
                <a:moveTo>
                  <a:pt x="16694" y="6821"/>
                </a:moveTo>
                <a:cubicBezTo>
                  <a:pt x="16624" y="6774"/>
                  <a:pt x="16669" y="7110"/>
                  <a:pt x="16669" y="7144"/>
                </a:cubicBezTo>
                <a:cubicBezTo>
                  <a:pt x="16669" y="7257"/>
                  <a:pt x="16654" y="7356"/>
                  <a:pt x="16644" y="7466"/>
                </a:cubicBezTo>
              </a:path>
              <a:path w="4119" h="3673">
                <a:moveTo>
                  <a:pt x="17388" y="7020"/>
                </a:moveTo>
                <a:cubicBezTo>
                  <a:pt x="17388" y="6957"/>
                  <a:pt x="17363" y="6891"/>
                  <a:pt x="17314" y="6846"/>
                </a:cubicBezTo>
                <a:cubicBezTo>
                  <a:pt x="17279" y="6846"/>
                  <a:pt x="17261" y="6841"/>
                  <a:pt x="17239" y="6821"/>
                </a:cubicBezTo>
                <a:cubicBezTo>
                  <a:pt x="17126" y="6868"/>
                  <a:pt x="16986" y="7008"/>
                  <a:pt x="17066" y="7169"/>
                </a:cubicBezTo>
                <a:cubicBezTo>
                  <a:pt x="17082" y="7177"/>
                  <a:pt x="17099" y="7185"/>
                  <a:pt x="17115" y="7193"/>
                </a:cubicBezTo>
                <a:cubicBezTo>
                  <a:pt x="17232" y="7166"/>
                  <a:pt x="17321" y="7140"/>
                  <a:pt x="17338" y="6995"/>
                </a:cubicBezTo>
                <a:cubicBezTo>
                  <a:pt x="17338" y="6978"/>
                  <a:pt x="17338" y="6962"/>
                  <a:pt x="17338" y="6945"/>
                </a:cubicBezTo>
                <a:cubicBezTo>
                  <a:pt x="17317" y="7035"/>
                  <a:pt x="17302" y="7140"/>
                  <a:pt x="17314" y="7243"/>
                </a:cubicBezTo>
                <a:cubicBezTo>
                  <a:pt x="17322" y="7310"/>
                  <a:pt x="17338" y="7334"/>
                  <a:pt x="17338" y="7392"/>
                </a:cubicBezTo>
              </a:path>
              <a:path w="4119" h="3673">
                <a:moveTo>
                  <a:pt x="19621" y="4787"/>
                </a:moveTo>
                <a:cubicBezTo>
                  <a:pt x="19621" y="4873"/>
                  <a:pt x="19637" y="4951"/>
                  <a:pt x="19645" y="5035"/>
                </a:cubicBezTo>
              </a:path>
              <a:path w="4119" h="3673">
                <a:moveTo>
                  <a:pt x="19670" y="5308"/>
                </a:moveTo>
                <a:cubicBezTo>
                  <a:pt x="19633" y="5354"/>
                  <a:pt x="19608" y="5399"/>
                  <a:pt x="19596" y="5457"/>
                </a:cubicBezTo>
                <a:cubicBezTo>
                  <a:pt x="19711" y="5446"/>
                  <a:pt x="19719" y="5436"/>
                  <a:pt x="19769" y="5333"/>
                </a:cubicBezTo>
                <a:cubicBezTo>
                  <a:pt x="19720" y="5308"/>
                  <a:pt x="19703" y="5299"/>
                  <a:pt x="19670" y="5283"/>
                </a:cubicBezTo>
              </a:path>
              <a:path w="4119" h="3673">
                <a:moveTo>
                  <a:pt x="19447" y="5705"/>
                </a:moveTo>
                <a:cubicBezTo>
                  <a:pt x="19585" y="5665"/>
                  <a:pt x="19729" y="5603"/>
                  <a:pt x="19869" y="5556"/>
                </a:cubicBezTo>
                <a:cubicBezTo>
                  <a:pt x="19926" y="5537"/>
                  <a:pt x="19933" y="5528"/>
                  <a:pt x="19968" y="5531"/>
                </a:cubicBezTo>
              </a:path>
              <a:path w="4119" h="3673">
                <a:moveTo>
                  <a:pt x="19224" y="5507"/>
                </a:moveTo>
                <a:cubicBezTo>
                  <a:pt x="19308" y="5486"/>
                  <a:pt x="19396" y="5451"/>
                  <a:pt x="19472" y="5432"/>
                </a:cubicBezTo>
              </a:path>
              <a:path w="4119" h="3673">
                <a:moveTo>
                  <a:pt x="19819" y="5804"/>
                </a:moveTo>
                <a:cubicBezTo>
                  <a:pt x="19834" y="5892"/>
                  <a:pt x="19881" y="5965"/>
                  <a:pt x="19893" y="6052"/>
                </a:cubicBezTo>
                <a:cubicBezTo>
                  <a:pt x="19893" y="6060"/>
                  <a:pt x="19893" y="6069"/>
                  <a:pt x="19893" y="6077"/>
                </a:cubicBezTo>
              </a:path>
              <a:path w="4119" h="3673">
                <a:moveTo>
                  <a:pt x="17686" y="7243"/>
                </a:moveTo>
                <a:cubicBezTo>
                  <a:pt x="17735" y="7243"/>
                  <a:pt x="17654" y="7254"/>
                  <a:pt x="17636" y="7293"/>
                </a:cubicBezTo>
                <a:cubicBezTo>
                  <a:pt x="17607" y="7356"/>
                  <a:pt x="17674" y="7347"/>
                  <a:pt x="17686" y="7293"/>
                </a:cubicBezTo>
                <a:cubicBezTo>
                  <a:pt x="17686" y="7268"/>
                  <a:pt x="17686" y="7260"/>
                  <a:pt x="17686" y="7293"/>
                </a:cubicBezTo>
                <a:cubicBezTo>
                  <a:pt x="17678" y="7301"/>
                  <a:pt x="17669" y="7309"/>
                  <a:pt x="17661" y="7317"/>
                </a:cubicBezTo>
                <a:cubicBezTo>
                  <a:pt x="17694" y="7328"/>
                  <a:pt x="17718" y="7274"/>
                  <a:pt x="17711" y="7268"/>
                </a:cubicBezTo>
                <a:cubicBezTo>
                  <a:pt x="17703" y="7268"/>
                  <a:pt x="17694" y="7268"/>
                  <a:pt x="17686" y="7268"/>
                </a:cubicBezTo>
              </a:path>
              <a:path w="4119" h="3673">
                <a:moveTo>
                  <a:pt x="16594" y="7739"/>
                </a:moveTo>
                <a:cubicBezTo>
                  <a:pt x="16662" y="7753"/>
                  <a:pt x="16675" y="7773"/>
                  <a:pt x="16743" y="7789"/>
                </a:cubicBezTo>
                <a:cubicBezTo>
                  <a:pt x="16968" y="7843"/>
                  <a:pt x="17208" y="7860"/>
                  <a:pt x="17438" y="7863"/>
                </a:cubicBezTo>
                <a:cubicBezTo>
                  <a:pt x="17660" y="7866"/>
                  <a:pt x="17888" y="7865"/>
                  <a:pt x="18107" y="7838"/>
                </a:cubicBezTo>
                <a:cubicBezTo>
                  <a:pt x="18248" y="7821"/>
                  <a:pt x="18447" y="7794"/>
                  <a:pt x="18579" y="7739"/>
                </a:cubicBezTo>
                <a:cubicBezTo>
                  <a:pt x="18700" y="7689"/>
                  <a:pt x="18803" y="7545"/>
                  <a:pt x="18876" y="7441"/>
                </a:cubicBezTo>
                <a:cubicBezTo>
                  <a:pt x="18926" y="7371"/>
                  <a:pt x="19003" y="7210"/>
                  <a:pt x="19000" y="7119"/>
                </a:cubicBezTo>
                <a:cubicBezTo>
                  <a:pt x="18998" y="7060"/>
                  <a:pt x="18965" y="6971"/>
                  <a:pt x="18926" y="6921"/>
                </a:cubicBezTo>
                <a:cubicBezTo>
                  <a:pt x="18881" y="6864"/>
                  <a:pt x="18793" y="6821"/>
                  <a:pt x="18728" y="6796"/>
                </a:cubicBezTo>
                <a:cubicBezTo>
                  <a:pt x="18621" y="6756"/>
                  <a:pt x="18537" y="6767"/>
                  <a:pt x="18430" y="6747"/>
                </a:cubicBezTo>
                <a:cubicBezTo>
                  <a:pt x="18329" y="6728"/>
                  <a:pt x="18261" y="6701"/>
                  <a:pt x="18157" y="6697"/>
                </a:cubicBezTo>
                <a:cubicBezTo>
                  <a:pt x="18090" y="6695"/>
                  <a:pt x="18003" y="6687"/>
                  <a:pt x="17934" y="6672"/>
                </a:cubicBezTo>
                <a:cubicBezTo>
                  <a:pt x="17788" y="6641"/>
                  <a:pt x="17637" y="6627"/>
                  <a:pt x="17487" y="6623"/>
                </a:cubicBezTo>
                <a:cubicBezTo>
                  <a:pt x="17364" y="6620"/>
                  <a:pt x="17234" y="6625"/>
                  <a:pt x="17115" y="6648"/>
                </a:cubicBezTo>
                <a:cubicBezTo>
                  <a:pt x="16999" y="6671"/>
                  <a:pt x="16888" y="6693"/>
                  <a:pt x="16768" y="6697"/>
                </a:cubicBezTo>
                <a:cubicBezTo>
                  <a:pt x="16641" y="6701"/>
                  <a:pt x="16543" y="6708"/>
                  <a:pt x="16421" y="6747"/>
                </a:cubicBezTo>
                <a:cubicBezTo>
                  <a:pt x="16306" y="6784"/>
                  <a:pt x="16224" y="6829"/>
                  <a:pt x="16123" y="6896"/>
                </a:cubicBezTo>
                <a:cubicBezTo>
                  <a:pt x="16013" y="6969"/>
                  <a:pt x="15932" y="7048"/>
                  <a:pt x="15875" y="7169"/>
                </a:cubicBezTo>
                <a:cubicBezTo>
                  <a:pt x="15828" y="7269"/>
                  <a:pt x="15832" y="7440"/>
                  <a:pt x="15875" y="7541"/>
                </a:cubicBezTo>
                <a:cubicBezTo>
                  <a:pt x="15919" y="7646"/>
                  <a:pt x="15987" y="7764"/>
                  <a:pt x="16098" y="7813"/>
                </a:cubicBezTo>
                <a:cubicBezTo>
                  <a:pt x="16198" y="7857"/>
                  <a:pt x="16317" y="7865"/>
                  <a:pt x="16421" y="7888"/>
                </a:cubicBezTo>
                <a:cubicBezTo>
                  <a:pt x="16514" y="7908"/>
                  <a:pt x="16623" y="7930"/>
                  <a:pt x="16718" y="7938"/>
                </a:cubicBezTo>
                <a:cubicBezTo>
                  <a:pt x="16768" y="7938"/>
                  <a:pt x="16785" y="7938"/>
                  <a:pt x="1681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3960" y="1990800"/>
            <a:ext cx="2700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17512" y="5531"/>
                </a:moveTo>
                <a:cubicBezTo>
                  <a:pt x="17530" y="5603"/>
                  <a:pt x="17526" y="5574"/>
                  <a:pt x="17587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46920" y="1938240"/>
            <a:ext cx="1322280" cy="2187720"/>
          </a:xfrm>
          <a:custGeom>
            <a:avLst/>
            <a:gdLst/>
            <a:ahLst/>
            <a:rect l="l" t="t" r="r" b="b"/>
            <a:pathLst>
              <a:path w="3672" h="6078">
                <a:moveTo>
                  <a:pt x="19298" y="5383"/>
                </a:moveTo>
                <a:cubicBezTo>
                  <a:pt x="19305" y="5417"/>
                  <a:pt x="19316" y="5448"/>
                  <a:pt x="19323" y="5482"/>
                </a:cubicBezTo>
              </a:path>
              <a:path w="3672" h="6078">
                <a:moveTo>
                  <a:pt x="19943" y="10616"/>
                </a:moveTo>
                <a:cubicBezTo>
                  <a:pt x="19968" y="10616"/>
                  <a:pt x="19976" y="10616"/>
                  <a:pt x="19968" y="10641"/>
                </a:cubicBezTo>
              </a:path>
              <a:path w="3672" h="6078">
                <a:moveTo>
                  <a:pt x="22448" y="9947"/>
                </a:moveTo>
                <a:cubicBezTo>
                  <a:pt x="22496" y="9892"/>
                  <a:pt x="22518" y="9870"/>
                  <a:pt x="22597" y="9847"/>
                </a:cubicBezTo>
                <a:cubicBezTo>
                  <a:pt x="22585" y="10077"/>
                  <a:pt x="22553" y="10175"/>
                  <a:pt x="22399" y="10344"/>
                </a:cubicBezTo>
                <a:cubicBezTo>
                  <a:pt x="22376" y="10366"/>
                  <a:pt x="22371" y="10374"/>
                  <a:pt x="22349" y="10368"/>
                </a:cubicBezTo>
                <a:cubicBezTo>
                  <a:pt x="22360" y="10269"/>
                  <a:pt x="22364" y="10217"/>
                  <a:pt x="22473" y="10195"/>
                </a:cubicBezTo>
                <a:cubicBezTo>
                  <a:pt x="22543" y="10181"/>
                  <a:pt x="22583" y="10256"/>
                  <a:pt x="22647" y="10244"/>
                </a:cubicBezTo>
                <a:cubicBezTo>
                  <a:pt x="22672" y="10236"/>
                  <a:pt x="22696" y="10228"/>
                  <a:pt x="22721" y="10220"/>
                </a:cubicBezTo>
              </a:path>
              <a:path w="3672" h="6078">
                <a:moveTo>
                  <a:pt x="22647" y="10492"/>
                </a:moveTo>
                <a:cubicBezTo>
                  <a:pt x="22647" y="10593"/>
                  <a:pt x="22666" y="10689"/>
                  <a:pt x="22671" y="10790"/>
                </a:cubicBezTo>
                <a:cubicBezTo>
                  <a:pt x="22671" y="10798"/>
                  <a:pt x="22671" y="10807"/>
                  <a:pt x="22671" y="10815"/>
                </a:cubicBezTo>
              </a:path>
              <a:path w="3672" h="6078">
                <a:moveTo>
                  <a:pt x="22299" y="11063"/>
                </a:moveTo>
                <a:cubicBezTo>
                  <a:pt x="22501" y="10932"/>
                  <a:pt x="22719" y="10828"/>
                  <a:pt x="22944" y="10740"/>
                </a:cubicBezTo>
                <a:cubicBezTo>
                  <a:pt x="22952" y="10740"/>
                  <a:pt x="22961" y="10740"/>
                  <a:pt x="22969" y="10740"/>
                </a:cubicBezTo>
              </a:path>
              <a:path w="3672" h="6078">
                <a:moveTo>
                  <a:pt x="22671" y="11063"/>
                </a:moveTo>
                <a:cubicBezTo>
                  <a:pt x="22719" y="11055"/>
                  <a:pt x="22850" y="10984"/>
                  <a:pt x="22895" y="11013"/>
                </a:cubicBezTo>
                <a:cubicBezTo>
                  <a:pt x="22977" y="11066"/>
                  <a:pt x="22870" y="11190"/>
                  <a:pt x="22845" y="11237"/>
                </a:cubicBezTo>
                <a:cubicBezTo>
                  <a:pt x="22829" y="11245"/>
                  <a:pt x="22812" y="11253"/>
                  <a:pt x="22796" y="11261"/>
                </a:cubicBezTo>
                <a:cubicBezTo>
                  <a:pt x="22876" y="11208"/>
                  <a:pt x="22951" y="11173"/>
                  <a:pt x="22969" y="11311"/>
                </a:cubicBezTo>
                <a:cubicBezTo>
                  <a:pt x="22985" y="11431"/>
                  <a:pt x="22956" y="11417"/>
                  <a:pt x="22870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8160" y="5295960"/>
            <a:ext cx="1384560" cy="660240"/>
          </a:xfrm>
          <a:custGeom>
            <a:avLst/>
            <a:gdLst/>
            <a:ahLst/>
            <a:rect l="l" t="t" r="r" b="b"/>
            <a:pathLst>
              <a:path w="3846" h="1837">
                <a:moveTo>
                  <a:pt x="18852" y="15503"/>
                </a:moveTo>
                <a:cubicBezTo>
                  <a:pt x="18852" y="15433"/>
                  <a:pt x="18803" y="15352"/>
                  <a:pt x="18752" y="15304"/>
                </a:cubicBezTo>
                <a:cubicBezTo>
                  <a:pt x="18722" y="15276"/>
                  <a:pt x="18665" y="15262"/>
                  <a:pt x="18628" y="15255"/>
                </a:cubicBezTo>
                <a:cubicBezTo>
                  <a:pt x="18523" y="15399"/>
                  <a:pt x="18523" y="15479"/>
                  <a:pt x="18554" y="15652"/>
                </a:cubicBezTo>
                <a:cubicBezTo>
                  <a:pt x="18661" y="15643"/>
                  <a:pt x="18784" y="15626"/>
                  <a:pt x="18827" y="15503"/>
                </a:cubicBezTo>
                <a:cubicBezTo>
                  <a:pt x="18827" y="15437"/>
                  <a:pt x="18827" y="15420"/>
                  <a:pt x="18827" y="15379"/>
                </a:cubicBezTo>
                <a:cubicBezTo>
                  <a:pt x="18827" y="15571"/>
                  <a:pt x="18847" y="15758"/>
                  <a:pt x="18852" y="15949"/>
                </a:cubicBezTo>
                <a:cubicBezTo>
                  <a:pt x="18852" y="16007"/>
                  <a:pt x="18852" y="16016"/>
                  <a:pt x="18852" y="16049"/>
                </a:cubicBezTo>
              </a:path>
              <a:path w="3846" h="1837">
                <a:moveTo>
                  <a:pt x="19893" y="15875"/>
                </a:moveTo>
                <a:cubicBezTo>
                  <a:pt x="19893" y="15764"/>
                  <a:pt x="19873" y="15814"/>
                  <a:pt x="19869" y="15900"/>
                </a:cubicBezTo>
                <a:cubicBezTo>
                  <a:pt x="19863" y="16016"/>
                  <a:pt x="19929" y="15910"/>
                  <a:pt x="19943" y="15875"/>
                </a:cubicBezTo>
                <a:cubicBezTo>
                  <a:pt x="19951" y="15858"/>
                  <a:pt x="19960" y="15842"/>
                  <a:pt x="19968" y="15825"/>
                </a:cubicBezTo>
                <a:cubicBezTo>
                  <a:pt x="19885" y="15825"/>
                  <a:pt x="19844" y="15884"/>
                  <a:pt x="19844" y="15974"/>
                </a:cubicBezTo>
                <a:cubicBezTo>
                  <a:pt x="19844" y="16060"/>
                  <a:pt x="19945" y="15912"/>
                  <a:pt x="19943" y="15875"/>
                </a:cubicBezTo>
                <a:cubicBezTo>
                  <a:pt x="19935" y="15867"/>
                  <a:pt x="19926" y="15858"/>
                  <a:pt x="19918" y="15850"/>
                </a:cubicBezTo>
                <a:cubicBezTo>
                  <a:pt x="19894" y="15880"/>
                  <a:pt x="19788" y="15999"/>
                  <a:pt x="19893" y="15999"/>
                </a:cubicBezTo>
                <a:cubicBezTo>
                  <a:pt x="19943" y="15974"/>
                  <a:pt x="19959" y="15966"/>
                  <a:pt x="19968" y="15925"/>
                </a:cubicBezTo>
                <a:cubicBezTo>
                  <a:pt x="19953" y="15837"/>
                  <a:pt x="19889" y="15889"/>
                  <a:pt x="19893" y="15949"/>
                </a:cubicBezTo>
                <a:cubicBezTo>
                  <a:pt x="19901" y="15966"/>
                  <a:pt x="19910" y="15982"/>
                  <a:pt x="19918" y="15999"/>
                </a:cubicBezTo>
              </a:path>
              <a:path w="3846" h="1837">
                <a:moveTo>
                  <a:pt x="18331" y="16421"/>
                </a:moveTo>
                <a:cubicBezTo>
                  <a:pt x="18439" y="16479"/>
                  <a:pt x="18524" y="16498"/>
                  <a:pt x="18653" y="16520"/>
                </a:cubicBezTo>
                <a:cubicBezTo>
                  <a:pt x="18875" y="16559"/>
                  <a:pt x="19122" y="16561"/>
                  <a:pt x="19348" y="16545"/>
                </a:cubicBezTo>
                <a:cubicBezTo>
                  <a:pt x="19611" y="16526"/>
                  <a:pt x="19881" y="16467"/>
                  <a:pt x="20141" y="16421"/>
                </a:cubicBezTo>
                <a:cubicBezTo>
                  <a:pt x="20295" y="16394"/>
                  <a:pt x="20464" y="16368"/>
                  <a:pt x="20613" y="16321"/>
                </a:cubicBezTo>
                <a:cubicBezTo>
                  <a:pt x="20803" y="16261"/>
                  <a:pt x="20979" y="16179"/>
                  <a:pt x="21158" y="16098"/>
                </a:cubicBezTo>
                <a:cubicBezTo>
                  <a:pt x="21296" y="16035"/>
                  <a:pt x="21421" y="16024"/>
                  <a:pt x="21555" y="15974"/>
                </a:cubicBezTo>
                <a:cubicBezTo>
                  <a:pt x="21675" y="15929"/>
                  <a:pt x="21736" y="15826"/>
                  <a:pt x="21803" y="15726"/>
                </a:cubicBezTo>
                <a:cubicBezTo>
                  <a:pt x="21871" y="15625"/>
                  <a:pt x="21917" y="15477"/>
                  <a:pt x="21927" y="15354"/>
                </a:cubicBezTo>
                <a:cubicBezTo>
                  <a:pt x="21937" y="15241"/>
                  <a:pt x="21957" y="15119"/>
                  <a:pt x="21952" y="15007"/>
                </a:cubicBezTo>
                <a:cubicBezTo>
                  <a:pt x="21949" y="14931"/>
                  <a:pt x="21920" y="14898"/>
                  <a:pt x="21878" y="14858"/>
                </a:cubicBezTo>
                <a:cubicBezTo>
                  <a:pt x="21834" y="14817"/>
                  <a:pt x="21783" y="14779"/>
                  <a:pt x="21729" y="14759"/>
                </a:cubicBezTo>
                <a:cubicBezTo>
                  <a:pt x="21643" y="14727"/>
                  <a:pt x="21573" y="14745"/>
                  <a:pt x="21481" y="14734"/>
                </a:cubicBezTo>
                <a:cubicBezTo>
                  <a:pt x="21380" y="14722"/>
                  <a:pt x="21287" y="14711"/>
                  <a:pt x="21183" y="14709"/>
                </a:cubicBezTo>
                <a:cubicBezTo>
                  <a:pt x="21089" y="14707"/>
                  <a:pt x="21021" y="14719"/>
                  <a:pt x="20935" y="14734"/>
                </a:cubicBezTo>
                <a:cubicBezTo>
                  <a:pt x="20820" y="14753"/>
                  <a:pt x="20723" y="14728"/>
                  <a:pt x="20613" y="14734"/>
                </a:cubicBezTo>
                <a:cubicBezTo>
                  <a:pt x="20499" y="14740"/>
                  <a:pt x="20357" y="14743"/>
                  <a:pt x="20241" y="14759"/>
                </a:cubicBezTo>
                <a:cubicBezTo>
                  <a:pt x="20108" y="14778"/>
                  <a:pt x="19977" y="14770"/>
                  <a:pt x="19844" y="14784"/>
                </a:cubicBezTo>
                <a:cubicBezTo>
                  <a:pt x="19710" y="14798"/>
                  <a:pt x="19585" y="14804"/>
                  <a:pt x="19447" y="14808"/>
                </a:cubicBezTo>
                <a:cubicBezTo>
                  <a:pt x="19334" y="14811"/>
                  <a:pt x="19213" y="14818"/>
                  <a:pt x="19100" y="14833"/>
                </a:cubicBezTo>
                <a:cubicBezTo>
                  <a:pt x="19013" y="14844"/>
                  <a:pt x="18911" y="14853"/>
                  <a:pt x="18827" y="14883"/>
                </a:cubicBezTo>
                <a:cubicBezTo>
                  <a:pt x="18704" y="14928"/>
                  <a:pt x="18592" y="14991"/>
                  <a:pt x="18479" y="15056"/>
                </a:cubicBezTo>
                <a:cubicBezTo>
                  <a:pt x="18339" y="15137"/>
                  <a:pt x="18293" y="15204"/>
                  <a:pt x="18207" y="15329"/>
                </a:cubicBezTo>
                <a:cubicBezTo>
                  <a:pt x="18129" y="15443"/>
                  <a:pt x="18153" y="15502"/>
                  <a:pt x="18132" y="15627"/>
                </a:cubicBezTo>
                <a:cubicBezTo>
                  <a:pt x="18115" y="15730"/>
                  <a:pt x="18114" y="15814"/>
                  <a:pt x="18132" y="15925"/>
                </a:cubicBezTo>
                <a:cubicBezTo>
                  <a:pt x="18147" y="16016"/>
                  <a:pt x="18200" y="16146"/>
                  <a:pt x="18256" y="16222"/>
                </a:cubicBezTo>
                <a:cubicBezTo>
                  <a:pt x="18307" y="16290"/>
                  <a:pt x="18386" y="16352"/>
                  <a:pt x="18455" y="16396"/>
                </a:cubicBezTo>
                <a:cubicBezTo>
                  <a:pt x="18515" y="16435"/>
                  <a:pt x="18587" y="16454"/>
                  <a:pt x="18653" y="16470"/>
                </a:cubicBezTo>
                <a:cubicBezTo>
                  <a:pt x="18661" y="16470"/>
                  <a:pt x="18670" y="16470"/>
                  <a:pt x="18678" y="164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6160" y="3411360"/>
            <a:ext cx="1170000" cy="2322720"/>
          </a:xfrm>
          <a:custGeom>
            <a:avLst/>
            <a:gdLst/>
            <a:ahLst/>
            <a:rect l="l" t="t" r="r" b="b"/>
            <a:pathLst>
              <a:path w="3250" h="6451">
                <a:moveTo>
                  <a:pt x="19596" y="10294"/>
                </a:moveTo>
                <a:cubicBezTo>
                  <a:pt x="19653" y="10446"/>
                  <a:pt x="19644" y="10646"/>
                  <a:pt x="19621" y="10815"/>
                </a:cubicBezTo>
                <a:cubicBezTo>
                  <a:pt x="19606" y="10928"/>
                  <a:pt x="19589" y="10917"/>
                  <a:pt x="19571" y="10988"/>
                </a:cubicBezTo>
              </a:path>
              <a:path w="3250" h="6451">
                <a:moveTo>
                  <a:pt x="20315" y="10244"/>
                </a:moveTo>
                <a:cubicBezTo>
                  <a:pt x="20315" y="10415"/>
                  <a:pt x="20313" y="10572"/>
                  <a:pt x="20290" y="10740"/>
                </a:cubicBezTo>
              </a:path>
              <a:path w="3250" h="6451">
                <a:moveTo>
                  <a:pt x="20662" y="10096"/>
                </a:moveTo>
                <a:cubicBezTo>
                  <a:pt x="20681" y="10151"/>
                  <a:pt x="20745" y="10075"/>
                  <a:pt x="20786" y="10046"/>
                </a:cubicBezTo>
                <a:cubicBezTo>
                  <a:pt x="20917" y="10154"/>
                  <a:pt x="20933" y="10358"/>
                  <a:pt x="20836" y="10517"/>
                </a:cubicBezTo>
                <a:cubicBezTo>
                  <a:pt x="20735" y="10618"/>
                  <a:pt x="20724" y="10649"/>
                  <a:pt x="20638" y="10666"/>
                </a:cubicBezTo>
                <a:cubicBezTo>
                  <a:pt x="20627" y="10541"/>
                  <a:pt x="20572" y="10405"/>
                  <a:pt x="20737" y="10368"/>
                </a:cubicBezTo>
                <a:cubicBezTo>
                  <a:pt x="20924" y="10326"/>
                  <a:pt x="20964" y="10520"/>
                  <a:pt x="21034" y="10641"/>
                </a:cubicBezTo>
                <a:cubicBezTo>
                  <a:pt x="21051" y="10666"/>
                  <a:pt x="21067" y="10691"/>
                  <a:pt x="21084" y="10716"/>
                </a:cubicBezTo>
              </a:path>
              <a:path w="3250" h="6451">
                <a:moveTo>
                  <a:pt x="19149" y="11311"/>
                </a:moveTo>
                <a:cubicBezTo>
                  <a:pt x="19085" y="11490"/>
                  <a:pt x="18925" y="11743"/>
                  <a:pt x="18926" y="11931"/>
                </a:cubicBezTo>
                <a:cubicBezTo>
                  <a:pt x="18934" y="11923"/>
                  <a:pt x="18943" y="11914"/>
                  <a:pt x="18951" y="11906"/>
                </a:cubicBezTo>
              </a:path>
              <a:path w="3250" h="6451">
                <a:moveTo>
                  <a:pt x="19943" y="11237"/>
                </a:moveTo>
                <a:cubicBezTo>
                  <a:pt x="19846" y="11164"/>
                  <a:pt x="19742" y="11333"/>
                  <a:pt x="19695" y="11410"/>
                </a:cubicBezTo>
                <a:cubicBezTo>
                  <a:pt x="19607" y="11554"/>
                  <a:pt x="19872" y="11591"/>
                  <a:pt x="19893" y="11733"/>
                </a:cubicBezTo>
                <a:cubicBezTo>
                  <a:pt x="19871" y="11825"/>
                  <a:pt x="19870" y="11855"/>
                  <a:pt x="19794" y="11857"/>
                </a:cubicBezTo>
                <a:cubicBezTo>
                  <a:pt x="19808" y="11708"/>
                  <a:pt x="19863" y="11617"/>
                  <a:pt x="19918" y="11485"/>
                </a:cubicBezTo>
                <a:cubicBezTo>
                  <a:pt x="19918" y="11477"/>
                  <a:pt x="19918" y="11468"/>
                  <a:pt x="19918" y="11460"/>
                </a:cubicBezTo>
              </a:path>
              <a:path w="3250" h="6451">
                <a:moveTo>
                  <a:pt x="20365" y="11237"/>
                </a:moveTo>
                <a:cubicBezTo>
                  <a:pt x="20400" y="11166"/>
                  <a:pt x="20423" y="11159"/>
                  <a:pt x="20489" y="11137"/>
                </a:cubicBezTo>
                <a:cubicBezTo>
                  <a:pt x="20557" y="11232"/>
                  <a:pt x="20484" y="11319"/>
                  <a:pt x="20414" y="11410"/>
                </a:cubicBezTo>
                <a:cubicBezTo>
                  <a:pt x="20468" y="11356"/>
                  <a:pt x="20541" y="11508"/>
                  <a:pt x="20513" y="11584"/>
                </a:cubicBezTo>
                <a:cubicBezTo>
                  <a:pt x="20456" y="11739"/>
                  <a:pt x="20296" y="11708"/>
                  <a:pt x="20166" y="11708"/>
                </a:cubicBezTo>
                <a:cubicBezTo>
                  <a:pt x="20174" y="11708"/>
                  <a:pt x="20183" y="11708"/>
                  <a:pt x="20191" y="11708"/>
                </a:cubicBezTo>
              </a:path>
              <a:path w="3250" h="6451">
                <a:moveTo>
                  <a:pt x="20762" y="11509"/>
                </a:moveTo>
                <a:cubicBezTo>
                  <a:pt x="20762" y="11534"/>
                  <a:pt x="20762" y="11542"/>
                  <a:pt x="20762" y="11559"/>
                </a:cubicBezTo>
              </a:path>
              <a:path w="3250" h="6451">
                <a:moveTo>
                  <a:pt x="20861" y="11162"/>
                </a:moveTo>
                <a:cubicBezTo>
                  <a:pt x="20861" y="11220"/>
                  <a:pt x="20861" y="11278"/>
                  <a:pt x="20861" y="11336"/>
                </a:cubicBezTo>
                <a:cubicBezTo>
                  <a:pt x="20985" y="11336"/>
                  <a:pt x="21029" y="11322"/>
                  <a:pt x="21134" y="11261"/>
                </a:cubicBezTo>
              </a:path>
              <a:path w="3250" h="6451">
                <a:moveTo>
                  <a:pt x="21109" y="10914"/>
                </a:moveTo>
                <a:cubicBezTo>
                  <a:pt x="21144" y="11135"/>
                  <a:pt x="21159" y="11384"/>
                  <a:pt x="21134" y="11609"/>
                </a:cubicBezTo>
                <a:cubicBezTo>
                  <a:pt x="21126" y="11634"/>
                  <a:pt x="21117" y="11658"/>
                  <a:pt x="21109" y="11683"/>
                </a:cubicBezTo>
              </a:path>
              <a:path w="3250" h="6451">
                <a:moveTo>
                  <a:pt x="19100" y="12353"/>
                </a:moveTo>
                <a:cubicBezTo>
                  <a:pt x="19690" y="12208"/>
                  <a:pt x="20299" y="12134"/>
                  <a:pt x="20910" y="12105"/>
                </a:cubicBezTo>
                <a:cubicBezTo>
                  <a:pt x="21155" y="12093"/>
                  <a:pt x="21408" y="12105"/>
                  <a:pt x="21654" y="12105"/>
                </a:cubicBezTo>
              </a:path>
              <a:path w="3250" h="6451">
                <a:moveTo>
                  <a:pt x="21109" y="12254"/>
                </a:moveTo>
                <a:cubicBezTo>
                  <a:pt x="21147" y="12266"/>
                  <a:pt x="21130" y="12278"/>
                  <a:pt x="21183" y="12278"/>
                </a:cubicBezTo>
                <a:cubicBezTo>
                  <a:pt x="21208" y="12278"/>
                  <a:pt x="21216" y="12278"/>
                  <a:pt x="21208" y="12254"/>
                </a:cubicBezTo>
                <a:cubicBezTo>
                  <a:pt x="21194" y="12213"/>
                  <a:pt x="21151" y="12222"/>
                  <a:pt x="21109" y="12254"/>
                </a:cubicBezTo>
                <a:cubicBezTo>
                  <a:pt x="21037" y="12308"/>
                  <a:pt x="21008" y="12375"/>
                  <a:pt x="20985" y="12452"/>
                </a:cubicBezTo>
                <a:cubicBezTo>
                  <a:pt x="21040" y="12491"/>
                  <a:pt x="21331" y="12623"/>
                  <a:pt x="21208" y="12725"/>
                </a:cubicBezTo>
                <a:cubicBezTo>
                  <a:pt x="21183" y="12733"/>
                  <a:pt x="21159" y="12742"/>
                  <a:pt x="21134" y="12750"/>
                </a:cubicBezTo>
                <a:cubicBezTo>
                  <a:pt x="21029" y="12628"/>
                  <a:pt x="21139" y="12497"/>
                  <a:pt x="21208" y="12353"/>
                </a:cubicBezTo>
                <a:cubicBezTo>
                  <a:pt x="21240" y="12286"/>
                  <a:pt x="21223" y="12308"/>
                  <a:pt x="21158" y="12254"/>
                </a:cubicBezTo>
              </a:path>
              <a:path w="3250" h="6451">
                <a:moveTo>
                  <a:pt x="20464" y="12402"/>
                </a:moveTo>
                <a:cubicBezTo>
                  <a:pt x="20464" y="12480"/>
                  <a:pt x="20407" y="12529"/>
                  <a:pt x="20389" y="12601"/>
                </a:cubicBezTo>
                <a:cubicBezTo>
                  <a:pt x="20389" y="12617"/>
                  <a:pt x="20389" y="12634"/>
                  <a:pt x="20389" y="12650"/>
                </a:cubicBezTo>
                <a:cubicBezTo>
                  <a:pt x="20526" y="12667"/>
                  <a:pt x="20604" y="12663"/>
                  <a:pt x="20737" y="12626"/>
                </a:cubicBezTo>
              </a:path>
              <a:path w="3250" h="6451">
                <a:moveTo>
                  <a:pt x="20712" y="12378"/>
                </a:moveTo>
                <a:cubicBezTo>
                  <a:pt x="20683" y="12542"/>
                  <a:pt x="20653" y="12708"/>
                  <a:pt x="20638" y="12874"/>
                </a:cubicBezTo>
              </a:path>
              <a:path w="3250" h="6451">
                <a:moveTo>
                  <a:pt x="19745" y="12502"/>
                </a:moveTo>
                <a:cubicBezTo>
                  <a:pt x="19745" y="12571"/>
                  <a:pt x="19739" y="12614"/>
                  <a:pt x="19720" y="12675"/>
                </a:cubicBezTo>
                <a:cubicBezTo>
                  <a:pt x="19823" y="12675"/>
                  <a:pt x="19916" y="12658"/>
                  <a:pt x="20017" y="12650"/>
                </a:cubicBezTo>
                <a:cubicBezTo>
                  <a:pt x="20025" y="12650"/>
                  <a:pt x="20034" y="12650"/>
                  <a:pt x="20042" y="12650"/>
                </a:cubicBezTo>
              </a:path>
              <a:path w="3250" h="6451">
                <a:moveTo>
                  <a:pt x="20042" y="12328"/>
                </a:moveTo>
                <a:cubicBezTo>
                  <a:pt x="20001" y="12525"/>
                  <a:pt x="20008" y="12794"/>
                  <a:pt x="19918" y="12973"/>
                </a:cubicBezTo>
                <a:cubicBezTo>
                  <a:pt x="19918" y="12965"/>
                  <a:pt x="19918" y="12956"/>
                  <a:pt x="19918" y="12948"/>
                </a:cubicBezTo>
              </a:path>
              <a:path w="3250" h="6451">
                <a:moveTo>
                  <a:pt x="21208" y="13097"/>
                </a:moveTo>
                <a:cubicBezTo>
                  <a:pt x="21173" y="13071"/>
                  <a:pt x="21177" y="13072"/>
                  <a:pt x="21134" y="13072"/>
                </a:cubicBezTo>
                <a:cubicBezTo>
                  <a:pt x="21122" y="13129"/>
                  <a:pt x="21099" y="13189"/>
                  <a:pt x="21084" y="13246"/>
                </a:cubicBezTo>
                <a:cubicBezTo>
                  <a:pt x="21075" y="13281"/>
                  <a:pt x="21035" y="13377"/>
                  <a:pt x="21059" y="13419"/>
                </a:cubicBezTo>
                <a:cubicBezTo>
                  <a:pt x="21087" y="13469"/>
                  <a:pt x="21153" y="13487"/>
                  <a:pt x="21208" y="13469"/>
                </a:cubicBezTo>
                <a:cubicBezTo>
                  <a:pt x="21254" y="13453"/>
                  <a:pt x="21295" y="13407"/>
                  <a:pt x="21332" y="13370"/>
                </a:cubicBezTo>
                <a:cubicBezTo>
                  <a:pt x="21369" y="13333"/>
                  <a:pt x="21357" y="13297"/>
                  <a:pt x="21357" y="13246"/>
                </a:cubicBezTo>
                <a:cubicBezTo>
                  <a:pt x="21357" y="13163"/>
                  <a:pt x="21323" y="13195"/>
                  <a:pt x="21282" y="13171"/>
                </a:cubicBezTo>
                <a:cubicBezTo>
                  <a:pt x="21235" y="13144"/>
                  <a:pt x="21242" y="13122"/>
                  <a:pt x="21183" y="13122"/>
                </a:cubicBezTo>
                <a:cubicBezTo>
                  <a:pt x="21134" y="13122"/>
                  <a:pt x="21129" y="13137"/>
                  <a:pt x="21109" y="13146"/>
                </a:cubicBezTo>
                <a:cubicBezTo>
                  <a:pt x="21084" y="13146"/>
                  <a:pt x="21076" y="13146"/>
                  <a:pt x="21084" y="13171"/>
                </a:cubicBezTo>
              </a:path>
              <a:path w="3250" h="6451">
                <a:moveTo>
                  <a:pt x="20662" y="13122"/>
                </a:moveTo>
                <a:cubicBezTo>
                  <a:pt x="20620" y="13253"/>
                  <a:pt x="20579" y="13402"/>
                  <a:pt x="20563" y="13543"/>
                </a:cubicBezTo>
                <a:cubicBezTo>
                  <a:pt x="20563" y="13628"/>
                  <a:pt x="20556" y="13648"/>
                  <a:pt x="20588" y="13692"/>
                </a:cubicBezTo>
                <a:cubicBezTo>
                  <a:pt x="20712" y="13692"/>
                  <a:pt x="20758" y="13690"/>
                  <a:pt x="20836" y="13593"/>
                </a:cubicBezTo>
                <a:cubicBezTo>
                  <a:pt x="20864" y="13558"/>
                  <a:pt x="20937" y="13429"/>
                  <a:pt x="20861" y="13419"/>
                </a:cubicBezTo>
                <a:cubicBezTo>
                  <a:pt x="20853" y="13419"/>
                  <a:pt x="20844" y="13419"/>
                  <a:pt x="20836" y="13419"/>
                </a:cubicBezTo>
                <a:cubicBezTo>
                  <a:pt x="20751" y="13481"/>
                  <a:pt x="20713" y="13769"/>
                  <a:pt x="20687" y="13667"/>
                </a:cubicBezTo>
                <a:cubicBezTo>
                  <a:pt x="20687" y="13651"/>
                  <a:pt x="20687" y="13634"/>
                  <a:pt x="20687" y="13618"/>
                </a:cubicBezTo>
              </a:path>
              <a:path w="3250" h="6451">
                <a:moveTo>
                  <a:pt x="19869" y="13320"/>
                </a:moveTo>
                <a:cubicBezTo>
                  <a:pt x="19913" y="13275"/>
                  <a:pt x="19999" y="13184"/>
                  <a:pt x="20067" y="13221"/>
                </a:cubicBezTo>
                <a:cubicBezTo>
                  <a:pt x="20153" y="13267"/>
                  <a:pt x="20040" y="13402"/>
                  <a:pt x="20017" y="13444"/>
                </a:cubicBezTo>
                <a:cubicBezTo>
                  <a:pt x="20009" y="13452"/>
                  <a:pt x="20001" y="13461"/>
                  <a:pt x="19993" y="13469"/>
                </a:cubicBezTo>
                <a:cubicBezTo>
                  <a:pt x="20097" y="13451"/>
                  <a:pt x="20186" y="13412"/>
                  <a:pt x="20191" y="13568"/>
                </a:cubicBezTo>
                <a:cubicBezTo>
                  <a:pt x="20196" y="13733"/>
                  <a:pt x="20026" y="13735"/>
                  <a:pt x="19918" y="13717"/>
                </a:cubicBezTo>
              </a:path>
              <a:path w="3250" h="6451">
                <a:moveTo>
                  <a:pt x="19224" y="13370"/>
                </a:moveTo>
                <a:cubicBezTo>
                  <a:pt x="19302" y="13357"/>
                  <a:pt x="19421" y="13269"/>
                  <a:pt x="19472" y="13370"/>
                </a:cubicBezTo>
                <a:cubicBezTo>
                  <a:pt x="19512" y="13449"/>
                  <a:pt x="19426" y="13522"/>
                  <a:pt x="19372" y="13543"/>
                </a:cubicBezTo>
                <a:cubicBezTo>
                  <a:pt x="19494" y="13522"/>
                  <a:pt x="19569" y="13575"/>
                  <a:pt x="19496" y="13717"/>
                </a:cubicBezTo>
                <a:cubicBezTo>
                  <a:pt x="19456" y="13795"/>
                  <a:pt x="19287" y="13821"/>
                  <a:pt x="19224" y="13767"/>
                </a:cubicBezTo>
                <a:cubicBezTo>
                  <a:pt x="19224" y="13759"/>
                  <a:pt x="19224" y="13750"/>
                  <a:pt x="19224" y="13742"/>
                </a:cubicBezTo>
              </a:path>
              <a:path w="3250" h="6451">
                <a:moveTo>
                  <a:pt x="21233" y="13866"/>
                </a:moveTo>
                <a:cubicBezTo>
                  <a:pt x="21129" y="13935"/>
                  <a:pt x="21089" y="14054"/>
                  <a:pt x="21109" y="14188"/>
                </a:cubicBezTo>
                <a:cubicBezTo>
                  <a:pt x="21129" y="14228"/>
                  <a:pt x="21127" y="14245"/>
                  <a:pt x="21158" y="14238"/>
                </a:cubicBezTo>
                <a:cubicBezTo>
                  <a:pt x="21297" y="14210"/>
                  <a:pt x="21405" y="14142"/>
                  <a:pt x="21406" y="13965"/>
                </a:cubicBezTo>
                <a:cubicBezTo>
                  <a:pt x="21406" y="13870"/>
                  <a:pt x="21217" y="13871"/>
                  <a:pt x="21158" y="13866"/>
                </a:cubicBezTo>
              </a:path>
              <a:path w="3250" h="6451">
                <a:moveTo>
                  <a:pt x="20836" y="13990"/>
                </a:moveTo>
                <a:cubicBezTo>
                  <a:pt x="20827" y="13964"/>
                  <a:pt x="20774" y="13940"/>
                  <a:pt x="20737" y="13965"/>
                </a:cubicBezTo>
                <a:cubicBezTo>
                  <a:pt x="20643" y="14028"/>
                  <a:pt x="20620" y="14191"/>
                  <a:pt x="20662" y="14288"/>
                </a:cubicBezTo>
                <a:cubicBezTo>
                  <a:pt x="20701" y="14379"/>
                  <a:pt x="20835" y="14249"/>
                  <a:pt x="20861" y="14213"/>
                </a:cubicBezTo>
                <a:cubicBezTo>
                  <a:pt x="20902" y="14156"/>
                  <a:pt x="20910" y="14106"/>
                  <a:pt x="20910" y="14039"/>
                </a:cubicBezTo>
                <a:cubicBezTo>
                  <a:pt x="20910" y="13983"/>
                  <a:pt x="20887" y="13957"/>
                  <a:pt x="20836" y="13940"/>
                </a:cubicBezTo>
                <a:cubicBezTo>
                  <a:pt x="20828" y="13940"/>
                  <a:pt x="20819" y="13940"/>
                  <a:pt x="20811" y="13940"/>
                </a:cubicBezTo>
              </a:path>
              <a:path w="3250" h="6451">
                <a:moveTo>
                  <a:pt x="20067" y="14039"/>
                </a:moveTo>
                <a:cubicBezTo>
                  <a:pt x="20045" y="14046"/>
                  <a:pt x="20005" y="14129"/>
                  <a:pt x="19993" y="14163"/>
                </a:cubicBezTo>
                <a:cubicBezTo>
                  <a:pt x="19958" y="14260"/>
                  <a:pt x="19968" y="14360"/>
                  <a:pt x="19968" y="14461"/>
                </a:cubicBezTo>
                <a:cubicBezTo>
                  <a:pt x="19968" y="14493"/>
                  <a:pt x="20012" y="14531"/>
                  <a:pt x="20042" y="14536"/>
                </a:cubicBezTo>
                <a:cubicBezTo>
                  <a:pt x="20129" y="14550"/>
                  <a:pt x="20201" y="14480"/>
                  <a:pt x="20241" y="14412"/>
                </a:cubicBezTo>
                <a:cubicBezTo>
                  <a:pt x="20265" y="14371"/>
                  <a:pt x="20316" y="14289"/>
                  <a:pt x="20290" y="14238"/>
                </a:cubicBezTo>
                <a:cubicBezTo>
                  <a:pt x="20245" y="14148"/>
                  <a:pt x="20159" y="14252"/>
                  <a:pt x="20141" y="14288"/>
                </a:cubicBezTo>
                <a:cubicBezTo>
                  <a:pt x="20103" y="14365"/>
                  <a:pt x="20117" y="14453"/>
                  <a:pt x="20117" y="14536"/>
                </a:cubicBezTo>
              </a:path>
              <a:path w="3250" h="6451">
                <a:moveTo>
                  <a:pt x="20340" y="9475"/>
                </a:moveTo>
                <a:cubicBezTo>
                  <a:pt x="20340" y="9599"/>
                  <a:pt x="20340" y="9723"/>
                  <a:pt x="20340" y="9847"/>
                </a:cubicBezTo>
              </a:path>
              <a:path w="3250" h="6451">
                <a:moveTo>
                  <a:pt x="21605" y="15081"/>
                </a:moveTo>
                <a:cubicBezTo>
                  <a:pt x="21547" y="15005"/>
                  <a:pt x="21418" y="15015"/>
                  <a:pt x="21332" y="15081"/>
                </a:cubicBezTo>
                <a:cubicBezTo>
                  <a:pt x="21324" y="15098"/>
                  <a:pt x="21315" y="15114"/>
                  <a:pt x="21307" y="15131"/>
                </a:cubicBezTo>
                <a:cubicBezTo>
                  <a:pt x="21350" y="15258"/>
                  <a:pt x="21452" y="15252"/>
                  <a:pt x="21530" y="15354"/>
                </a:cubicBezTo>
                <a:cubicBezTo>
                  <a:pt x="21582" y="15423"/>
                  <a:pt x="21512" y="15461"/>
                  <a:pt x="21456" y="15503"/>
                </a:cubicBezTo>
                <a:cubicBezTo>
                  <a:pt x="21408" y="15408"/>
                  <a:pt x="21422" y="15302"/>
                  <a:pt x="21481" y="15205"/>
                </a:cubicBezTo>
                <a:cubicBezTo>
                  <a:pt x="21503" y="15169"/>
                  <a:pt x="21618" y="15081"/>
                  <a:pt x="21605" y="15056"/>
                </a:cubicBezTo>
                <a:cubicBezTo>
                  <a:pt x="21576" y="15028"/>
                  <a:pt x="21568" y="15015"/>
                  <a:pt x="21580" y="14982"/>
                </a:cubicBezTo>
              </a:path>
              <a:path w="3250" h="6451">
                <a:moveTo>
                  <a:pt x="20861" y="15280"/>
                </a:moveTo>
                <a:cubicBezTo>
                  <a:pt x="20847" y="15196"/>
                  <a:pt x="20855" y="15261"/>
                  <a:pt x="20836" y="15205"/>
                </a:cubicBezTo>
                <a:cubicBezTo>
                  <a:pt x="20709" y="15205"/>
                  <a:pt x="20676" y="15287"/>
                  <a:pt x="20638" y="15404"/>
                </a:cubicBezTo>
                <a:cubicBezTo>
                  <a:pt x="20594" y="15539"/>
                  <a:pt x="20611" y="15683"/>
                  <a:pt x="20786" y="15677"/>
                </a:cubicBezTo>
                <a:cubicBezTo>
                  <a:pt x="20944" y="15672"/>
                  <a:pt x="21034" y="15524"/>
                  <a:pt x="21034" y="15379"/>
                </a:cubicBezTo>
                <a:cubicBezTo>
                  <a:pt x="21034" y="15237"/>
                  <a:pt x="20980" y="15203"/>
                  <a:pt x="20861" y="15180"/>
                </a:cubicBezTo>
                <a:cubicBezTo>
                  <a:pt x="20853" y="15180"/>
                  <a:pt x="20844" y="15180"/>
                  <a:pt x="20836" y="15180"/>
                </a:cubicBezTo>
              </a:path>
              <a:path w="3250" h="6451">
                <a:moveTo>
                  <a:pt x="19720" y="12179"/>
                </a:moveTo>
                <a:cubicBezTo>
                  <a:pt x="19710" y="12140"/>
                  <a:pt x="19695" y="12124"/>
                  <a:pt x="19695" y="12080"/>
                </a:cubicBezTo>
                <a:cubicBezTo>
                  <a:pt x="19695" y="12072"/>
                  <a:pt x="19695" y="12063"/>
                  <a:pt x="19695" y="12055"/>
                </a:cubicBezTo>
                <a:cubicBezTo>
                  <a:pt x="19695" y="12141"/>
                  <a:pt x="19709" y="12224"/>
                  <a:pt x="19720" y="12303"/>
                </a:cubicBezTo>
                <a:cubicBezTo>
                  <a:pt x="19720" y="12320"/>
                  <a:pt x="19720" y="12336"/>
                  <a:pt x="19720" y="12353"/>
                </a:cubicBezTo>
                <a:cubicBezTo>
                  <a:pt x="19708" y="12284"/>
                  <a:pt x="19695" y="12226"/>
                  <a:pt x="19695" y="12154"/>
                </a:cubicBezTo>
              </a:path>
              <a:path w="3250" h="6451">
                <a:moveTo>
                  <a:pt x="20067" y="15379"/>
                </a:moveTo>
                <a:cubicBezTo>
                  <a:pt x="20054" y="15341"/>
                  <a:pt x="20042" y="15358"/>
                  <a:pt x="20042" y="15304"/>
                </a:cubicBezTo>
                <a:cubicBezTo>
                  <a:pt x="20033" y="15381"/>
                  <a:pt x="20017" y="15449"/>
                  <a:pt x="20017" y="15528"/>
                </a:cubicBezTo>
                <a:cubicBezTo>
                  <a:pt x="20078" y="15528"/>
                  <a:pt x="20130" y="15549"/>
                  <a:pt x="20191" y="15553"/>
                </a:cubicBezTo>
                <a:cubicBezTo>
                  <a:pt x="20243" y="15557"/>
                  <a:pt x="20245" y="15538"/>
                  <a:pt x="20265" y="15528"/>
                </a:cubicBezTo>
                <a:cubicBezTo>
                  <a:pt x="20273" y="15528"/>
                  <a:pt x="20282" y="15528"/>
                  <a:pt x="20290" y="15528"/>
                </a:cubicBezTo>
              </a:path>
              <a:path w="3250" h="6451">
                <a:moveTo>
                  <a:pt x="20265" y="15131"/>
                </a:moveTo>
                <a:cubicBezTo>
                  <a:pt x="20265" y="15316"/>
                  <a:pt x="20278" y="15494"/>
                  <a:pt x="20290" y="15677"/>
                </a:cubicBezTo>
                <a:cubicBezTo>
                  <a:pt x="20290" y="15751"/>
                  <a:pt x="20290" y="15760"/>
                  <a:pt x="20290" y="15801"/>
                </a:cubicBezTo>
              </a:path>
              <a:path w="3250" h="6451">
                <a:moveTo>
                  <a:pt x="19174" y="12551"/>
                </a:moveTo>
                <a:cubicBezTo>
                  <a:pt x="19174" y="12479"/>
                  <a:pt x="19199" y="12722"/>
                  <a:pt x="19199" y="12725"/>
                </a:cubicBezTo>
                <a:cubicBezTo>
                  <a:pt x="19203" y="12772"/>
                  <a:pt x="19199" y="12825"/>
                  <a:pt x="19199" y="12874"/>
                </a:cubicBezTo>
              </a:path>
              <a:path w="3250" h="6451">
                <a:moveTo>
                  <a:pt x="19372" y="15354"/>
                </a:moveTo>
                <a:cubicBezTo>
                  <a:pt x="19347" y="15319"/>
                  <a:pt x="19348" y="15322"/>
                  <a:pt x="19348" y="15280"/>
                </a:cubicBezTo>
                <a:cubicBezTo>
                  <a:pt x="19463" y="15260"/>
                  <a:pt x="19474" y="15236"/>
                  <a:pt x="19521" y="15354"/>
                </a:cubicBezTo>
                <a:cubicBezTo>
                  <a:pt x="19556" y="15441"/>
                  <a:pt x="19543" y="15521"/>
                  <a:pt x="19447" y="15553"/>
                </a:cubicBezTo>
                <a:cubicBezTo>
                  <a:pt x="19439" y="15553"/>
                  <a:pt x="19430" y="15553"/>
                  <a:pt x="19422" y="15553"/>
                </a:cubicBezTo>
                <a:cubicBezTo>
                  <a:pt x="19493" y="15535"/>
                  <a:pt x="19564" y="15468"/>
                  <a:pt x="19645" y="15528"/>
                </a:cubicBezTo>
                <a:cubicBezTo>
                  <a:pt x="19756" y="15609"/>
                  <a:pt x="19681" y="15805"/>
                  <a:pt x="19596" y="15875"/>
                </a:cubicBezTo>
                <a:cubicBezTo>
                  <a:pt x="19515" y="15942"/>
                  <a:pt x="19442" y="15928"/>
                  <a:pt x="19372" y="15875"/>
                </a:cubicBezTo>
                <a:cubicBezTo>
                  <a:pt x="19405" y="15868"/>
                  <a:pt x="19522" y="15865"/>
                  <a:pt x="19546" y="15850"/>
                </a:cubicBezTo>
                <a:cubicBezTo>
                  <a:pt x="19546" y="15842"/>
                  <a:pt x="19546" y="15833"/>
                  <a:pt x="19546" y="15825"/>
                </a:cubicBezTo>
              </a:path>
              <a:path w="3250" h="6451">
                <a:moveTo>
                  <a:pt x="18405" y="12998"/>
                </a:moveTo>
                <a:cubicBezTo>
                  <a:pt x="18439" y="13125"/>
                  <a:pt x="18455" y="13239"/>
                  <a:pt x="18455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4880" y="3786120"/>
            <a:ext cx="936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1708" y="10517"/>
                </a:moveTo>
                <a:cubicBezTo>
                  <a:pt x="11716" y="10609"/>
                  <a:pt x="11728" y="10698"/>
                  <a:pt x="11733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33760" y="4429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7317" y="12303"/>
                </a:moveTo>
                <a:cubicBezTo>
                  <a:pt x="7317" y="12328"/>
                  <a:pt x="7317" y="12336"/>
                  <a:pt x="7342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6720" y="4116240"/>
            <a:ext cx="712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8852" y="11435"/>
                </a:moveTo>
                <a:cubicBezTo>
                  <a:pt x="18917" y="11593"/>
                  <a:pt x="18980" y="11751"/>
                  <a:pt x="19050" y="119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29280" y="5027760"/>
            <a:ext cx="98640" cy="19656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9496" y="14089"/>
                </a:moveTo>
                <a:cubicBezTo>
                  <a:pt x="19538" y="14075"/>
                  <a:pt x="19526" y="14049"/>
                  <a:pt x="19496" y="14015"/>
                </a:cubicBezTo>
                <a:cubicBezTo>
                  <a:pt x="19456" y="13969"/>
                  <a:pt x="19405" y="13933"/>
                  <a:pt x="19348" y="13990"/>
                </a:cubicBezTo>
                <a:cubicBezTo>
                  <a:pt x="19280" y="14057"/>
                  <a:pt x="19259" y="14174"/>
                  <a:pt x="19248" y="14263"/>
                </a:cubicBezTo>
                <a:cubicBezTo>
                  <a:pt x="19331" y="14305"/>
                  <a:pt x="19418" y="14286"/>
                  <a:pt x="19472" y="14188"/>
                </a:cubicBezTo>
                <a:cubicBezTo>
                  <a:pt x="19492" y="14151"/>
                  <a:pt x="19510" y="14058"/>
                  <a:pt x="19521" y="14015"/>
                </a:cubicBezTo>
                <a:cubicBezTo>
                  <a:pt x="19521" y="14128"/>
                  <a:pt x="19516" y="14222"/>
                  <a:pt x="19521" y="14337"/>
                </a:cubicBezTo>
                <a:cubicBezTo>
                  <a:pt x="19521" y="14436"/>
                  <a:pt x="19521" y="14453"/>
                  <a:pt x="19521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8080" y="5081760"/>
            <a:ext cx="108000" cy="1774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8852" y="14163"/>
                </a:moveTo>
                <a:cubicBezTo>
                  <a:pt x="18806" y="14074"/>
                  <a:pt x="18727" y="14119"/>
                  <a:pt x="18653" y="14163"/>
                </a:cubicBezTo>
                <a:cubicBezTo>
                  <a:pt x="18628" y="14180"/>
                  <a:pt x="18604" y="14196"/>
                  <a:pt x="18579" y="14213"/>
                </a:cubicBezTo>
                <a:cubicBezTo>
                  <a:pt x="18640" y="14350"/>
                  <a:pt x="18805" y="14329"/>
                  <a:pt x="18876" y="14461"/>
                </a:cubicBezTo>
                <a:cubicBezTo>
                  <a:pt x="18917" y="14538"/>
                  <a:pt x="18846" y="14578"/>
                  <a:pt x="18802" y="14610"/>
                </a:cubicBezTo>
                <a:cubicBezTo>
                  <a:pt x="18671" y="14528"/>
                  <a:pt x="18691" y="14475"/>
                  <a:pt x="18752" y="14337"/>
                </a:cubicBezTo>
                <a:cubicBezTo>
                  <a:pt x="18792" y="14247"/>
                  <a:pt x="18827" y="14209"/>
                  <a:pt x="18827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29240" y="4973760"/>
            <a:ext cx="9720" cy="13464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7884" y="13816"/>
                </a:moveTo>
                <a:cubicBezTo>
                  <a:pt x="17857" y="13941"/>
                  <a:pt x="17859" y="14059"/>
                  <a:pt x="17859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67320" y="5045040"/>
            <a:ext cx="125640" cy="9720"/>
          </a:xfrm>
          <a:custGeom>
            <a:avLst/>
            <a:gdLst/>
            <a:ahLst/>
            <a:rect l="l" t="t" r="r" b="b"/>
            <a:pathLst>
              <a:path w="348" h="25">
                <a:moveTo>
                  <a:pt x="17686" y="14015"/>
                </a:moveTo>
                <a:cubicBezTo>
                  <a:pt x="17755" y="14015"/>
                  <a:pt x="18011" y="13977"/>
                  <a:pt x="18033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3040" y="5268960"/>
            <a:ext cx="1606680" cy="142920"/>
          </a:xfrm>
          <a:custGeom>
            <a:avLst/>
            <a:gdLst/>
            <a:ahLst/>
            <a:rect l="l" t="t" r="r" b="b"/>
            <a:pathLst>
              <a:path w="4466" h="398">
                <a:moveTo>
                  <a:pt x="17562" y="14858"/>
                </a:moveTo>
                <a:cubicBezTo>
                  <a:pt x="17724" y="14844"/>
                  <a:pt x="17841" y="14858"/>
                  <a:pt x="18008" y="14883"/>
                </a:cubicBezTo>
                <a:cubicBezTo>
                  <a:pt x="18370" y="14937"/>
                  <a:pt x="18736" y="14970"/>
                  <a:pt x="19100" y="15007"/>
                </a:cubicBezTo>
                <a:cubicBezTo>
                  <a:pt x="19434" y="15041"/>
                  <a:pt x="19758" y="15035"/>
                  <a:pt x="20092" y="15007"/>
                </a:cubicBezTo>
                <a:cubicBezTo>
                  <a:pt x="20439" y="14978"/>
                  <a:pt x="20768" y="14923"/>
                  <a:pt x="21109" y="14858"/>
                </a:cubicBezTo>
                <a:cubicBezTo>
                  <a:pt x="21405" y="14802"/>
                  <a:pt x="21687" y="14705"/>
                  <a:pt x="21977" y="14635"/>
                </a:cubicBezTo>
                <a:cubicBezTo>
                  <a:pt x="22002" y="14635"/>
                  <a:pt x="22010" y="14635"/>
                  <a:pt x="22027" y="146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ff"/>
                </a:solidFill>
                <a:latin typeface="Arial"/>
              </a:rPr>
              <a:t>Course 1</a:t>
            </a:r>
            <a:br>
              <a:rPr sz="5400"/>
            </a:br>
            <a:r>
              <a:rPr b="0" lang="en-US" sz="5400" spc="-1" strike="noStrike">
                <a:solidFill>
                  <a:srgbClr val="33ccff"/>
                </a:solidFill>
                <a:latin typeface="Arial"/>
              </a:rPr>
              <a:t>November 21, 2011</a:t>
            </a:r>
            <a:r>
              <a:rPr b="0" lang="en-US" sz="45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47880" y="4786200"/>
            <a:ext cx="5430960" cy="563760"/>
          </a:xfrm>
          <a:custGeom>
            <a:avLst/>
            <a:gdLst/>
            <a:ahLst/>
            <a:rect l="l" t="t" r="r" b="b"/>
            <a:pathLst>
              <a:path w="15082" h="1564">
                <a:moveTo>
                  <a:pt x="5135" y="13618"/>
                </a:moveTo>
                <a:cubicBezTo>
                  <a:pt x="5175" y="13616"/>
                  <a:pt x="5247" y="13652"/>
                  <a:pt x="5308" y="13643"/>
                </a:cubicBezTo>
                <a:cubicBezTo>
                  <a:pt x="5404" y="13629"/>
                  <a:pt x="5505" y="13580"/>
                  <a:pt x="5606" y="13568"/>
                </a:cubicBezTo>
                <a:cubicBezTo>
                  <a:pt x="5850" y="13539"/>
                  <a:pt x="6108" y="13507"/>
                  <a:pt x="6350" y="13494"/>
                </a:cubicBezTo>
                <a:cubicBezTo>
                  <a:pt x="6926" y="13464"/>
                  <a:pt x="7511" y="13474"/>
                  <a:pt x="8086" y="13469"/>
                </a:cubicBezTo>
                <a:cubicBezTo>
                  <a:pt x="8394" y="13466"/>
                  <a:pt x="8698" y="13468"/>
                  <a:pt x="9004" y="13444"/>
                </a:cubicBezTo>
                <a:cubicBezTo>
                  <a:pt x="9195" y="13429"/>
                  <a:pt x="9383" y="13430"/>
                  <a:pt x="9575" y="13419"/>
                </a:cubicBezTo>
                <a:cubicBezTo>
                  <a:pt x="9879" y="13402"/>
                  <a:pt x="10187" y="13378"/>
                  <a:pt x="10492" y="13370"/>
                </a:cubicBezTo>
                <a:cubicBezTo>
                  <a:pt x="10701" y="13365"/>
                  <a:pt x="10905" y="13361"/>
                  <a:pt x="11112" y="13345"/>
                </a:cubicBezTo>
                <a:cubicBezTo>
                  <a:pt x="11311" y="13330"/>
                  <a:pt x="11507" y="13322"/>
                  <a:pt x="11708" y="13320"/>
                </a:cubicBezTo>
                <a:cubicBezTo>
                  <a:pt x="12031" y="13317"/>
                  <a:pt x="12356" y="13320"/>
                  <a:pt x="12675" y="13320"/>
                </a:cubicBezTo>
                <a:cubicBezTo>
                  <a:pt x="13353" y="13320"/>
                  <a:pt x="14012" y="13446"/>
                  <a:pt x="14684" y="13469"/>
                </a:cubicBezTo>
                <a:cubicBezTo>
                  <a:pt x="15066" y="13482"/>
                  <a:pt x="15446" y="13474"/>
                  <a:pt x="15825" y="13469"/>
                </a:cubicBezTo>
                <a:cubicBezTo>
                  <a:pt x="16099" y="13465"/>
                  <a:pt x="16371" y="13458"/>
                  <a:pt x="16644" y="13444"/>
                </a:cubicBezTo>
                <a:cubicBezTo>
                  <a:pt x="17148" y="13417"/>
                  <a:pt x="17651" y="13419"/>
                  <a:pt x="18157" y="13419"/>
                </a:cubicBezTo>
                <a:cubicBezTo>
                  <a:pt x="18843" y="13419"/>
                  <a:pt x="19530" y="13419"/>
                  <a:pt x="20216" y="13419"/>
                </a:cubicBezTo>
              </a:path>
              <a:path w="15082" h="1564">
                <a:moveTo>
                  <a:pt x="10244" y="14833"/>
                </a:moveTo>
                <a:cubicBezTo>
                  <a:pt x="10394" y="14816"/>
                  <a:pt x="10538" y="14808"/>
                  <a:pt x="10691" y="14808"/>
                </a:cubicBezTo>
                <a:cubicBezTo>
                  <a:pt x="10876" y="14808"/>
                  <a:pt x="11054" y="14771"/>
                  <a:pt x="11237" y="14759"/>
                </a:cubicBezTo>
                <a:cubicBezTo>
                  <a:pt x="11375" y="14750"/>
                  <a:pt x="11518" y="14716"/>
                  <a:pt x="11658" y="14734"/>
                </a:cubicBezTo>
                <a:cubicBezTo>
                  <a:pt x="11825" y="14756"/>
                  <a:pt x="11984" y="14759"/>
                  <a:pt x="12154" y="14759"/>
                </a:cubicBezTo>
                <a:cubicBezTo>
                  <a:pt x="12321" y="14759"/>
                  <a:pt x="12509" y="14764"/>
                  <a:pt x="12675" y="14784"/>
                </a:cubicBezTo>
                <a:cubicBezTo>
                  <a:pt x="12841" y="14804"/>
                  <a:pt x="13002" y="14808"/>
                  <a:pt x="13171" y="14808"/>
                </a:cubicBezTo>
                <a:cubicBezTo>
                  <a:pt x="13372" y="14808"/>
                  <a:pt x="13568" y="14848"/>
                  <a:pt x="13767" y="14858"/>
                </a:cubicBezTo>
                <a:cubicBezTo>
                  <a:pt x="14048" y="14872"/>
                  <a:pt x="14333" y="14856"/>
                  <a:pt x="14610" y="14833"/>
                </a:cubicBezTo>
                <a:cubicBezTo>
                  <a:pt x="14775" y="14820"/>
                  <a:pt x="14955" y="14828"/>
                  <a:pt x="15106" y="14808"/>
                </a:cubicBezTo>
                <a:cubicBezTo>
                  <a:pt x="15114" y="14808"/>
                  <a:pt x="15123" y="14808"/>
                  <a:pt x="15131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br>
              <a:rPr sz="4800"/>
            </a:b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Divisor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Dividend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Quotient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Annex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Where in life will you have to divide decimals?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51120" y="2152800"/>
            <a:ext cx="2633760" cy="758520"/>
          </a:xfrm>
          <a:custGeom>
            <a:avLst/>
            <a:gdLst/>
            <a:ahLst/>
            <a:rect l="l" t="t" r="r" b="b"/>
            <a:pathLst>
              <a:path w="7318" h="2109">
                <a:moveTo>
                  <a:pt x="7640" y="6325"/>
                </a:moveTo>
                <a:cubicBezTo>
                  <a:pt x="7699" y="6490"/>
                  <a:pt x="7737" y="6628"/>
                  <a:pt x="7714" y="6796"/>
                </a:cubicBezTo>
              </a:path>
              <a:path w="7318" h="2109">
                <a:moveTo>
                  <a:pt x="13593" y="6003"/>
                </a:moveTo>
                <a:cubicBezTo>
                  <a:pt x="13593" y="5995"/>
                  <a:pt x="13593" y="5986"/>
                  <a:pt x="13593" y="5978"/>
                </a:cubicBezTo>
              </a:path>
              <a:path w="7318" h="2109">
                <a:moveTo>
                  <a:pt x="13593" y="5978"/>
                </a:moveTo>
                <a:lnTo>
                  <a:pt x="13593" y="5978"/>
                </a:lnTo>
              </a:path>
              <a:path w="7318" h="2109">
                <a:moveTo>
                  <a:pt x="14288" y="6400"/>
                </a:moveTo>
                <a:cubicBezTo>
                  <a:pt x="14306" y="6510"/>
                  <a:pt x="14287" y="6533"/>
                  <a:pt x="14337" y="6573"/>
                </a:cubicBezTo>
              </a:path>
              <a:path w="7318" h="2109">
                <a:moveTo>
                  <a:pt x="14337" y="6573"/>
                </a:moveTo>
                <a:lnTo>
                  <a:pt x="14337" y="6573"/>
                </a:lnTo>
              </a:path>
              <a:path w="7318" h="2109">
                <a:moveTo>
                  <a:pt x="14312" y="6028"/>
                </a:moveTo>
                <a:lnTo>
                  <a:pt x="14312" y="6028"/>
                </a:lnTo>
              </a:path>
              <a:path w="7318" h="2109">
                <a:moveTo>
                  <a:pt x="14957" y="5978"/>
                </a:moveTo>
                <a:lnTo>
                  <a:pt x="14957" y="5978"/>
                </a:lnTo>
                <a:lnTo>
                  <a:pt x="14957" y="5978"/>
                </a:lnTo>
              </a:path>
              <a:path w="7318" h="2109">
                <a:moveTo>
                  <a:pt x="14957" y="5978"/>
                </a:moveTo>
                <a:lnTo>
                  <a:pt x="14957" y="5978"/>
                </a:lnTo>
              </a:path>
              <a:path w="7318" h="2109">
                <a:moveTo>
                  <a:pt x="8806" y="7665"/>
                </a:moveTo>
                <a:cubicBezTo>
                  <a:pt x="8820" y="7711"/>
                  <a:pt x="9021" y="8201"/>
                  <a:pt x="8830" y="8012"/>
                </a:cubicBezTo>
              </a:path>
              <a:path w="7318" h="2109">
                <a:moveTo>
                  <a:pt x="11559" y="7317"/>
                </a:moveTo>
                <a:cubicBezTo>
                  <a:pt x="11628" y="7530"/>
                  <a:pt x="11705" y="7741"/>
                  <a:pt x="11733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62120" y="2295360"/>
            <a:ext cx="312840" cy="204840"/>
          </a:xfrm>
          <a:custGeom>
            <a:avLst/>
            <a:gdLst/>
            <a:ahLst/>
            <a:rect l="l" t="t" r="r" b="b"/>
            <a:pathLst>
              <a:path w="869" h="571">
                <a:moveTo>
                  <a:pt x="7392" y="6375"/>
                </a:moveTo>
                <a:cubicBezTo>
                  <a:pt x="7445" y="6548"/>
                  <a:pt x="7441" y="6714"/>
                  <a:pt x="7441" y="6896"/>
                </a:cubicBezTo>
                <a:cubicBezTo>
                  <a:pt x="7441" y="6945"/>
                  <a:pt x="7441" y="6961"/>
                  <a:pt x="7441" y="6896"/>
                </a:cubicBezTo>
              </a:path>
              <a:path w="869" h="571">
                <a:moveTo>
                  <a:pt x="7119" y="6623"/>
                </a:moveTo>
                <a:cubicBezTo>
                  <a:pt x="7353" y="6615"/>
                  <a:pt x="7609" y="6540"/>
                  <a:pt x="7838" y="6548"/>
                </a:cubicBezTo>
                <a:cubicBezTo>
                  <a:pt x="7846" y="6556"/>
                  <a:pt x="7855" y="6565"/>
                  <a:pt x="7863" y="6573"/>
                </a:cubicBezTo>
              </a:path>
              <a:path w="869" h="571">
                <a:moveTo>
                  <a:pt x="7268" y="6772"/>
                </a:moveTo>
                <a:cubicBezTo>
                  <a:pt x="7499" y="6738"/>
                  <a:pt x="7731" y="6690"/>
                  <a:pt x="7962" y="6672"/>
                </a:cubicBezTo>
                <a:cubicBezTo>
                  <a:pt x="7970" y="6672"/>
                  <a:pt x="7979" y="6672"/>
                  <a:pt x="7987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71880" y="2303640"/>
            <a:ext cx="563400" cy="607680"/>
          </a:xfrm>
          <a:custGeom>
            <a:avLst/>
            <a:gdLst/>
            <a:ahLst/>
            <a:rect l="l" t="t" r="r" b="b"/>
            <a:pathLst>
              <a:path w="1564" h="1687">
                <a:moveTo>
                  <a:pt x="8806" y="6400"/>
                </a:moveTo>
                <a:cubicBezTo>
                  <a:pt x="8903" y="6400"/>
                  <a:pt x="8930" y="6426"/>
                  <a:pt x="8930" y="6548"/>
                </a:cubicBezTo>
                <a:cubicBezTo>
                  <a:pt x="8930" y="6648"/>
                  <a:pt x="8875" y="6717"/>
                  <a:pt x="8930" y="6772"/>
                </a:cubicBezTo>
                <a:cubicBezTo>
                  <a:pt x="9024" y="6641"/>
                  <a:pt x="9043" y="6615"/>
                  <a:pt x="9054" y="6449"/>
                </a:cubicBezTo>
                <a:cubicBezTo>
                  <a:pt x="9080" y="6628"/>
                  <a:pt x="9212" y="6794"/>
                  <a:pt x="9203" y="6995"/>
                </a:cubicBezTo>
                <a:cubicBezTo>
                  <a:pt x="9194" y="7179"/>
                  <a:pt x="8744" y="7428"/>
                  <a:pt x="8682" y="7193"/>
                </a:cubicBezTo>
                <a:cubicBezTo>
                  <a:pt x="8698" y="7144"/>
                  <a:pt x="8715" y="7094"/>
                  <a:pt x="8731" y="7045"/>
                </a:cubicBezTo>
              </a:path>
              <a:path w="1564" h="1687">
                <a:moveTo>
                  <a:pt x="9451" y="6400"/>
                </a:moveTo>
                <a:cubicBezTo>
                  <a:pt x="9331" y="6518"/>
                  <a:pt x="9291" y="6632"/>
                  <a:pt x="9302" y="6796"/>
                </a:cubicBezTo>
                <a:cubicBezTo>
                  <a:pt x="9415" y="6763"/>
                  <a:pt x="9712" y="6592"/>
                  <a:pt x="9475" y="6449"/>
                </a:cubicBezTo>
                <a:cubicBezTo>
                  <a:pt x="9442" y="6449"/>
                  <a:pt x="9409" y="6449"/>
                  <a:pt x="9376" y="6449"/>
                </a:cubicBezTo>
              </a:path>
              <a:path w="1564" h="1687">
                <a:moveTo>
                  <a:pt x="9674" y="6449"/>
                </a:moveTo>
                <a:cubicBezTo>
                  <a:pt x="9696" y="6554"/>
                  <a:pt x="9698" y="6747"/>
                  <a:pt x="9798" y="6796"/>
                </a:cubicBezTo>
                <a:cubicBezTo>
                  <a:pt x="9904" y="6681"/>
                  <a:pt x="9913" y="6610"/>
                  <a:pt x="9947" y="6449"/>
                </a:cubicBezTo>
                <a:cubicBezTo>
                  <a:pt x="9947" y="6561"/>
                  <a:pt x="9921" y="6699"/>
                  <a:pt x="9996" y="6796"/>
                </a:cubicBezTo>
                <a:cubicBezTo>
                  <a:pt x="10029" y="6813"/>
                  <a:pt x="10063" y="6829"/>
                  <a:pt x="10096" y="6846"/>
                </a:cubicBezTo>
              </a:path>
              <a:path w="1564" h="1687">
                <a:moveTo>
                  <a:pt x="8533" y="7541"/>
                </a:moveTo>
                <a:cubicBezTo>
                  <a:pt x="8552" y="7711"/>
                  <a:pt x="8576" y="7900"/>
                  <a:pt x="8632" y="8062"/>
                </a:cubicBezTo>
                <a:cubicBezTo>
                  <a:pt x="8666" y="8095"/>
                  <a:pt x="8675" y="8090"/>
                  <a:pt x="8657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29040" y="2286000"/>
            <a:ext cx="393840" cy="46512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1212" y="6573"/>
                </a:moveTo>
                <a:cubicBezTo>
                  <a:pt x="11212" y="6460"/>
                  <a:pt x="11153" y="6463"/>
                  <a:pt x="11063" y="6424"/>
                </a:cubicBezTo>
                <a:cubicBezTo>
                  <a:pt x="10972" y="6568"/>
                  <a:pt x="10876" y="6679"/>
                  <a:pt x="10939" y="6846"/>
                </a:cubicBezTo>
                <a:cubicBezTo>
                  <a:pt x="11062" y="6768"/>
                  <a:pt x="11115" y="6714"/>
                  <a:pt x="11212" y="6598"/>
                </a:cubicBezTo>
                <a:cubicBezTo>
                  <a:pt x="11212" y="6691"/>
                  <a:pt x="11269" y="6787"/>
                  <a:pt x="11385" y="6772"/>
                </a:cubicBezTo>
                <a:cubicBezTo>
                  <a:pt x="11548" y="6750"/>
                  <a:pt x="11458" y="6519"/>
                  <a:pt x="11534" y="6747"/>
                </a:cubicBezTo>
                <a:cubicBezTo>
                  <a:pt x="11534" y="6622"/>
                  <a:pt x="11525" y="6498"/>
                  <a:pt x="11559" y="6375"/>
                </a:cubicBezTo>
                <a:cubicBezTo>
                  <a:pt x="11582" y="6291"/>
                  <a:pt x="11769" y="6396"/>
                  <a:pt x="11782" y="6400"/>
                </a:cubicBezTo>
              </a:path>
              <a:path w="1092" h="1291">
                <a:moveTo>
                  <a:pt x="11807" y="6548"/>
                </a:moveTo>
                <a:cubicBezTo>
                  <a:pt x="11902" y="6517"/>
                  <a:pt x="11950" y="6458"/>
                  <a:pt x="12005" y="6375"/>
                </a:cubicBezTo>
                <a:cubicBezTo>
                  <a:pt x="11871" y="6389"/>
                  <a:pt x="11708" y="6453"/>
                  <a:pt x="11708" y="6623"/>
                </a:cubicBezTo>
                <a:cubicBezTo>
                  <a:pt x="11763" y="6707"/>
                  <a:pt x="11792" y="6731"/>
                  <a:pt x="11881" y="6697"/>
                </a:cubicBezTo>
              </a:path>
              <a:path w="1092" h="1291">
                <a:moveTo>
                  <a:pt x="11410" y="7640"/>
                </a:moveTo>
                <a:cubicBezTo>
                  <a:pt x="11599" y="7611"/>
                  <a:pt x="11790" y="7575"/>
                  <a:pt x="11981" y="7565"/>
                </a:cubicBezTo>
                <a:cubicBezTo>
                  <a:pt x="11989" y="7565"/>
                  <a:pt x="11997" y="7565"/>
                  <a:pt x="12005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0000" y="2089080"/>
            <a:ext cx="1062000" cy="438120"/>
          </a:xfrm>
          <a:custGeom>
            <a:avLst/>
            <a:gdLst/>
            <a:ahLst/>
            <a:rect l="l" t="t" r="r" b="b"/>
            <a:pathLst>
              <a:path w="2952" h="1217">
                <a:moveTo>
                  <a:pt x="13419" y="6449"/>
                </a:moveTo>
                <a:cubicBezTo>
                  <a:pt x="13372" y="6346"/>
                  <a:pt x="13333" y="6299"/>
                  <a:pt x="13246" y="6226"/>
                </a:cubicBezTo>
                <a:cubicBezTo>
                  <a:pt x="13061" y="6330"/>
                  <a:pt x="13009" y="6428"/>
                  <a:pt x="13022" y="6648"/>
                </a:cubicBezTo>
                <a:cubicBezTo>
                  <a:pt x="13312" y="6612"/>
                  <a:pt x="13267" y="6603"/>
                  <a:pt x="13444" y="6350"/>
                </a:cubicBezTo>
              </a:path>
              <a:path w="2952" h="1217">
                <a:moveTo>
                  <a:pt x="13221" y="5804"/>
                </a:moveTo>
                <a:cubicBezTo>
                  <a:pt x="13310" y="6038"/>
                  <a:pt x="13356" y="6287"/>
                  <a:pt x="13444" y="6524"/>
                </a:cubicBezTo>
                <a:cubicBezTo>
                  <a:pt x="13472" y="6579"/>
                  <a:pt x="13487" y="6595"/>
                  <a:pt x="13543" y="6573"/>
                </a:cubicBezTo>
              </a:path>
              <a:path w="2952" h="1217">
                <a:moveTo>
                  <a:pt x="13667" y="6226"/>
                </a:moveTo>
                <a:cubicBezTo>
                  <a:pt x="13667" y="6361"/>
                  <a:pt x="13663" y="6478"/>
                  <a:pt x="13717" y="6598"/>
                </a:cubicBezTo>
              </a:path>
              <a:path w="2952" h="1217">
                <a:moveTo>
                  <a:pt x="13816" y="6152"/>
                </a:moveTo>
                <a:cubicBezTo>
                  <a:pt x="13842" y="6307"/>
                  <a:pt x="13898" y="6443"/>
                  <a:pt x="13990" y="6573"/>
                </a:cubicBezTo>
                <a:cubicBezTo>
                  <a:pt x="13998" y="6581"/>
                  <a:pt x="14007" y="6590"/>
                  <a:pt x="14015" y="6598"/>
                </a:cubicBezTo>
                <a:cubicBezTo>
                  <a:pt x="14075" y="6460"/>
                  <a:pt x="14068" y="6319"/>
                  <a:pt x="14114" y="6176"/>
                </a:cubicBezTo>
                <a:cubicBezTo>
                  <a:pt x="14122" y="6160"/>
                  <a:pt x="14131" y="6143"/>
                  <a:pt x="14139" y="6127"/>
                </a:cubicBezTo>
              </a:path>
              <a:path w="2952" h="1217">
                <a:moveTo>
                  <a:pt x="14709" y="6251"/>
                </a:moveTo>
                <a:cubicBezTo>
                  <a:pt x="14709" y="6138"/>
                  <a:pt x="14637" y="6089"/>
                  <a:pt x="14560" y="6226"/>
                </a:cubicBezTo>
                <a:cubicBezTo>
                  <a:pt x="14514" y="6365"/>
                  <a:pt x="14500" y="6405"/>
                  <a:pt x="14486" y="6499"/>
                </a:cubicBezTo>
                <a:cubicBezTo>
                  <a:pt x="14718" y="6595"/>
                  <a:pt x="14706" y="6320"/>
                  <a:pt x="14684" y="6127"/>
                </a:cubicBezTo>
                <a:cubicBezTo>
                  <a:pt x="14671" y="6010"/>
                  <a:pt x="14625" y="5920"/>
                  <a:pt x="14560" y="5829"/>
                </a:cubicBezTo>
                <a:cubicBezTo>
                  <a:pt x="14627" y="5986"/>
                  <a:pt x="14659" y="6160"/>
                  <a:pt x="14709" y="6325"/>
                </a:cubicBezTo>
                <a:cubicBezTo>
                  <a:pt x="14748" y="6442"/>
                  <a:pt x="14750" y="6461"/>
                  <a:pt x="14784" y="6524"/>
                </a:cubicBezTo>
              </a:path>
              <a:path w="2952" h="1217">
                <a:moveTo>
                  <a:pt x="14957" y="6276"/>
                </a:moveTo>
                <a:cubicBezTo>
                  <a:pt x="14957" y="6359"/>
                  <a:pt x="14957" y="6441"/>
                  <a:pt x="14957" y="6524"/>
                </a:cubicBezTo>
              </a:path>
              <a:path w="2952" h="1217">
                <a:moveTo>
                  <a:pt x="15205" y="6375"/>
                </a:moveTo>
                <a:cubicBezTo>
                  <a:pt x="15205" y="6462"/>
                  <a:pt x="15194" y="6582"/>
                  <a:pt x="15230" y="6449"/>
                </a:cubicBezTo>
                <a:cubicBezTo>
                  <a:pt x="15262" y="6331"/>
                  <a:pt x="15266" y="6251"/>
                  <a:pt x="15329" y="6152"/>
                </a:cubicBezTo>
                <a:cubicBezTo>
                  <a:pt x="15518" y="6260"/>
                  <a:pt x="15458" y="6414"/>
                  <a:pt x="15553" y="6573"/>
                </a:cubicBezTo>
                <a:cubicBezTo>
                  <a:pt x="15578" y="6590"/>
                  <a:pt x="15602" y="6606"/>
                  <a:pt x="15627" y="6623"/>
                </a:cubicBezTo>
              </a:path>
              <a:path w="2952" h="1217">
                <a:moveTo>
                  <a:pt x="15875" y="6176"/>
                </a:moveTo>
                <a:cubicBezTo>
                  <a:pt x="15745" y="6299"/>
                  <a:pt x="15688" y="6382"/>
                  <a:pt x="15627" y="6548"/>
                </a:cubicBezTo>
                <a:cubicBezTo>
                  <a:pt x="15761" y="6638"/>
                  <a:pt x="15789" y="6404"/>
                  <a:pt x="15825" y="6276"/>
                </a:cubicBezTo>
                <a:cubicBezTo>
                  <a:pt x="15881" y="6423"/>
                  <a:pt x="15954" y="6665"/>
                  <a:pt x="15949" y="6821"/>
                </a:cubicBezTo>
                <a:cubicBezTo>
                  <a:pt x="15940" y="7110"/>
                  <a:pt x="15668" y="6995"/>
                  <a:pt x="15528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9760" y="2081160"/>
            <a:ext cx="322200" cy="419040"/>
          </a:xfrm>
          <a:custGeom>
            <a:avLst/>
            <a:gdLst/>
            <a:ahLst/>
            <a:rect l="l" t="t" r="r" b="b"/>
            <a:pathLst>
              <a:path w="894" h="1167">
                <a:moveTo>
                  <a:pt x="16917" y="5779"/>
                </a:moveTo>
                <a:cubicBezTo>
                  <a:pt x="16917" y="6022"/>
                  <a:pt x="16920" y="6258"/>
                  <a:pt x="16942" y="6499"/>
                </a:cubicBezTo>
                <a:cubicBezTo>
                  <a:pt x="16942" y="6631"/>
                  <a:pt x="16959" y="6292"/>
                  <a:pt x="16991" y="6251"/>
                </a:cubicBezTo>
                <a:cubicBezTo>
                  <a:pt x="17126" y="6078"/>
                  <a:pt x="17219" y="6347"/>
                  <a:pt x="17264" y="6424"/>
                </a:cubicBezTo>
                <a:cubicBezTo>
                  <a:pt x="17138" y="6562"/>
                  <a:pt x="17064" y="6586"/>
                  <a:pt x="16942" y="6449"/>
                </a:cubicBezTo>
              </a:path>
              <a:path w="894" h="1167">
                <a:moveTo>
                  <a:pt x="17413" y="6176"/>
                </a:moveTo>
                <a:cubicBezTo>
                  <a:pt x="17413" y="6317"/>
                  <a:pt x="17400" y="6423"/>
                  <a:pt x="17487" y="6524"/>
                </a:cubicBezTo>
                <a:cubicBezTo>
                  <a:pt x="17663" y="6419"/>
                  <a:pt x="17665" y="6355"/>
                  <a:pt x="17686" y="6127"/>
                </a:cubicBezTo>
                <a:cubicBezTo>
                  <a:pt x="17702" y="6315"/>
                  <a:pt x="17832" y="6573"/>
                  <a:pt x="17810" y="6747"/>
                </a:cubicBezTo>
                <a:cubicBezTo>
                  <a:pt x="17782" y="6971"/>
                  <a:pt x="17552" y="6921"/>
                  <a:pt x="17413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17920" y="2660760"/>
            <a:ext cx="3036960" cy="214200"/>
          </a:xfrm>
          <a:custGeom>
            <a:avLst/>
            <a:gdLst/>
            <a:ahLst/>
            <a:rect l="l" t="t" r="r" b="b"/>
            <a:pathLst>
              <a:path w="8435" h="596">
                <a:moveTo>
                  <a:pt x="9773" y="7789"/>
                </a:moveTo>
                <a:cubicBezTo>
                  <a:pt x="10013" y="7802"/>
                  <a:pt x="10345" y="7855"/>
                  <a:pt x="10542" y="7665"/>
                </a:cubicBezTo>
                <a:cubicBezTo>
                  <a:pt x="10550" y="7640"/>
                  <a:pt x="10559" y="7615"/>
                  <a:pt x="10567" y="7590"/>
                </a:cubicBezTo>
              </a:path>
              <a:path w="8435" h="596">
                <a:moveTo>
                  <a:pt x="12601" y="7590"/>
                </a:moveTo>
                <a:cubicBezTo>
                  <a:pt x="12616" y="7689"/>
                  <a:pt x="12604" y="7915"/>
                  <a:pt x="12700" y="7962"/>
                </a:cubicBezTo>
              </a:path>
              <a:path w="8435" h="596">
                <a:moveTo>
                  <a:pt x="12477" y="7417"/>
                </a:moveTo>
                <a:cubicBezTo>
                  <a:pt x="12485" y="7417"/>
                  <a:pt x="12494" y="7417"/>
                  <a:pt x="12502" y="7417"/>
                </a:cubicBezTo>
              </a:path>
              <a:path w="8435" h="596">
                <a:moveTo>
                  <a:pt x="12502" y="7417"/>
                </a:moveTo>
                <a:lnTo>
                  <a:pt x="12502" y="7417"/>
                </a:lnTo>
              </a:path>
              <a:path w="8435" h="596">
                <a:moveTo>
                  <a:pt x="14932" y="7714"/>
                </a:moveTo>
                <a:cubicBezTo>
                  <a:pt x="14937" y="7810"/>
                  <a:pt x="14945" y="7892"/>
                  <a:pt x="14957" y="7987"/>
                </a:cubicBezTo>
              </a:path>
              <a:path w="8435" h="596">
                <a:moveTo>
                  <a:pt x="14908" y="7516"/>
                </a:moveTo>
                <a:cubicBezTo>
                  <a:pt x="14900" y="7508"/>
                  <a:pt x="14891" y="7499"/>
                  <a:pt x="14883" y="7491"/>
                </a:cubicBezTo>
              </a:path>
              <a:path w="8435" h="596">
                <a:moveTo>
                  <a:pt x="14883" y="7491"/>
                </a:moveTo>
                <a:lnTo>
                  <a:pt x="14883" y="7491"/>
                </a:lnTo>
              </a:path>
              <a:path w="8435" h="596">
                <a:moveTo>
                  <a:pt x="18157" y="7640"/>
                </a:moveTo>
                <a:cubicBezTo>
                  <a:pt x="18200" y="7746"/>
                  <a:pt x="18216" y="7767"/>
                  <a:pt x="18207" y="7838"/>
                </a:cubicBezTo>
              </a:path>
              <a:path w="8435" h="596">
                <a:moveTo>
                  <a:pt x="18182" y="7392"/>
                </a:moveTo>
                <a:lnTo>
                  <a:pt x="18182" y="7392"/>
                </a:lnTo>
                <a:lnTo>
                  <a:pt x="18182" y="7392"/>
                </a:lnTo>
              </a:path>
              <a:path w="8435" h="596">
                <a:moveTo>
                  <a:pt x="18182" y="7392"/>
                </a:moveTo>
                <a:lnTo>
                  <a:pt x="18182" y="739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90880" y="2786040"/>
            <a:ext cx="322200" cy="98280"/>
          </a:xfrm>
          <a:custGeom>
            <a:avLst/>
            <a:gdLst/>
            <a:ahLst/>
            <a:rect l="l" t="t" r="r" b="b"/>
            <a:pathLst>
              <a:path w="894" h="274">
                <a:moveTo>
                  <a:pt x="8310" y="7838"/>
                </a:moveTo>
                <a:cubicBezTo>
                  <a:pt x="8516" y="7808"/>
                  <a:pt x="8855" y="7711"/>
                  <a:pt x="8979" y="7789"/>
                </a:cubicBezTo>
              </a:path>
              <a:path w="894" h="274">
                <a:moveTo>
                  <a:pt x="8706" y="8012"/>
                </a:moveTo>
                <a:cubicBezTo>
                  <a:pt x="8873" y="7990"/>
                  <a:pt x="9035" y="7970"/>
                  <a:pt x="9203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25920" y="2660760"/>
            <a:ext cx="509400" cy="277560"/>
          </a:xfrm>
          <a:custGeom>
            <a:avLst/>
            <a:gdLst/>
            <a:ahLst/>
            <a:rect l="l" t="t" r="r" b="b"/>
            <a:pathLst>
              <a:path w="1415" h="770">
                <a:moveTo>
                  <a:pt x="10071" y="7466"/>
                </a:moveTo>
                <a:cubicBezTo>
                  <a:pt x="10127" y="7670"/>
                  <a:pt x="10182" y="7874"/>
                  <a:pt x="10195" y="8086"/>
                </a:cubicBezTo>
                <a:cubicBezTo>
                  <a:pt x="10195" y="8094"/>
                  <a:pt x="10195" y="8103"/>
                  <a:pt x="10195" y="8111"/>
                </a:cubicBezTo>
              </a:path>
              <a:path w="1415" h="770">
                <a:moveTo>
                  <a:pt x="10393" y="7392"/>
                </a:moveTo>
                <a:cubicBezTo>
                  <a:pt x="10474" y="7594"/>
                  <a:pt x="10539" y="7801"/>
                  <a:pt x="10592" y="8012"/>
                </a:cubicBezTo>
                <a:cubicBezTo>
                  <a:pt x="10573" y="7861"/>
                  <a:pt x="10566" y="7794"/>
                  <a:pt x="10641" y="7665"/>
                </a:cubicBezTo>
                <a:cubicBezTo>
                  <a:pt x="10808" y="7723"/>
                  <a:pt x="10940" y="7772"/>
                  <a:pt x="10914" y="7987"/>
                </a:cubicBezTo>
                <a:cubicBezTo>
                  <a:pt x="10906" y="8004"/>
                  <a:pt x="10897" y="8020"/>
                  <a:pt x="10889" y="8037"/>
                </a:cubicBezTo>
              </a:path>
              <a:path w="1415" h="770">
                <a:moveTo>
                  <a:pt x="11261" y="7838"/>
                </a:moveTo>
                <a:cubicBezTo>
                  <a:pt x="11252" y="7717"/>
                  <a:pt x="11278" y="7741"/>
                  <a:pt x="11187" y="7689"/>
                </a:cubicBezTo>
                <a:cubicBezTo>
                  <a:pt x="11024" y="7840"/>
                  <a:pt x="10977" y="7942"/>
                  <a:pt x="10988" y="8161"/>
                </a:cubicBezTo>
                <a:cubicBezTo>
                  <a:pt x="11184" y="8104"/>
                  <a:pt x="11244" y="8023"/>
                  <a:pt x="11286" y="7813"/>
                </a:cubicBezTo>
                <a:cubicBezTo>
                  <a:pt x="11331" y="7931"/>
                  <a:pt x="11382" y="7993"/>
                  <a:pt x="11485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53000" y="2697120"/>
            <a:ext cx="98280" cy="16056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3022" y="7491"/>
                </a:moveTo>
                <a:cubicBezTo>
                  <a:pt x="13002" y="7541"/>
                  <a:pt x="12965" y="7573"/>
                  <a:pt x="12923" y="7615"/>
                </a:cubicBezTo>
                <a:cubicBezTo>
                  <a:pt x="12947" y="7711"/>
                  <a:pt x="13077" y="7703"/>
                  <a:pt x="13146" y="7764"/>
                </a:cubicBezTo>
                <a:cubicBezTo>
                  <a:pt x="13328" y="7924"/>
                  <a:pt x="13032" y="7934"/>
                  <a:pt x="1294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6120" y="2633760"/>
            <a:ext cx="374760" cy="268200"/>
          </a:xfrm>
          <a:custGeom>
            <a:avLst/>
            <a:gdLst/>
            <a:ahLst/>
            <a:rect l="l" t="t" r="r" b="b"/>
            <a:pathLst>
              <a:path w="1042" h="746">
                <a:moveTo>
                  <a:pt x="13767" y="7317"/>
                </a:moveTo>
                <a:cubicBezTo>
                  <a:pt x="13846" y="7530"/>
                  <a:pt x="13927" y="7745"/>
                  <a:pt x="13990" y="7962"/>
                </a:cubicBezTo>
                <a:cubicBezTo>
                  <a:pt x="13990" y="7992"/>
                  <a:pt x="13952" y="7781"/>
                  <a:pt x="14015" y="7714"/>
                </a:cubicBezTo>
                <a:cubicBezTo>
                  <a:pt x="14246" y="7469"/>
                  <a:pt x="14346" y="7828"/>
                  <a:pt x="14337" y="7987"/>
                </a:cubicBezTo>
                <a:cubicBezTo>
                  <a:pt x="14160" y="8037"/>
                  <a:pt x="14137" y="8019"/>
                  <a:pt x="13965" y="7938"/>
                </a:cubicBezTo>
              </a:path>
              <a:path w="1042" h="746">
                <a:moveTo>
                  <a:pt x="14560" y="7764"/>
                </a:moveTo>
                <a:cubicBezTo>
                  <a:pt x="14650" y="7764"/>
                  <a:pt x="14721" y="7769"/>
                  <a:pt x="14808" y="7789"/>
                </a:cubicBezTo>
                <a:cubicBezTo>
                  <a:pt x="14722" y="7701"/>
                  <a:pt x="14661" y="7624"/>
                  <a:pt x="14560" y="7565"/>
                </a:cubicBezTo>
                <a:cubicBezTo>
                  <a:pt x="14498" y="7709"/>
                  <a:pt x="14414" y="7922"/>
                  <a:pt x="14585" y="8037"/>
                </a:cubicBezTo>
                <a:cubicBezTo>
                  <a:pt x="14694" y="8065"/>
                  <a:pt x="14737" y="8069"/>
                  <a:pt x="14808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83160" y="2724120"/>
            <a:ext cx="312840" cy="339840"/>
          </a:xfrm>
          <a:custGeom>
            <a:avLst/>
            <a:gdLst/>
            <a:ahLst/>
            <a:rect l="l" t="t" r="r" b="b"/>
            <a:pathLst>
              <a:path w="869" h="944">
                <a:moveTo>
                  <a:pt x="15230" y="7813"/>
                </a:moveTo>
                <a:cubicBezTo>
                  <a:pt x="15251" y="7897"/>
                  <a:pt x="15252" y="7917"/>
                  <a:pt x="15280" y="7962"/>
                </a:cubicBezTo>
                <a:cubicBezTo>
                  <a:pt x="15280" y="8035"/>
                  <a:pt x="15255" y="7765"/>
                  <a:pt x="15255" y="7764"/>
                </a:cubicBezTo>
                <a:cubicBezTo>
                  <a:pt x="15274" y="7687"/>
                  <a:pt x="15267" y="7670"/>
                  <a:pt x="15304" y="7640"/>
                </a:cubicBezTo>
                <a:cubicBezTo>
                  <a:pt x="15511" y="7758"/>
                  <a:pt x="15483" y="7825"/>
                  <a:pt x="15577" y="8012"/>
                </a:cubicBezTo>
                <a:cubicBezTo>
                  <a:pt x="15585" y="8012"/>
                  <a:pt x="15594" y="8012"/>
                  <a:pt x="15602" y="8012"/>
                </a:cubicBezTo>
              </a:path>
              <a:path w="869" h="944">
                <a:moveTo>
                  <a:pt x="15900" y="7565"/>
                </a:moveTo>
                <a:cubicBezTo>
                  <a:pt x="15861" y="7605"/>
                  <a:pt x="15573" y="7893"/>
                  <a:pt x="15751" y="7938"/>
                </a:cubicBezTo>
                <a:cubicBezTo>
                  <a:pt x="15860" y="7965"/>
                  <a:pt x="15900" y="7726"/>
                  <a:pt x="15925" y="7665"/>
                </a:cubicBezTo>
                <a:cubicBezTo>
                  <a:pt x="15925" y="7824"/>
                  <a:pt x="16000" y="7964"/>
                  <a:pt x="16049" y="8111"/>
                </a:cubicBezTo>
                <a:cubicBezTo>
                  <a:pt x="16129" y="8348"/>
                  <a:pt x="16071" y="8528"/>
                  <a:pt x="15776" y="8508"/>
                </a:cubicBezTo>
                <a:cubicBezTo>
                  <a:pt x="15625" y="8464"/>
                  <a:pt x="15577" y="8469"/>
                  <a:pt x="15553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56200" y="2751120"/>
            <a:ext cx="169920" cy="1778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6942" y="7813"/>
                </a:moveTo>
                <a:cubicBezTo>
                  <a:pt x="16953" y="7706"/>
                  <a:pt x="16882" y="7592"/>
                  <a:pt x="16743" y="7665"/>
                </a:cubicBezTo>
                <a:cubicBezTo>
                  <a:pt x="16576" y="7753"/>
                  <a:pt x="16411" y="8202"/>
                  <a:pt x="16743" y="8136"/>
                </a:cubicBezTo>
                <a:cubicBezTo>
                  <a:pt x="16923" y="8033"/>
                  <a:pt x="16985" y="7994"/>
                  <a:pt x="17016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23040" y="269712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7562" y="7516"/>
                </a:moveTo>
                <a:cubicBezTo>
                  <a:pt x="17617" y="7645"/>
                  <a:pt x="17724" y="7770"/>
                  <a:pt x="17810" y="7888"/>
                </a:cubicBezTo>
                <a:cubicBezTo>
                  <a:pt x="17884" y="7785"/>
                  <a:pt x="17947" y="7671"/>
                  <a:pt x="17959" y="7541"/>
                </a:cubicBezTo>
                <a:cubicBezTo>
                  <a:pt x="17959" y="7524"/>
                  <a:pt x="17959" y="7508"/>
                  <a:pt x="17959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70800" y="2509920"/>
            <a:ext cx="536400" cy="330120"/>
          </a:xfrm>
          <a:custGeom>
            <a:avLst/>
            <a:gdLst/>
            <a:ahLst/>
            <a:rect l="l" t="t" r="r" b="b"/>
            <a:pathLst>
              <a:path w="1489" h="919">
                <a:moveTo>
                  <a:pt x="18852" y="7565"/>
                </a:moveTo>
                <a:cubicBezTo>
                  <a:pt x="18773" y="7508"/>
                  <a:pt x="18669" y="7534"/>
                  <a:pt x="18604" y="7615"/>
                </a:cubicBezTo>
                <a:cubicBezTo>
                  <a:pt x="18539" y="7745"/>
                  <a:pt x="18508" y="7773"/>
                  <a:pt x="18554" y="7863"/>
                </a:cubicBezTo>
                <a:cubicBezTo>
                  <a:pt x="18778" y="7876"/>
                  <a:pt x="18730" y="7864"/>
                  <a:pt x="18852" y="7665"/>
                </a:cubicBezTo>
              </a:path>
              <a:path w="1489" h="919">
                <a:moveTo>
                  <a:pt x="18728" y="7169"/>
                </a:moveTo>
                <a:cubicBezTo>
                  <a:pt x="18751" y="7355"/>
                  <a:pt x="18784" y="7557"/>
                  <a:pt x="18827" y="7739"/>
                </a:cubicBezTo>
                <a:cubicBezTo>
                  <a:pt x="18864" y="7896"/>
                  <a:pt x="18956" y="7755"/>
                  <a:pt x="19000" y="7714"/>
                </a:cubicBezTo>
              </a:path>
              <a:path w="1489" h="919">
                <a:moveTo>
                  <a:pt x="19124" y="7565"/>
                </a:moveTo>
                <a:cubicBezTo>
                  <a:pt x="19192" y="7560"/>
                  <a:pt x="19255" y="7550"/>
                  <a:pt x="19323" y="7541"/>
                </a:cubicBezTo>
                <a:cubicBezTo>
                  <a:pt x="19323" y="7463"/>
                  <a:pt x="19332" y="7427"/>
                  <a:pt x="19248" y="7417"/>
                </a:cubicBezTo>
                <a:cubicBezTo>
                  <a:pt x="19097" y="7399"/>
                  <a:pt x="19025" y="7594"/>
                  <a:pt x="19050" y="7714"/>
                </a:cubicBezTo>
                <a:cubicBezTo>
                  <a:pt x="19102" y="7965"/>
                  <a:pt x="19352" y="7814"/>
                  <a:pt x="19496" y="7764"/>
                </a:cubicBezTo>
              </a:path>
              <a:path w="1489" h="919">
                <a:moveTo>
                  <a:pt x="19893" y="7392"/>
                </a:moveTo>
                <a:cubicBezTo>
                  <a:pt x="19739" y="7330"/>
                  <a:pt x="19645" y="7364"/>
                  <a:pt x="19546" y="7516"/>
                </a:cubicBezTo>
                <a:cubicBezTo>
                  <a:pt x="19497" y="7638"/>
                  <a:pt x="19480" y="7677"/>
                  <a:pt x="19521" y="7764"/>
                </a:cubicBezTo>
                <a:cubicBezTo>
                  <a:pt x="19813" y="7879"/>
                  <a:pt x="19860" y="7673"/>
                  <a:pt x="20017" y="7441"/>
                </a:cubicBezTo>
              </a:path>
              <a:path w="1489" h="919">
                <a:moveTo>
                  <a:pt x="19695" y="6970"/>
                </a:moveTo>
                <a:cubicBezTo>
                  <a:pt x="19776" y="7148"/>
                  <a:pt x="19828" y="7332"/>
                  <a:pt x="19893" y="7516"/>
                </a:cubicBezTo>
                <a:cubicBezTo>
                  <a:pt x="19921" y="7596"/>
                  <a:pt x="19929" y="7689"/>
                  <a:pt x="20017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3205080"/>
            <a:ext cx="1625760" cy="287280"/>
          </a:xfrm>
          <a:custGeom>
            <a:avLst/>
            <a:gdLst/>
            <a:ahLst/>
            <a:rect l="l" t="t" r="r" b="b"/>
            <a:pathLst>
              <a:path w="4515" h="795">
                <a:moveTo>
                  <a:pt x="11683" y="9054"/>
                </a:moveTo>
                <a:cubicBezTo>
                  <a:pt x="11711" y="9054"/>
                  <a:pt x="11722" y="9052"/>
                  <a:pt x="11733" y="9029"/>
                </a:cubicBezTo>
              </a:path>
              <a:path w="4515" h="795">
                <a:moveTo>
                  <a:pt x="11733" y="9029"/>
                </a:moveTo>
                <a:cubicBezTo>
                  <a:pt x="11790" y="9248"/>
                  <a:pt x="11923" y="9482"/>
                  <a:pt x="11956" y="9699"/>
                </a:cubicBezTo>
                <a:cubicBezTo>
                  <a:pt x="11948" y="9691"/>
                  <a:pt x="11939" y="9682"/>
                  <a:pt x="11931" y="9674"/>
                </a:cubicBezTo>
              </a:path>
              <a:path w="4515" h="795">
                <a:moveTo>
                  <a:pt x="14660" y="9227"/>
                </a:moveTo>
                <a:cubicBezTo>
                  <a:pt x="14665" y="9326"/>
                  <a:pt x="14658" y="9411"/>
                  <a:pt x="14709" y="9475"/>
                </a:cubicBezTo>
              </a:path>
              <a:path w="4515" h="795">
                <a:moveTo>
                  <a:pt x="14635" y="9029"/>
                </a:moveTo>
                <a:lnTo>
                  <a:pt x="14635" y="9029"/>
                </a:lnTo>
                <a:lnTo>
                  <a:pt x="14635" y="9029"/>
                </a:lnTo>
              </a:path>
              <a:path w="4515" h="795">
                <a:moveTo>
                  <a:pt x="14635" y="9029"/>
                </a:moveTo>
                <a:lnTo>
                  <a:pt x="14635" y="9029"/>
                </a:lnTo>
              </a:path>
              <a:path w="4515" h="795">
                <a:moveTo>
                  <a:pt x="15453" y="9451"/>
                </a:moveTo>
                <a:lnTo>
                  <a:pt x="15453" y="9451"/>
                </a:lnTo>
              </a:path>
              <a:path w="4515" h="795">
                <a:moveTo>
                  <a:pt x="15404" y="8979"/>
                </a:moveTo>
                <a:cubicBezTo>
                  <a:pt x="15387" y="8979"/>
                  <a:pt x="15371" y="8979"/>
                  <a:pt x="15354" y="8979"/>
                </a:cubicBezTo>
              </a:path>
              <a:path w="4515" h="795">
                <a:moveTo>
                  <a:pt x="16148" y="9079"/>
                </a:moveTo>
                <a:cubicBezTo>
                  <a:pt x="16154" y="9192"/>
                  <a:pt x="16168" y="9291"/>
                  <a:pt x="16197" y="9401"/>
                </a:cubicBezTo>
              </a:path>
              <a:path w="4515" h="795">
                <a:moveTo>
                  <a:pt x="16123" y="8905"/>
                </a:moveTo>
                <a:cubicBezTo>
                  <a:pt x="16131" y="8905"/>
                  <a:pt x="16140" y="8905"/>
                  <a:pt x="16148" y="8905"/>
                </a:cubicBezTo>
              </a:path>
              <a:path w="4515" h="795">
                <a:moveTo>
                  <a:pt x="16148" y="8905"/>
                </a:moveTo>
                <a:lnTo>
                  <a:pt x="16148" y="890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40040" y="3357720"/>
            <a:ext cx="1071720" cy="214200"/>
          </a:xfrm>
          <a:custGeom>
            <a:avLst/>
            <a:gdLst/>
            <a:ahLst/>
            <a:rect l="l" t="t" r="r" b="b"/>
            <a:pathLst>
              <a:path w="2977" h="596">
                <a:moveTo>
                  <a:pt x="8334" y="9624"/>
                </a:moveTo>
                <a:cubicBezTo>
                  <a:pt x="8334" y="9727"/>
                  <a:pt x="8260" y="9479"/>
                  <a:pt x="8161" y="9451"/>
                </a:cubicBezTo>
                <a:cubicBezTo>
                  <a:pt x="7945" y="9390"/>
                  <a:pt x="7817" y="9711"/>
                  <a:pt x="7913" y="9872"/>
                </a:cubicBezTo>
                <a:cubicBezTo>
                  <a:pt x="8060" y="10117"/>
                  <a:pt x="8196" y="9655"/>
                  <a:pt x="8210" y="9599"/>
                </a:cubicBezTo>
                <a:cubicBezTo>
                  <a:pt x="8210" y="9566"/>
                  <a:pt x="8210" y="9533"/>
                  <a:pt x="8210" y="9500"/>
                </a:cubicBezTo>
                <a:cubicBezTo>
                  <a:pt x="8228" y="9622"/>
                  <a:pt x="8277" y="9775"/>
                  <a:pt x="8409" y="9823"/>
                </a:cubicBezTo>
                <a:cubicBezTo>
                  <a:pt x="8550" y="9874"/>
                  <a:pt x="8443" y="9481"/>
                  <a:pt x="8458" y="9575"/>
                </a:cubicBezTo>
                <a:cubicBezTo>
                  <a:pt x="8486" y="9657"/>
                  <a:pt x="8496" y="9689"/>
                  <a:pt x="8508" y="9748"/>
                </a:cubicBezTo>
                <a:cubicBezTo>
                  <a:pt x="8483" y="9600"/>
                  <a:pt x="8473" y="9563"/>
                  <a:pt x="8558" y="9451"/>
                </a:cubicBezTo>
                <a:cubicBezTo>
                  <a:pt x="8737" y="9544"/>
                  <a:pt x="8842" y="9589"/>
                  <a:pt x="8880" y="9798"/>
                </a:cubicBezTo>
              </a:path>
              <a:path w="2977" h="596">
                <a:moveTo>
                  <a:pt x="9128" y="9401"/>
                </a:moveTo>
                <a:cubicBezTo>
                  <a:pt x="9018" y="9445"/>
                  <a:pt x="8985" y="9450"/>
                  <a:pt x="8954" y="9525"/>
                </a:cubicBezTo>
                <a:cubicBezTo>
                  <a:pt x="9099" y="9590"/>
                  <a:pt x="9219" y="9617"/>
                  <a:pt x="9351" y="9723"/>
                </a:cubicBezTo>
                <a:cubicBezTo>
                  <a:pt x="9184" y="9877"/>
                  <a:pt x="9103" y="9839"/>
                  <a:pt x="8979" y="9674"/>
                </a:cubicBezTo>
              </a:path>
              <a:path w="2977" h="596">
                <a:moveTo>
                  <a:pt x="9475" y="9401"/>
                </a:moveTo>
                <a:cubicBezTo>
                  <a:pt x="9482" y="9509"/>
                  <a:pt x="9473" y="9744"/>
                  <a:pt x="9624" y="9773"/>
                </a:cubicBezTo>
                <a:cubicBezTo>
                  <a:pt x="9756" y="9798"/>
                  <a:pt x="9759" y="9584"/>
                  <a:pt x="9773" y="9525"/>
                </a:cubicBezTo>
                <a:cubicBezTo>
                  <a:pt x="9773" y="9482"/>
                  <a:pt x="9802" y="9765"/>
                  <a:pt x="9823" y="9798"/>
                </a:cubicBezTo>
                <a:cubicBezTo>
                  <a:pt x="9962" y="10012"/>
                  <a:pt x="10194" y="9707"/>
                  <a:pt x="10145" y="9550"/>
                </a:cubicBezTo>
                <a:cubicBezTo>
                  <a:pt x="10049" y="9454"/>
                  <a:pt x="10021" y="9422"/>
                  <a:pt x="9922" y="9426"/>
                </a:cubicBezTo>
              </a:path>
              <a:path w="2977" h="596">
                <a:moveTo>
                  <a:pt x="10046" y="9550"/>
                </a:moveTo>
                <a:cubicBezTo>
                  <a:pt x="10113" y="9546"/>
                  <a:pt x="10382" y="9567"/>
                  <a:pt x="10368" y="9451"/>
                </a:cubicBezTo>
                <a:cubicBezTo>
                  <a:pt x="10360" y="9434"/>
                  <a:pt x="10352" y="9418"/>
                  <a:pt x="10344" y="9401"/>
                </a:cubicBezTo>
                <a:cubicBezTo>
                  <a:pt x="10207" y="9437"/>
                  <a:pt x="9986" y="9634"/>
                  <a:pt x="10195" y="9798"/>
                </a:cubicBezTo>
                <a:cubicBezTo>
                  <a:pt x="10350" y="9919"/>
                  <a:pt x="10588" y="9731"/>
                  <a:pt x="10616" y="9575"/>
                </a:cubicBezTo>
                <a:cubicBezTo>
                  <a:pt x="10625" y="9522"/>
                  <a:pt x="10610" y="9669"/>
                  <a:pt x="10616" y="9723"/>
                </a:cubicBezTo>
                <a:cubicBezTo>
                  <a:pt x="10616" y="9587"/>
                  <a:pt x="10590" y="9487"/>
                  <a:pt x="10691" y="9376"/>
                </a:cubicBezTo>
                <a:cubicBezTo>
                  <a:pt x="10779" y="9332"/>
                  <a:pt x="10800" y="9316"/>
                  <a:pt x="10864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70240" y="3348000"/>
            <a:ext cx="366840" cy="135000"/>
          </a:xfrm>
          <a:custGeom>
            <a:avLst/>
            <a:gdLst/>
            <a:ahLst/>
            <a:rect l="l" t="t" r="r" b="b"/>
            <a:pathLst>
              <a:path w="1018" h="373">
                <a:moveTo>
                  <a:pt x="11584" y="9401"/>
                </a:moveTo>
                <a:cubicBezTo>
                  <a:pt x="11679" y="9398"/>
                  <a:pt x="12227" y="9317"/>
                  <a:pt x="12254" y="9376"/>
                </a:cubicBezTo>
                <a:cubicBezTo>
                  <a:pt x="12296" y="9468"/>
                  <a:pt x="12237" y="9557"/>
                  <a:pt x="12278" y="9649"/>
                </a:cubicBezTo>
                <a:cubicBezTo>
                  <a:pt x="12415" y="9643"/>
                  <a:pt x="12784" y="9528"/>
                  <a:pt x="12502" y="9351"/>
                </a:cubicBezTo>
                <a:cubicBezTo>
                  <a:pt x="12378" y="9327"/>
                  <a:pt x="12337" y="9319"/>
                  <a:pt x="12254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32200" y="3321000"/>
            <a:ext cx="179640" cy="1350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13370" y="9351"/>
                </a:moveTo>
                <a:cubicBezTo>
                  <a:pt x="13425" y="9333"/>
                  <a:pt x="13408" y="9281"/>
                  <a:pt x="13395" y="9227"/>
                </a:cubicBezTo>
                <a:cubicBezTo>
                  <a:pt x="13203" y="9286"/>
                  <a:pt x="13178" y="9401"/>
                  <a:pt x="13146" y="9599"/>
                </a:cubicBezTo>
                <a:cubicBezTo>
                  <a:pt x="13299" y="9552"/>
                  <a:pt x="13305" y="9533"/>
                  <a:pt x="13370" y="9376"/>
                </a:cubicBezTo>
                <a:cubicBezTo>
                  <a:pt x="13464" y="9470"/>
                  <a:pt x="13519" y="9521"/>
                  <a:pt x="13643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54760" y="3205080"/>
            <a:ext cx="179280" cy="268200"/>
          </a:xfrm>
          <a:custGeom>
            <a:avLst/>
            <a:gdLst/>
            <a:ahLst/>
            <a:rect l="l" t="t" r="r" b="b"/>
            <a:pathLst>
              <a:path w="498" h="745">
                <a:moveTo>
                  <a:pt x="14362" y="9426"/>
                </a:moveTo>
                <a:cubicBezTo>
                  <a:pt x="14413" y="9392"/>
                  <a:pt x="14384" y="9317"/>
                  <a:pt x="14362" y="9252"/>
                </a:cubicBezTo>
                <a:cubicBezTo>
                  <a:pt x="14116" y="9301"/>
                  <a:pt x="14050" y="9376"/>
                  <a:pt x="14089" y="9624"/>
                </a:cubicBezTo>
                <a:cubicBezTo>
                  <a:pt x="14254" y="9652"/>
                  <a:pt x="14318" y="9652"/>
                  <a:pt x="14412" y="9550"/>
                </a:cubicBezTo>
              </a:path>
              <a:path w="498" h="745">
                <a:moveTo>
                  <a:pt x="14337" y="8905"/>
                </a:moveTo>
                <a:cubicBezTo>
                  <a:pt x="14371" y="9042"/>
                  <a:pt x="14449" y="9207"/>
                  <a:pt x="14486" y="9351"/>
                </a:cubicBezTo>
                <a:cubicBezTo>
                  <a:pt x="14505" y="9462"/>
                  <a:pt x="14486" y="9484"/>
                  <a:pt x="14536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75160" y="3268800"/>
            <a:ext cx="349200" cy="152280"/>
          </a:xfrm>
          <a:custGeom>
            <a:avLst/>
            <a:gdLst/>
            <a:ahLst/>
            <a:rect l="l" t="t" r="r" b="b"/>
            <a:pathLst>
              <a:path w="969" h="422">
                <a:moveTo>
                  <a:pt x="14932" y="9227"/>
                </a:moveTo>
                <a:cubicBezTo>
                  <a:pt x="15004" y="9323"/>
                  <a:pt x="15071" y="9425"/>
                  <a:pt x="15156" y="9500"/>
                </a:cubicBezTo>
                <a:cubicBezTo>
                  <a:pt x="15230" y="9370"/>
                  <a:pt x="15243" y="9264"/>
                  <a:pt x="15280" y="9128"/>
                </a:cubicBezTo>
              </a:path>
              <a:path w="969" h="422">
                <a:moveTo>
                  <a:pt x="15453" y="9302"/>
                </a:moveTo>
                <a:cubicBezTo>
                  <a:pt x="15453" y="9393"/>
                  <a:pt x="15453" y="9401"/>
                  <a:pt x="15453" y="9451"/>
                </a:cubicBezTo>
              </a:path>
              <a:path w="969" h="422">
                <a:moveTo>
                  <a:pt x="15825" y="9079"/>
                </a:moveTo>
                <a:cubicBezTo>
                  <a:pt x="15752" y="9079"/>
                  <a:pt x="15674" y="9086"/>
                  <a:pt x="15627" y="9153"/>
                </a:cubicBezTo>
                <a:cubicBezTo>
                  <a:pt x="15627" y="9161"/>
                  <a:pt x="15627" y="9170"/>
                  <a:pt x="15627" y="9178"/>
                </a:cubicBezTo>
                <a:cubicBezTo>
                  <a:pt x="15690" y="9204"/>
                  <a:pt x="16032" y="9345"/>
                  <a:pt x="15850" y="9451"/>
                </a:cubicBezTo>
                <a:cubicBezTo>
                  <a:pt x="15742" y="9472"/>
                  <a:pt x="15716" y="9485"/>
                  <a:pt x="15652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11920" y="3224160"/>
            <a:ext cx="303120" cy="142920"/>
          </a:xfrm>
          <a:custGeom>
            <a:avLst/>
            <a:gdLst/>
            <a:ahLst/>
            <a:rect l="l" t="t" r="r" b="b"/>
            <a:pathLst>
              <a:path w="844" h="398">
                <a:moveTo>
                  <a:pt x="16570" y="9029"/>
                </a:moveTo>
                <a:cubicBezTo>
                  <a:pt x="16442" y="9113"/>
                  <a:pt x="16437" y="9187"/>
                  <a:pt x="16446" y="9327"/>
                </a:cubicBezTo>
                <a:cubicBezTo>
                  <a:pt x="16577" y="9344"/>
                  <a:pt x="16746" y="9328"/>
                  <a:pt x="16718" y="9128"/>
                </a:cubicBezTo>
                <a:cubicBezTo>
                  <a:pt x="16706" y="9043"/>
                  <a:pt x="16555" y="9050"/>
                  <a:pt x="16520" y="9054"/>
                </a:cubicBezTo>
              </a:path>
              <a:path w="844" h="398">
                <a:moveTo>
                  <a:pt x="16892" y="9178"/>
                </a:moveTo>
                <a:cubicBezTo>
                  <a:pt x="16892" y="9194"/>
                  <a:pt x="16892" y="9211"/>
                  <a:pt x="16892" y="9227"/>
                </a:cubicBezTo>
                <a:cubicBezTo>
                  <a:pt x="16840" y="9143"/>
                  <a:pt x="16903" y="9031"/>
                  <a:pt x="16991" y="8979"/>
                </a:cubicBezTo>
                <a:cubicBezTo>
                  <a:pt x="17181" y="8868"/>
                  <a:pt x="17231" y="9187"/>
                  <a:pt x="17264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26160" y="3054240"/>
            <a:ext cx="1187640" cy="401760"/>
          </a:xfrm>
          <a:custGeom>
            <a:avLst/>
            <a:gdLst/>
            <a:ahLst/>
            <a:rect l="l" t="t" r="r" b="b"/>
            <a:pathLst>
              <a:path w="3300" h="1117">
                <a:moveTo>
                  <a:pt x="18430" y="9178"/>
                </a:moveTo>
                <a:cubicBezTo>
                  <a:pt x="18457" y="9262"/>
                  <a:pt x="18630" y="9598"/>
                  <a:pt x="18479" y="9575"/>
                </a:cubicBezTo>
                <a:cubicBezTo>
                  <a:pt x="18462" y="9505"/>
                  <a:pt x="18305" y="8839"/>
                  <a:pt x="18554" y="8905"/>
                </a:cubicBezTo>
                <a:cubicBezTo>
                  <a:pt x="18712" y="9040"/>
                  <a:pt x="18761" y="9071"/>
                  <a:pt x="18802" y="9203"/>
                </a:cubicBezTo>
                <a:cubicBezTo>
                  <a:pt x="18605" y="9330"/>
                  <a:pt x="18529" y="9276"/>
                  <a:pt x="18430" y="9079"/>
                </a:cubicBezTo>
              </a:path>
              <a:path w="3300" h="1117">
                <a:moveTo>
                  <a:pt x="19050" y="9079"/>
                </a:moveTo>
                <a:cubicBezTo>
                  <a:pt x="19112" y="9180"/>
                  <a:pt x="19088" y="8975"/>
                  <a:pt x="19149" y="8905"/>
                </a:cubicBezTo>
                <a:cubicBezTo>
                  <a:pt x="19230" y="8811"/>
                  <a:pt x="19313" y="8814"/>
                  <a:pt x="19422" y="8806"/>
                </a:cubicBezTo>
                <a:cubicBezTo>
                  <a:pt x="19432" y="8945"/>
                  <a:pt x="19368" y="9059"/>
                  <a:pt x="19348" y="9203"/>
                </a:cubicBezTo>
                <a:cubicBezTo>
                  <a:pt x="19495" y="9214"/>
                  <a:pt x="19635" y="9143"/>
                  <a:pt x="19546" y="8954"/>
                </a:cubicBezTo>
                <a:cubicBezTo>
                  <a:pt x="19475" y="8883"/>
                  <a:pt x="19455" y="8861"/>
                  <a:pt x="19397" y="8830"/>
                </a:cubicBezTo>
              </a:path>
              <a:path w="3300" h="1117">
                <a:moveTo>
                  <a:pt x="19720" y="8558"/>
                </a:moveTo>
                <a:cubicBezTo>
                  <a:pt x="19743" y="8739"/>
                  <a:pt x="19775" y="8921"/>
                  <a:pt x="19794" y="9103"/>
                </a:cubicBezTo>
                <a:cubicBezTo>
                  <a:pt x="19794" y="9120"/>
                  <a:pt x="19794" y="9136"/>
                  <a:pt x="19794" y="9153"/>
                </a:cubicBezTo>
                <a:cubicBezTo>
                  <a:pt x="19831" y="8987"/>
                  <a:pt x="19908" y="8920"/>
                  <a:pt x="20042" y="8830"/>
                </a:cubicBezTo>
                <a:cubicBezTo>
                  <a:pt x="20069" y="8889"/>
                  <a:pt x="20199" y="9280"/>
                  <a:pt x="19943" y="9178"/>
                </a:cubicBezTo>
                <a:cubicBezTo>
                  <a:pt x="19910" y="9145"/>
                  <a:pt x="19877" y="9112"/>
                  <a:pt x="19844" y="9079"/>
                </a:cubicBezTo>
              </a:path>
              <a:path w="3300" h="1117">
                <a:moveTo>
                  <a:pt x="20315" y="8483"/>
                </a:moveTo>
                <a:cubicBezTo>
                  <a:pt x="20328" y="8581"/>
                  <a:pt x="20317" y="9031"/>
                  <a:pt x="20389" y="9079"/>
                </a:cubicBezTo>
                <a:cubicBezTo>
                  <a:pt x="20397" y="9071"/>
                  <a:pt x="20406" y="9062"/>
                  <a:pt x="20414" y="9054"/>
                </a:cubicBezTo>
              </a:path>
              <a:path w="3300" h="1117">
                <a:moveTo>
                  <a:pt x="20662" y="8830"/>
                </a:moveTo>
                <a:cubicBezTo>
                  <a:pt x="20764" y="8806"/>
                  <a:pt x="20811" y="8838"/>
                  <a:pt x="20811" y="8731"/>
                </a:cubicBezTo>
                <a:cubicBezTo>
                  <a:pt x="20660" y="8697"/>
                  <a:pt x="20593" y="8823"/>
                  <a:pt x="20588" y="8979"/>
                </a:cubicBezTo>
                <a:cubicBezTo>
                  <a:pt x="20580" y="9242"/>
                  <a:pt x="20982" y="8925"/>
                  <a:pt x="21010" y="8905"/>
                </a:cubicBezTo>
              </a:path>
              <a:path w="3300" h="1117">
                <a:moveTo>
                  <a:pt x="21010" y="8830"/>
                </a:moveTo>
                <a:cubicBezTo>
                  <a:pt x="20987" y="8946"/>
                  <a:pt x="20980" y="8980"/>
                  <a:pt x="20960" y="9054"/>
                </a:cubicBezTo>
                <a:cubicBezTo>
                  <a:pt x="21040" y="8974"/>
                  <a:pt x="21055" y="8822"/>
                  <a:pt x="21158" y="8731"/>
                </a:cubicBezTo>
                <a:cubicBezTo>
                  <a:pt x="21235" y="8664"/>
                  <a:pt x="21276" y="8982"/>
                  <a:pt x="21282" y="9004"/>
                </a:cubicBezTo>
                <a:cubicBezTo>
                  <a:pt x="21282" y="9012"/>
                  <a:pt x="21282" y="9021"/>
                  <a:pt x="21282" y="9029"/>
                </a:cubicBezTo>
                <a:cubicBezTo>
                  <a:pt x="21310" y="8916"/>
                  <a:pt x="21351" y="8828"/>
                  <a:pt x="21456" y="8756"/>
                </a:cubicBezTo>
                <a:cubicBezTo>
                  <a:pt x="21481" y="8748"/>
                  <a:pt x="21505" y="8739"/>
                  <a:pt x="21530" y="8731"/>
                </a:cubicBezTo>
                <a:cubicBezTo>
                  <a:pt x="21625" y="8860"/>
                  <a:pt x="21649" y="8978"/>
                  <a:pt x="21704" y="9128"/>
                </a:cubicBezTo>
              </a:path>
              <a:path w="3300" h="1117">
                <a:moveTo>
                  <a:pt x="18976" y="8954"/>
                </a:moveTo>
                <a:cubicBezTo>
                  <a:pt x="19064" y="8954"/>
                  <a:pt x="19053" y="8939"/>
                  <a:pt x="19100" y="9054"/>
                </a:cubicBezTo>
                <a:cubicBezTo>
                  <a:pt x="19111" y="9080"/>
                  <a:pt x="19100" y="9124"/>
                  <a:pt x="19100" y="9153"/>
                </a:cubicBezTo>
              </a:path>
              <a:path w="3300" h="1117">
                <a:moveTo>
                  <a:pt x="19100" y="9079"/>
                </a:moveTo>
                <a:cubicBezTo>
                  <a:pt x="19100" y="9112"/>
                  <a:pt x="19100" y="9145"/>
                  <a:pt x="19100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69000" y="3490920"/>
            <a:ext cx="2081160" cy="403200"/>
          </a:xfrm>
          <a:custGeom>
            <a:avLst/>
            <a:gdLst/>
            <a:ahLst/>
            <a:rect l="l" t="t" r="r" b="b"/>
            <a:pathLst>
              <a:path w="5780" h="1117">
                <a:moveTo>
                  <a:pt x="16073" y="10666"/>
                </a:moveTo>
                <a:cubicBezTo>
                  <a:pt x="16092" y="10760"/>
                  <a:pt x="16079" y="10780"/>
                  <a:pt x="16123" y="10815"/>
                </a:cubicBezTo>
              </a:path>
              <a:path w="5780" h="1117">
                <a:moveTo>
                  <a:pt x="16123" y="10815"/>
                </a:moveTo>
                <a:lnTo>
                  <a:pt x="16123" y="10815"/>
                </a:lnTo>
              </a:path>
              <a:path w="5780" h="1117">
                <a:moveTo>
                  <a:pt x="16049" y="10418"/>
                </a:moveTo>
                <a:cubicBezTo>
                  <a:pt x="16041" y="10418"/>
                  <a:pt x="16032" y="10418"/>
                  <a:pt x="16024" y="10418"/>
                </a:cubicBezTo>
              </a:path>
              <a:path w="5780" h="1117">
                <a:moveTo>
                  <a:pt x="18653" y="9996"/>
                </a:moveTo>
                <a:cubicBezTo>
                  <a:pt x="18472" y="10079"/>
                  <a:pt x="18525" y="10229"/>
                  <a:pt x="18579" y="10418"/>
                </a:cubicBezTo>
                <a:cubicBezTo>
                  <a:pt x="18587" y="10443"/>
                  <a:pt x="18596" y="10467"/>
                  <a:pt x="18604" y="10492"/>
                </a:cubicBezTo>
              </a:path>
              <a:path w="5780" h="1117">
                <a:moveTo>
                  <a:pt x="21803" y="9723"/>
                </a:moveTo>
                <a:cubicBezTo>
                  <a:pt x="21803" y="9715"/>
                  <a:pt x="21803" y="9707"/>
                  <a:pt x="21803" y="9699"/>
                </a:cubicBezTo>
              </a:path>
              <a:path w="5780" h="1117">
                <a:moveTo>
                  <a:pt x="21803" y="9699"/>
                </a:moveTo>
                <a:lnTo>
                  <a:pt x="21803" y="969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44840" y="3813120"/>
            <a:ext cx="554040" cy="330120"/>
          </a:xfrm>
          <a:custGeom>
            <a:avLst/>
            <a:gdLst/>
            <a:ahLst/>
            <a:rect l="l" t="t" r="r" b="b"/>
            <a:pathLst>
              <a:path w="1539" h="918">
                <a:moveTo>
                  <a:pt x="7466" y="11187"/>
                </a:moveTo>
                <a:cubicBezTo>
                  <a:pt x="7521" y="11114"/>
                  <a:pt x="7441" y="11047"/>
                  <a:pt x="7367" y="11013"/>
                </a:cubicBezTo>
                <a:cubicBezTo>
                  <a:pt x="7173" y="10925"/>
                  <a:pt x="7066" y="11211"/>
                  <a:pt x="7069" y="11361"/>
                </a:cubicBezTo>
                <a:cubicBezTo>
                  <a:pt x="7074" y="11583"/>
                  <a:pt x="7313" y="11501"/>
                  <a:pt x="7367" y="11361"/>
                </a:cubicBezTo>
                <a:cubicBezTo>
                  <a:pt x="7389" y="11254"/>
                  <a:pt x="7397" y="11230"/>
                  <a:pt x="7392" y="11162"/>
                </a:cubicBezTo>
                <a:cubicBezTo>
                  <a:pt x="7402" y="11191"/>
                  <a:pt x="7489" y="11325"/>
                  <a:pt x="7541" y="11336"/>
                </a:cubicBezTo>
                <a:cubicBezTo>
                  <a:pt x="7566" y="11328"/>
                  <a:pt x="7590" y="11319"/>
                  <a:pt x="7615" y="11311"/>
                </a:cubicBezTo>
              </a:path>
              <a:path w="1539" h="918">
                <a:moveTo>
                  <a:pt x="7913" y="11137"/>
                </a:moveTo>
                <a:cubicBezTo>
                  <a:pt x="7989" y="11099"/>
                  <a:pt x="7958" y="11041"/>
                  <a:pt x="7938" y="10964"/>
                </a:cubicBezTo>
                <a:cubicBezTo>
                  <a:pt x="7752" y="10943"/>
                  <a:pt x="7708" y="10973"/>
                  <a:pt x="7665" y="11187"/>
                </a:cubicBezTo>
                <a:cubicBezTo>
                  <a:pt x="7665" y="11299"/>
                  <a:pt x="7659" y="11331"/>
                  <a:pt x="7714" y="11385"/>
                </a:cubicBezTo>
                <a:cubicBezTo>
                  <a:pt x="7925" y="11338"/>
                  <a:pt x="7981" y="11229"/>
                  <a:pt x="7913" y="10988"/>
                </a:cubicBezTo>
                <a:cubicBezTo>
                  <a:pt x="7851" y="10845"/>
                  <a:pt x="7844" y="10815"/>
                  <a:pt x="7789" y="10740"/>
                </a:cubicBezTo>
                <a:cubicBezTo>
                  <a:pt x="7898" y="10926"/>
                  <a:pt x="7964" y="11110"/>
                  <a:pt x="8037" y="11311"/>
                </a:cubicBezTo>
              </a:path>
              <a:path w="1539" h="918">
                <a:moveTo>
                  <a:pt x="8458" y="11038"/>
                </a:moveTo>
                <a:cubicBezTo>
                  <a:pt x="8414" y="10912"/>
                  <a:pt x="8428" y="10918"/>
                  <a:pt x="8310" y="10864"/>
                </a:cubicBezTo>
                <a:cubicBezTo>
                  <a:pt x="8148" y="11016"/>
                  <a:pt x="8143" y="11044"/>
                  <a:pt x="8111" y="11261"/>
                </a:cubicBezTo>
                <a:cubicBezTo>
                  <a:pt x="8352" y="11363"/>
                  <a:pt x="8576" y="11298"/>
                  <a:pt x="8533" y="10964"/>
                </a:cubicBezTo>
                <a:cubicBezTo>
                  <a:pt x="8508" y="10898"/>
                  <a:pt x="8483" y="10831"/>
                  <a:pt x="8458" y="10765"/>
                </a:cubicBezTo>
              </a:path>
              <a:path w="1539" h="918">
                <a:moveTo>
                  <a:pt x="8285" y="10592"/>
                </a:moveTo>
                <a:cubicBezTo>
                  <a:pt x="8387" y="10778"/>
                  <a:pt x="8443" y="11001"/>
                  <a:pt x="8558" y="11187"/>
                </a:cubicBezTo>
                <a:cubicBezTo>
                  <a:pt x="8574" y="11204"/>
                  <a:pt x="8591" y="11220"/>
                  <a:pt x="8607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94080" y="3786120"/>
            <a:ext cx="696960" cy="268200"/>
          </a:xfrm>
          <a:custGeom>
            <a:avLst/>
            <a:gdLst/>
            <a:ahLst/>
            <a:rect l="l" t="t" r="r" b="b"/>
            <a:pathLst>
              <a:path w="1936" h="745">
                <a:moveTo>
                  <a:pt x="9451" y="10790"/>
                </a:moveTo>
                <a:cubicBezTo>
                  <a:pt x="9464" y="10803"/>
                  <a:pt x="9650" y="10781"/>
                  <a:pt x="9723" y="10790"/>
                </a:cubicBezTo>
                <a:cubicBezTo>
                  <a:pt x="9741" y="10975"/>
                  <a:pt x="9605" y="11078"/>
                  <a:pt x="9475" y="11212"/>
                </a:cubicBezTo>
                <a:cubicBezTo>
                  <a:pt x="9459" y="11228"/>
                  <a:pt x="9442" y="11245"/>
                  <a:pt x="9426" y="11261"/>
                </a:cubicBezTo>
                <a:cubicBezTo>
                  <a:pt x="9577" y="11249"/>
                  <a:pt x="9704" y="11210"/>
                  <a:pt x="9847" y="11162"/>
                </a:cubicBezTo>
              </a:path>
              <a:path w="1936" h="745">
                <a:moveTo>
                  <a:pt x="9971" y="10864"/>
                </a:moveTo>
                <a:cubicBezTo>
                  <a:pt x="10058" y="10855"/>
                  <a:pt x="10107" y="10869"/>
                  <a:pt x="10120" y="10790"/>
                </a:cubicBezTo>
                <a:cubicBezTo>
                  <a:pt x="10018" y="10738"/>
                  <a:pt x="9835" y="10787"/>
                  <a:pt x="9823" y="10939"/>
                </a:cubicBezTo>
                <a:cubicBezTo>
                  <a:pt x="9801" y="11224"/>
                  <a:pt x="10158" y="11254"/>
                  <a:pt x="10294" y="11063"/>
                </a:cubicBezTo>
                <a:cubicBezTo>
                  <a:pt x="10330" y="10939"/>
                  <a:pt x="10346" y="10933"/>
                  <a:pt x="10344" y="10864"/>
                </a:cubicBezTo>
                <a:cubicBezTo>
                  <a:pt x="10328" y="10897"/>
                  <a:pt x="10406" y="11104"/>
                  <a:pt x="10393" y="10988"/>
                </a:cubicBezTo>
                <a:cubicBezTo>
                  <a:pt x="10368" y="10758"/>
                  <a:pt x="10368" y="10741"/>
                  <a:pt x="10592" y="10691"/>
                </a:cubicBezTo>
              </a:path>
              <a:path w="1936" h="745">
                <a:moveTo>
                  <a:pt x="10889" y="10616"/>
                </a:moveTo>
                <a:cubicBezTo>
                  <a:pt x="10801" y="10718"/>
                  <a:pt x="10655" y="10865"/>
                  <a:pt x="10740" y="11013"/>
                </a:cubicBezTo>
                <a:cubicBezTo>
                  <a:pt x="10765" y="11021"/>
                  <a:pt x="10790" y="11030"/>
                  <a:pt x="10815" y="11038"/>
                </a:cubicBezTo>
                <a:cubicBezTo>
                  <a:pt x="10990" y="10921"/>
                  <a:pt x="11060" y="10839"/>
                  <a:pt x="10889" y="10666"/>
                </a:cubicBezTo>
                <a:cubicBezTo>
                  <a:pt x="10873" y="10658"/>
                  <a:pt x="10856" y="10649"/>
                  <a:pt x="10840" y="10641"/>
                </a:cubicBezTo>
              </a:path>
              <a:path w="1936" h="745">
                <a:moveTo>
                  <a:pt x="11187" y="10517"/>
                </a:moveTo>
                <a:cubicBezTo>
                  <a:pt x="11126" y="10598"/>
                  <a:pt x="11121" y="10620"/>
                  <a:pt x="11063" y="10641"/>
                </a:cubicBezTo>
                <a:cubicBezTo>
                  <a:pt x="11148" y="10738"/>
                  <a:pt x="11268" y="10772"/>
                  <a:pt x="11361" y="10864"/>
                </a:cubicBezTo>
                <a:cubicBezTo>
                  <a:pt x="11206" y="11019"/>
                  <a:pt x="11129" y="11017"/>
                  <a:pt x="10988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67160" y="3795840"/>
            <a:ext cx="312840" cy="214200"/>
          </a:xfrm>
          <a:custGeom>
            <a:avLst/>
            <a:gdLst/>
            <a:ahLst/>
            <a:rect l="l" t="t" r="r" b="b"/>
            <a:pathLst>
              <a:path w="870" h="596">
                <a:moveTo>
                  <a:pt x="12477" y="10592"/>
                </a:moveTo>
                <a:cubicBezTo>
                  <a:pt x="12454" y="10569"/>
                  <a:pt x="12446" y="10565"/>
                  <a:pt x="12452" y="10542"/>
                </a:cubicBezTo>
                <a:cubicBezTo>
                  <a:pt x="12484" y="10734"/>
                  <a:pt x="12564" y="10917"/>
                  <a:pt x="12601" y="11112"/>
                </a:cubicBezTo>
                <a:cubicBezTo>
                  <a:pt x="12601" y="11120"/>
                  <a:pt x="12601" y="11129"/>
                  <a:pt x="12601" y="11137"/>
                </a:cubicBezTo>
              </a:path>
              <a:path w="870" h="596">
                <a:moveTo>
                  <a:pt x="12129" y="10840"/>
                </a:moveTo>
                <a:cubicBezTo>
                  <a:pt x="12338" y="10833"/>
                  <a:pt x="12522" y="10806"/>
                  <a:pt x="12725" y="10765"/>
                </a:cubicBezTo>
                <a:cubicBezTo>
                  <a:pt x="12714" y="10829"/>
                  <a:pt x="12643" y="10983"/>
                  <a:pt x="12750" y="11013"/>
                </a:cubicBezTo>
                <a:cubicBezTo>
                  <a:pt x="12938" y="11065"/>
                  <a:pt x="13144" y="10830"/>
                  <a:pt x="12898" y="10765"/>
                </a:cubicBezTo>
                <a:cubicBezTo>
                  <a:pt x="12849" y="10765"/>
                  <a:pt x="12799" y="10765"/>
                  <a:pt x="12750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22920" y="3732120"/>
            <a:ext cx="490320" cy="1890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3519" y="10368"/>
                </a:moveTo>
                <a:cubicBezTo>
                  <a:pt x="13569" y="10495"/>
                  <a:pt x="13693" y="10725"/>
                  <a:pt x="13692" y="10864"/>
                </a:cubicBezTo>
                <a:cubicBezTo>
                  <a:pt x="13684" y="10856"/>
                  <a:pt x="13675" y="10848"/>
                  <a:pt x="13667" y="10840"/>
                </a:cubicBezTo>
              </a:path>
              <a:path w="1365" h="522">
                <a:moveTo>
                  <a:pt x="13395" y="10641"/>
                </a:moveTo>
                <a:cubicBezTo>
                  <a:pt x="13539" y="10650"/>
                  <a:pt x="13997" y="10739"/>
                  <a:pt x="13990" y="10492"/>
                </a:cubicBezTo>
                <a:cubicBezTo>
                  <a:pt x="13973" y="10451"/>
                  <a:pt x="13957" y="10409"/>
                  <a:pt x="13940" y="10368"/>
                </a:cubicBezTo>
                <a:cubicBezTo>
                  <a:pt x="13723" y="10390"/>
                  <a:pt x="13914" y="10618"/>
                  <a:pt x="13965" y="10740"/>
                </a:cubicBezTo>
                <a:cubicBezTo>
                  <a:pt x="13982" y="10781"/>
                  <a:pt x="13998" y="10823"/>
                  <a:pt x="14015" y="10864"/>
                </a:cubicBezTo>
                <a:cubicBezTo>
                  <a:pt x="14050" y="10794"/>
                  <a:pt x="13944" y="10667"/>
                  <a:pt x="13990" y="10567"/>
                </a:cubicBezTo>
                <a:cubicBezTo>
                  <a:pt x="14104" y="10320"/>
                  <a:pt x="14360" y="10683"/>
                  <a:pt x="14412" y="10765"/>
                </a:cubicBezTo>
                <a:cubicBezTo>
                  <a:pt x="14420" y="10782"/>
                  <a:pt x="14428" y="10798"/>
                  <a:pt x="14436" y="10815"/>
                </a:cubicBezTo>
              </a:path>
              <a:path w="1365" h="522">
                <a:moveTo>
                  <a:pt x="14486" y="10616"/>
                </a:moveTo>
                <a:cubicBezTo>
                  <a:pt x="14514" y="10609"/>
                  <a:pt x="14723" y="10575"/>
                  <a:pt x="14660" y="10542"/>
                </a:cubicBezTo>
                <a:cubicBezTo>
                  <a:pt x="14578" y="10460"/>
                  <a:pt x="14396" y="10434"/>
                  <a:pt x="14387" y="10641"/>
                </a:cubicBezTo>
                <a:cubicBezTo>
                  <a:pt x="14374" y="10943"/>
                  <a:pt x="14615" y="10891"/>
                  <a:pt x="14759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45080" y="3643200"/>
            <a:ext cx="679680" cy="393840"/>
          </a:xfrm>
          <a:custGeom>
            <a:avLst/>
            <a:gdLst/>
            <a:ahLst/>
            <a:rect l="l" t="t" r="r" b="b"/>
            <a:pathLst>
              <a:path w="1886" h="1093">
                <a:moveTo>
                  <a:pt x="15404" y="10517"/>
                </a:moveTo>
                <a:cubicBezTo>
                  <a:pt x="15461" y="10626"/>
                  <a:pt x="15519" y="10732"/>
                  <a:pt x="15577" y="10840"/>
                </a:cubicBezTo>
                <a:cubicBezTo>
                  <a:pt x="15561" y="10724"/>
                  <a:pt x="15482" y="10596"/>
                  <a:pt x="15577" y="10492"/>
                </a:cubicBezTo>
                <a:cubicBezTo>
                  <a:pt x="15648" y="10414"/>
                  <a:pt x="15842" y="10481"/>
                  <a:pt x="15925" y="10492"/>
                </a:cubicBezTo>
              </a:path>
              <a:path w="1886" h="1093">
                <a:moveTo>
                  <a:pt x="16446" y="10468"/>
                </a:moveTo>
                <a:cubicBezTo>
                  <a:pt x="16404" y="10525"/>
                  <a:pt x="16237" y="10761"/>
                  <a:pt x="16396" y="10790"/>
                </a:cubicBezTo>
                <a:cubicBezTo>
                  <a:pt x="16514" y="10812"/>
                  <a:pt x="16451" y="10581"/>
                  <a:pt x="16446" y="10542"/>
                </a:cubicBezTo>
                <a:cubicBezTo>
                  <a:pt x="16480" y="10691"/>
                  <a:pt x="16630" y="10926"/>
                  <a:pt x="16594" y="11088"/>
                </a:cubicBezTo>
                <a:cubicBezTo>
                  <a:pt x="16552" y="11275"/>
                  <a:pt x="16378" y="11189"/>
                  <a:pt x="16272" y="11162"/>
                </a:cubicBezTo>
              </a:path>
              <a:path w="1886" h="1093">
                <a:moveTo>
                  <a:pt x="16594" y="10244"/>
                </a:moveTo>
                <a:cubicBezTo>
                  <a:pt x="16609" y="10418"/>
                  <a:pt x="16656" y="10571"/>
                  <a:pt x="16694" y="10740"/>
                </a:cubicBezTo>
                <a:cubicBezTo>
                  <a:pt x="16694" y="10630"/>
                  <a:pt x="16706" y="10545"/>
                  <a:pt x="16743" y="10443"/>
                </a:cubicBezTo>
                <a:cubicBezTo>
                  <a:pt x="16851" y="10515"/>
                  <a:pt x="16901" y="10611"/>
                  <a:pt x="16991" y="10716"/>
                </a:cubicBezTo>
              </a:path>
              <a:path w="1886" h="1093">
                <a:moveTo>
                  <a:pt x="17041" y="10120"/>
                </a:moveTo>
                <a:cubicBezTo>
                  <a:pt x="17082" y="10274"/>
                  <a:pt x="17107" y="10538"/>
                  <a:pt x="17190" y="10641"/>
                </a:cubicBezTo>
              </a:path>
              <a:path w="1886" h="1093">
                <a:moveTo>
                  <a:pt x="16842" y="10368"/>
                </a:moveTo>
                <a:cubicBezTo>
                  <a:pt x="16992" y="10389"/>
                  <a:pt x="17136" y="10393"/>
                  <a:pt x="17289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0240" y="3679920"/>
            <a:ext cx="293760" cy="115920"/>
          </a:xfrm>
          <a:custGeom>
            <a:avLst/>
            <a:gdLst/>
            <a:ahLst/>
            <a:rect l="l" t="t" r="r" b="b"/>
            <a:pathLst>
              <a:path w="819" h="323">
                <a:moveTo>
                  <a:pt x="18207" y="10294"/>
                </a:moveTo>
                <a:cubicBezTo>
                  <a:pt x="18116" y="10400"/>
                  <a:pt x="18098" y="10410"/>
                  <a:pt x="18107" y="10542"/>
                </a:cubicBezTo>
                <a:cubicBezTo>
                  <a:pt x="18296" y="10518"/>
                  <a:pt x="18344" y="10490"/>
                  <a:pt x="18331" y="10294"/>
                </a:cubicBezTo>
                <a:cubicBezTo>
                  <a:pt x="18263" y="10286"/>
                  <a:pt x="18043" y="10324"/>
                  <a:pt x="18207" y="10269"/>
                </a:cubicBezTo>
              </a:path>
              <a:path w="819" h="323">
                <a:moveTo>
                  <a:pt x="18331" y="10220"/>
                </a:moveTo>
                <a:cubicBezTo>
                  <a:pt x="18521" y="10220"/>
                  <a:pt x="18711" y="10220"/>
                  <a:pt x="18901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83280" y="3670200"/>
            <a:ext cx="204840" cy="98640"/>
          </a:xfrm>
          <a:custGeom>
            <a:avLst/>
            <a:gdLst/>
            <a:ahLst/>
            <a:rect l="l" t="t" r="r" b="b"/>
            <a:pathLst>
              <a:path w="572" h="274">
                <a:moveTo>
                  <a:pt x="19695" y="10220"/>
                </a:moveTo>
                <a:cubicBezTo>
                  <a:pt x="19567" y="10155"/>
                  <a:pt x="19438" y="10287"/>
                  <a:pt x="19397" y="10418"/>
                </a:cubicBezTo>
                <a:cubicBezTo>
                  <a:pt x="19405" y="10435"/>
                  <a:pt x="19414" y="10451"/>
                  <a:pt x="19422" y="10468"/>
                </a:cubicBezTo>
                <a:cubicBezTo>
                  <a:pt x="19599" y="10436"/>
                  <a:pt x="19607" y="10413"/>
                  <a:pt x="19720" y="10269"/>
                </a:cubicBezTo>
                <a:cubicBezTo>
                  <a:pt x="19803" y="10376"/>
                  <a:pt x="19839" y="10377"/>
                  <a:pt x="19968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92960" y="3394080"/>
            <a:ext cx="1162080" cy="36504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20935" y="10096"/>
                </a:moveTo>
                <a:cubicBezTo>
                  <a:pt x="20857" y="9965"/>
                  <a:pt x="20737" y="10014"/>
                  <a:pt x="20638" y="10120"/>
                </a:cubicBezTo>
                <a:cubicBezTo>
                  <a:pt x="20544" y="10261"/>
                  <a:pt x="20510" y="10300"/>
                  <a:pt x="20538" y="10418"/>
                </a:cubicBezTo>
                <a:cubicBezTo>
                  <a:pt x="20825" y="10418"/>
                  <a:pt x="20905" y="10249"/>
                  <a:pt x="20836" y="9947"/>
                </a:cubicBezTo>
                <a:cubicBezTo>
                  <a:pt x="20770" y="9815"/>
                  <a:pt x="20754" y="9781"/>
                  <a:pt x="20712" y="9699"/>
                </a:cubicBezTo>
                <a:cubicBezTo>
                  <a:pt x="20796" y="9880"/>
                  <a:pt x="20849" y="10160"/>
                  <a:pt x="20960" y="10294"/>
                </a:cubicBezTo>
              </a:path>
              <a:path w="3226" h="1018">
                <a:moveTo>
                  <a:pt x="21034" y="10096"/>
                </a:moveTo>
                <a:cubicBezTo>
                  <a:pt x="21154" y="10076"/>
                  <a:pt x="21163" y="10056"/>
                  <a:pt x="21183" y="9947"/>
                </a:cubicBezTo>
                <a:cubicBezTo>
                  <a:pt x="21032" y="9846"/>
                  <a:pt x="20950" y="9981"/>
                  <a:pt x="20935" y="10145"/>
                </a:cubicBezTo>
                <a:cubicBezTo>
                  <a:pt x="20895" y="10572"/>
                  <a:pt x="21300" y="10236"/>
                  <a:pt x="21406" y="10145"/>
                </a:cubicBezTo>
              </a:path>
              <a:path w="3226" h="1018">
                <a:moveTo>
                  <a:pt x="21481" y="9922"/>
                </a:moveTo>
                <a:cubicBezTo>
                  <a:pt x="21433" y="9985"/>
                  <a:pt x="21271" y="10103"/>
                  <a:pt x="21357" y="10244"/>
                </a:cubicBezTo>
                <a:cubicBezTo>
                  <a:pt x="21473" y="10436"/>
                  <a:pt x="21824" y="10273"/>
                  <a:pt x="21853" y="10096"/>
                </a:cubicBezTo>
                <a:cubicBezTo>
                  <a:pt x="21845" y="10054"/>
                  <a:pt x="21836" y="10013"/>
                  <a:pt x="21828" y="9971"/>
                </a:cubicBezTo>
                <a:cubicBezTo>
                  <a:pt x="21760" y="9928"/>
                  <a:pt x="21820" y="10128"/>
                  <a:pt x="21828" y="10170"/>
                </a:cubicBezTo>
                <a:cubicBezTo>
                  <a:pt x="21849" y="10254"/>
                  <a:pt x="21850" y="10301"/>
                  <a:pt x="21878" y="10220"/>
                </a:cubicBezTo>
              </a:path>
              <a:path w="3226" h="1018">
                <a:moveTo>
                  <a:pt x="22027" y="10021"/>
                </a:moveTo>
                <a:cubicBezTo>
                  <a:pt x="22057" y="10133"/>
                  <a:pt x="22054" y="10160"/>
                  <a:pt x="22126" y="10244"/>
                </a:cubicBezTo>
                <a:cubicBezTo>
                  <a:pt x="22110" y="10150"/>
                  <a:pt x="22061" y="9990"/>
                  <a:pt x="22101" y="9897"/>
                </a:cubicBezTo>
                <a:cubicBezTo>
                  <a:pt x="22221" y="9615"/>
                  <a:pt x="22374" y="10056"/>
                  <a:pt x="22399" y="10120"/>
                </a:cubicBezTo>
                <a:cubicBezTo>
                  <a:pt x="22407" y="10153"/>
                  <a:pt x="22415" y="10187"/>
                  <a:pt x="22423" y="10220"/>
                </a:cubicBezTo>
                <a:cubicBezTo>
                  <a:pt x="22403" y="10055"/>
                  <a:pt x="22428" y="9997"/>
                  <a:pt x="22498" y="9847"/>
                </a:cubicBezTo>
                <a:cubicBezTo>
                  <a:pt x="22635" y="9923"/>
                  <a:pt x="22657" y="10057"/>
                  <a:pt x="22671" y="10220"/>
                </a:cubicBezTo>
                <a:cubicBezTo>
                  <a:pt x="22671" y="10248"/>
                  <a:pt x="22674" y="10253"/>
                  <a:pt x="22696" y="10220"/>
                </a:cubicBezTo>
              </a:path>
              <a:path w="3226" h="1018">
                <a:moveTo>
                  <a:pt x="23044" y="9847"/>
                </a:moveTo>
                <a:cubicBezTo>
                  <a:pt x="22916" y="9902"/>
                  <a:pt x="22763" y="10057"/>
                  <a:pt x="22820" y="10220"/>
                </a:cubicBezTo>
                <a:cubicBezTo>
                  <a:pt x="22845" y="10236"/>
                  <a:pt x="22870" y="10253"/>
                  <a:pt x="22895" y="10269"/>
                </a:cubicBezTo>
                <a:cubicBezTo>
                  <a:pt x="22993" y="10179"/>
                  <a:pt x="23024" y="10123"/>
                  <a:pt x="23068" y="9996"/>
                </a:cubicBezTo>
                <a:cubicBezTo>
                  <a:pt x="23039" y="10087"/>
                  <a:pt x="23041" y="10279"/>
                  <a:pt x="23217" y="10220"/>
                </a:cubicBezTo>
                <a:cubicBezTo>
                  <a:pt x="23258" y="10187"/>
                  <a:pt x="23300" y="10153"/>
                  <a:pt x="23341" y="10120"/>
                </a:cubicBezTo>
              </a:path>
              <a:path w="3226" h="1018">
                <a:moveTo>
                  <a:pt x="23341" y="9426"/>
                </a:moveTo>
                <a:cubicBezTo>
                  <a:pt x="23341" y="9625"/>
                  <a:pt x="23321" y="9863"/>
                  <a:pt x="23416" y="10046"/>
                </a:cubicBezTo>
                <a:cubicBezTo>
                  <a:pt x="23485" y="10180"/>
                  <a:pt x="23651" y="10193"/>
                  <a:pt x="23763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3120" y="4179960"/>
            <a:ext cx="6465960" cy="633240"/>
          </a:xfrm>
          <a:custGeom>
            <a:avLst/>
            <a:gdLst/>
            <a:ahLst/>
            <a:rect l="l" t="t" r="r" b="b"/>
            <a:pathLst>
              <a:path w="17960" h="1762">
                <a:moveTo>
                  <a:pt x="1265" y="12750"/>
                </a:moveTo>
                <a:cubicBezTo>
                  <a:pt x="1247" y="12923"/>
                  <a:pt x="1249" y="13100"/>
                  <a:pt x="1215" y="13271"/>
                </a:cubicBezTo>
                <a:cubicBezTo>
                  <a:pt x="1203" y="13333"/>
                  <a:pt x="1204" y="13357"/>
                  <a:pt x="1166" y="13370"/>
                </a:cubicBezTo>
              </a:path>
              <a:path w="17960" h="1762">
                <a:moveTo>
                  <a:pt x="843" y="13122"/>
                </a:moveTo>
                <a:cubicBezTo>
                  <a:pt x="1026" y="13110"/>
                  <a:pt x="1205" y="13078"/>
                  <a:pt x="1389" y="13072"/>
                </a:cubicBezTo>
                <a:cubicBezTo>
                  <a:pt x="1431" y="13072"/>
                  <a:pt x="1456" y="13072"/>
                  <a:pt x="1414" y="13072"/>
                </a:cubicBezTo>
              </a:path>
              <a:path w="17960" h="1762">
                <a:moveTo>
                  <a:pt x="1315" y="12774"/>
                </a:moveTo>
                <a:cubicBezTo>
                  <a:pt x="1222" y="12936"/>
                  <a:pt x="1139" y="13116"/>
                  <a:pt x="1042" y="13271"/>
                </a:cubicBezTo>
              </a:path>
              <a:path w="17960" h="1762">
                <a:moveTo>
                  <a:pt x="1067" y="12849"/>
                </a:moveTo>
                <a:cubicBezTo>
                  <a:pt x="1211" y="12955"/>
                  <a:pt x="1316" y="13078"/>
                  <a:pt x="1389" y="13246"/>
                </a:cubicBezTo>
                <a:cubicBezTo>
                  <a:pt x="1389" y="13279"/>
                  <a:pt x="1397" y="13288"/>
                  <a:pt x="1439" y="13271"/>
                </a:cubicBezTo>
              </a:path>
              <a:path w="17960" h="1762">
                <a:moveTo>
                  <a:pt x="6474" y="12402"/>
                </a:moveTo>
                <a:cubicBezTo>
                  <a:pt x="6482" y="12410"/>
                  <a:pt x="6491" y="12419"/>
                  <a:pt x="6499" y="12427"/>
                </a:cubicBezTo>
              </a:path>
              <a:path w="17960" h="1762">
                <a:moveTo>
                  <a:pt x="13146" y="12080"/>
                </a:moveTo>
                <a:cubicBezTo>
                  <a:pt x="13141" y="12188"/>
                  <a:pt x="13135" y="12272"/>
                  <a:pt x="13122" y="12378"/>
                </a:cubicBezTo>
              </a:path>
              <a:path w="17960" h="1762">
                <a:moveTo>
                  <a:pt x="13122" y="12378"/>
                </a:moveTo>
                <a:lnTo>
                  <a:pt x="13122" y="12378"/>
                </a:lnTo>
              </a:path>
              <a:path w="17960" h="1762">
                <a:moveTo>
                  <a:pt x="13097" y="11832"/>
                </a:moveTo>
                <a:lnTo>
                  <a:pt x="13097" y="11832"/>
                </a:lnTo>
              </a:path>
              <a:path w="17960" h="1762">
                <a:moveTo>
                  <a:pt x="13915" y="12055"/>
                </a:moveTo>
                <a:cubicBezTo>
                  <a:pt x="13938" y="12147"/>
                  <a:pt x="13949" y="12172"/>
                  <a:pt x="13915" y="12229"/>
                </a:cubicBezTo>
              </a:path>
              <a:path w="17960" h="1762">
                <a:moveTo>
                  <a:pt x="13915" y="12229"/>
                </a:moveTo>
                <a:lnTo>
                  <a:pt x="13915" y="12229"/>
                </a:lnTo>
              </a:path>
              <a:path w="17960" h="1762">
                <a:moveTo>
                  <a:pt x="14015" y="11857"/>
                </a:moveTo>
                <a:cubicBezTo>
                  <a:pt x="14015" y="11849"/>
                  <a:pt x="14015" y="11840"/>
                  <a:pt x="14015" y="11832"/>
                </a:cubicBezTo>
              </a:path>
              <a:path w="17960" h="1762">
                <a:moveTo>
                  <a:pt x="14833" y="11956"/>
                </a:moveTo>
                <a:cubicBezTo>
                  <a:pt x="14802" y="12045"/>
                  <a:pt x="14773" y="12150"/>
                  <a:pt x="14734" y="12229"/>
                </a:cubicBezTo>
              </a:path>
              <a:path w="17960" h="1762">
                <a:moveTo>
                  <a:pt x="14858" y="11733"/>
                </a:moveTo>
                <a:cubicBezTo>
                  <a:pt x="14858" y="11741"/>
                  <a:pt x="14858" y="11749"/>
                  <a:pt x="14858" y="11757"/>
                </a:cubicBezTo>
              </a:path>
              <a:path w="17960" h="1762">
                <a:moveTo>
                  <a:pt x="14858" y="11757"/>
                </a:moveTo>
                <a:lnTo>
                  <a:pt x="14858" y="11757"/>
                </a:lnTo>
              </a:path>
              <a:path w="17960" h="1762">
                <a:moveTo>
                  <a:pt x="18777" y="11931"/>
                </a:moveTo>
                <a:cubicBezTo>
                  <a:pt x="18709" y="12067"/>
                  <a:pt x="18685" y="12103"/>
                  <a:pt x="18703" y="12204"/>
                </a:cubicBezTo>
              </a:path>
              <a:path w="17960" h="1762">
                <a:moveTo>
                  <a:pt x="18703" y="12204"/>
                </a:moveTo>
                <a:lnTo>
                  <a:pt x="18703" y="12204"/>
                </a:lnTo>
              </a:path>
              <a:path w="17960" h="1762">
                <a:moveTo>
                  <a:pt x="18802" y="11609"/>
                </a:moveTo>
                <a:cubicBezTo>
                  <a:pt x="18802" y="11625"/>
                  <a:pt x="18802" y="11642"/>
                  <a:pt x="18802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4240" y="459900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2133" y="12849"/>
                </a:moveTo>
                <a:cubicBezTo>
                  <a:pt x="2133" y="12944"/>
                  <a:pt x="2124" y="12842"/>
                  <a:pt x="2108" y="12799"/>
                </a:cubicBezTo>
                <a:cubicBezTo>
                  <a:pt x="2108" y="12779"/>
                  <a:pt x="2048" y="13151"/>
                  <a:pt x="2034" y="13221"/>
                </a:cubicBezTo>
                <a:cubicBezTo>
                  <a:pt x="2023" y="13278"/>
                  <a:pt x="2033" y="13519"/>
                  <a:pt x="1984" y="13419"/>
                </a:cubicBezTo>
              </a:path>
              <a:path w="944" h="696">
                <a:moveTo>
                  <a:pt x="2034" y="12824"/>
                </a:moveTo>
                <a:cubicBezTo>
                  <a:pt x="2106" y="12998"/>
                  <a:pt x="2269" y="13201"/>
                  <a:pt x="2381" y="13370"/>
                </a:cubicBezTo>
                <a:cubicBezTo>
                  <a:pt x="2403" y="13392"/>
                  <a:pt x="2412" y="13397"/>
                  <a:pt x="2406" y="13419"/>
                </a:cubicBezTo>
                <a:cubicBezTo>
                  <a:pt x="2406" y="13240"/>
                  <a:pt x="2380" y="13046"/>
                  <a:pt x="2431" y="12874"/>
                </a:cubicBezTo>
                <a:cubicBezTo>
                  <a:pt x="2439" y="12857"/>
                  <a:pt x="2448" y="12841"/>
                  <a:pt x="2456" y="12824"/>
                </a:cubicBezTo>
              </a:path>
              <a:path w="944" h="696">
                <a:moveTo>
                  <a:pt x="2902" y="12998"/>
                </a:moveTo>
                <a:cubicBezTo>
                  <a:pt x="2758" y="13084"/>
                  <a:pt x="2612" y="13203"/>
                  <a:pt x="2629" y="13395"/>
                </a:cubicBezTo>
                <a:cubicBezTo>
                  <a:pt x="2646" y="13411"/>
                  <a:pt x="2662" y="13428"/>
                  <a:pt x="2679" y="13444"/>
                </a:cubicBezTo>
                <a:cubicBezTo>
                  <a:pt x="2838" y="13336"/>
                  <a:pt x="3065" y="13187"/>
                  <a:pt x="2828" y="12998"/>
                </a:cubicBezTo>
                <a:cubicBezTo>
                  <a:pt x="2803" y="12990"/>
                  <a:pt x="2778" y="12981"/>
                  <a:pt x="2753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19120" y="4446720"/>
            <a:ext cx="1724040" cy="357120"/>
          </a:xfrm>
          <a:custGeom>
            <a:avLst/>
            <a:gdLst/>
            <a:ahLst/>
            <a:rect l="l" t="t" r="r" b="b"/>
            <a:pathLst>
              <a:path w="4788" h="993">
                <a:moveTo>
                  <a:pt x="3944" y="13047"/>
                </a:moveTo>
                <a:cubicBezTo>
                  <a:pt x="3970" y="13178"/>
                  <a:pt x="3979" y="13227"/>
                  <a:pt x="3969" y="13320"/>
                </a:cubicBezTo>
                <a:cubicBezTo>
                  <a:pt x="3969" y="13287"/>
                  <a:pt x="3930" y="13042"/>
                  <a:pt x="4043" y="12948"/>
                </a:cubicBezTo>
                <a:cubicBezTo>
                  <a:pt x="4150" y="12859"/>
                  <a:pt x="4359" y="12968"/>
                  <a:pt x="4465" y="12998"/>
                </a:cubicBezTo>
              </a:path>
              <a:path w="4788" h="993">
                <a:moveTo>
                  <a:pt x="4366" y="13122"/>
                </a:moveTo>
                <a:cubicBezTo>
                  <a:pt x="4483" y="13072"/>
                  <a:pt x="4754" y="13027"/>
                  <a:pt x="4589" y="12923"/>
                </a:cubicBezTo>
                <a:cubicBezTo>
                  <a:pt x="4460" y="12949"/>
                  <a:pt x="4106" y="13120"/>
                  <a:pt x="4341" y="13320"/>
                </a:cubicBezTo>
                <a:cubicBezTo>
                  <a:pt x="4517" y="13350"/>
                  <a:pt x="4590" y="13343"/>
                  <a:pt x="4688" y="13221"/>
                </a:cubicBezTo>
              </a:path>
              <a:path w="4788" h="993">
                <a:moveTo>
                  <a:pt x="4837" y="12973"/>
                </a:moveTo>
                <a:cubicBezTo>
                  <a:pt x="4837" y="13114"/>
                  <a:pt x="4837" y="13155"/>
                  <a:pt x="4837" y="13246"/>
                </a:cubicBezTo>
                <a:cubicBezTo>
                  <a:pt x="4837" y="13290"/>
                  <a:pt x="4858" y="13019"/>
                  <a:pt x="4887" y="12973"/>
                </a:cubicBezTo>
                <a:cubicBezTo>
                  <a:pt x="5019" y="12765"/>
                  <a:pt x="5125" y="13145"/>
                  <a:pt x="5135" y="13221"/>
                </a:cubicBezTo>
                <a:cubicBezTo>
                  <a:pt x="5135" y="13249"/>
                  <a:pt x="5133" y="13255"/>
                  <a:pt x="5110" y="13221"/>
                </a:cubicBezTo>
                <a:cubicBezTo>
                  <a:pt x="5140" y="13132"/>
                  <a:pt x="5311" y="12717"/>
                  <a:pt x="5407" y="13022"/>
                </a:cubicBezTo>
                <a:cubicBezTo>
                  <a:pt x="5407" y="13156"/>
                  <a:pt x="5411" y="13190"/>
                  <a:pt x="5383" y="13271"/>
                </a:cubicBezTo>
              </a:path>
              <a:path w="4788" h="993">
                <a:moveTo>
                  <a:pt x="5879" y="13122"/>
                </a:moveTo>
                <a:cubicBezTo>
                  <a:pt x="5914" y="12999"/>
                  <a:pt x="5870" y="12969"/>
                  <a:pt x="5755" y="12948"/>
                </a:cubicBezTo>
                <a:cubicBezTo>
                  <a:pt x="5629" y="13085"/>
                  <a:pt x="5579" y="13193"/>
                  <a:pt x="5705" y="13320"/>
                </a:cubicBezTo>
                <a:cubicBezTo>
                  <a:pt x="5812" y="13229"/>
                  <a:pt x="5831" y="13191"/>
                  <a:pt x="5879" y="13047"/>
                </a:cubicBezTo>
                <a:cubicBezTo>
                  <a:pt x="5896" y="13168"/>
                  <a:pt x="5975" y="13283"/>
                  <a:pt x="6127" y="13221"/>
                </a:cubicBezTo>
                <a:cubicBezTo>
                  <a:pt x="6239" y="13132"/>
                  <a:pt x="6273" y="13113"/>
                  <a:pt x="6300" y="13022"/>
                </a:cubicBezTo>
                <a:cubicBezTo>
                  <a:pt x="6291" y="13087"/>
                  <a:pt x="6249" y="13305"/>
                  <a:pt x="6400" y="13271"/>
                </a:cubicBezTo>
                <a:cubicBezTo>
                  <a:pt x="6526" y="13243"/>
                  <a:pt x="6656" y="12907"/>
                  <a:pt x="6598" y="13022"/>
                </a:cubicBezTo>
                <a:cubicBezTo>
                  <a:pt x="6562" y="13093"/>
                  <a:pt x="6549" y="13133"/>
                  <a:pt x="6548" y="13196"/>
                </a:cubicBezTo>
                <a:cubicBezTo>
                  <a:pt x="6548" y="13204"/>
                  <a:pt x="6548" y="13213"/>
                  <a:pt x="6548" y="13221"/>
                </a:cubicBezTo>
                <a:cubicBezTo>
                  <a:pt x="6566" y="13114"/>
                  <a:pt x="6600" y="12988"/>
                  <a:pt x="6697" y="12923"/>
                </a:cubicBezTo>
                <a:cubicBezTo>
                  <a:pt x="6824" y="12838"/>
                  <a:pt x="6802" y="13230"/>
                  <a:pt x="6796" y="13271"/>
                </a:cubicBezTo>
                <a:cubicBezTo>
                  <a:pt x="6796" y="13263"/>
                  <a:pt x="6796" y="13254"/>
                  <a:pt x="6796" y="13246"/>
                </a:cubicBezTo>
              </a:path>
              <a:path w="4788" h="993">
                <a:moveTo>
                  <a:pt x="7020" y="12998"/>
                </a:moveTo>
                <a:cubicBezTo>
                  <a:pt x="7113" y="12956"/>
                  <a:pt x="7123" y="12948"/>
                  <a:pt x="7169" y="12874"/>
                </a:cubicBezTo>
                <a:cubicBezTo>
                  <a:pt x="7031" y="12781"/>
                  <a:pt x="6916" y="12862"/>
                  <a:pt x="6896" y="13047"/>
                </a:cubicBezTo>
                <a:cubicBezTo>
                  <a:pt x="6863" y="13360"/>
                  <a:pt x="7214" y="13119"/>
                  <a:pt x="7317" y="13072"/>
                </a:cubicBezTo>
              </a:path>
              <a:path w="4788" h="993">
                <a:moveTo>
                  <a:pt x="7615" y="12923"/>
                </a:moveTo>
                <a:cubicBezTo>
                  <a:pt x="7606" y="12879"/>
                  <a:pt x="7590" y="12846"/>
                  <a:pt x="7590" y="12799"/>
                </a:cubicBezTo>
              </a:path>
              <a:path w="4788" h="993">
                <a:moveTo>
                  <a:pt x="7293" y="12874"/>
                </a:moveTo>
                <a:cubicBezTo>
                  <a:pt x="7249" y="12764"/>
                  <a:pt x="7151" y="12750"/>
                  <a:pt x="7045" y="12824"/>
                </a:cubicBezTo>
                <a:cubicBezTo>
                  <a:pt x="6931" y="12938"/>
                  <a:pt x="6895" y="12967"/>
                  <a:pt x="6871" y="13072"/>
                </a:cubicBezTo>
                <a:cubicBezTo>
                  <a:pt x="7039" y="13190"/>
                  <a:pt x="7178" y="13121"/>
                  <a:pt x="7268" y="12923"/>
                </a:cubicBezTo>
                <a:cubicBezTo>
                  <a:pt x="7345" y="12755"/>
                  <a:pt x="7316" y="12599"/>
                  <a:pt x="7293" y="12427"/>
                </a:cubicBezTo>
                <a:cubicBezTo>
                  <a:pt x="7293" y="12228"/>
                  <a:pt x="7290" y="12677"/>
                  <a:pt x="7268" y="12874"/>
                </a:cubicBezTo>
                <a:cubicBezTo>
                  <a:pt x="7244" y="13085"/>
                  <a:pt x="7169" y="13102"/>
                  <a:pt x="7367" y="13022"/>
                </a:cubicBezTo>
              </a:path>
              <a:path w="4788" h="993">
                <a:moveTo>
                  <a:pt x="7516" y="12874"/>
                </a:moveTo>
                <a:cubicBezTo>
                  <a:pt x="7585" y="12841"/>
                  <a:pt x="7667" y="12859"/>
                  <a:pt x="7714" y="12799"/>
                </a:cubicBezTo>
                <a:cubicBezTo>
                  <a:pt x="7714" y="12771"/>
                  <a:pt x="7712" y="12760"/>
                  <a:pt x="7689" y="12750"/>
                </a:cubicBezTo>
                <a:cubicBezTo>
                  <a:pt x="7579" y="12762"/>
                  <a:pt x="7419" y="12848"/>
                  <a:pt x="7466" y="12998"/>
                </a:cubicBezTo>
                <a:cubicBezTo>
                  <a:pt x="7534" y="13214"/>
                  <a:pt x="7847" y="12890"/>
                  <a:pt x="7888" y="12849"/>
                </a:cubicBezTo>
                <a:cubicBezTo>
                  <a:pt x="7973" y="12781"/>
                  <a:pt x="7920" y="12849"/>
                  <a:pt x="7913" y="12973"/>
                </a:cubicBezTo>
                <a:cubicBezTo>
                  <a:pt x="7913" y="12868"/>
                  <a:pt x="7927" y="12812"/>
                  <a:pt x="7987" y="12725"/>
                </a:cubicBezTo>
                <a:cubicBezTo>
                  <a:pt x="8111" y="12545"/>
                  <a:pt x="8229" y="12589"/>
                  <a:pt x="8409" y="12601"/>
                </a:cubicBezTo>
                <a:cubicBezTo>
                  <a:pt x="8527" y="12601"/>
                  <a:pt x="8548" y="12615"/>
                  <a:pt x="8607" y="12576"/>
                </a:cubicBezTo>
                <a:cubicBezTo>
                  <a:pt x="8577" y="12583"/>
                  <a:pt x="8430" y="12645"/>
                  <a:pt x="8434" y="12650"/>
                </a:cubicBezTo>
                <a:cubicBezTo>
                  <a:pt x="8493" y="12730"/>
                  <a:pt x="8654" y="12771"/>
                  <a:pt x="8731" y="12849"/>
                </a:cubicBezTo>
                <a:cubicBezTo>
                  <a:pt x="8561" y="13004"/>
                  <a:pt x="8478" y="12933"/>
                  <a:pt x="8285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0280" y="4313160"/>
            <a:ext cx="741600" cy="322200"/>
          </a:xfrm>
          <a:custGeom>
            <a:avLst/>
            <a:gdLst/>
            <a:ahLst/>
            <a:rect l="l" t="t" r="r" b="b"/>
            <a:pathLst>
              <a:path w="2060" h="894">
                <a:moveTo>
                  <a:pt x="9773" y="12402"/>
                </a:moveTo>
                <a:cubicBezTo>
                  <a:pt x="9759" y="12525"/>
                  <a:pt x="9673" y="12702"/>
                  <a:pt x="9723" y="12824"/>
                </a:cubicBezTo>
                <a:cubicBezTo>
                  <a:pt x="9748" y="12841"/>
                  <a:pt x="9773" y="12857"/>
                  <a:pt x="9798" y="12874"/>
                </a:cubicBezTo>
                <a:cubicBezTo>
                  <a:pt x="9908" y="12738"/>
                  <a:pt x="9958" y="12646"/>
                  <a:pt x="9947" y="12477"/>
                </a:cubicBezTo>
                <a:cubicBezTo>
                  <a:pt x="9958" y="12615"/>
                  <a:pt x="9963" y="12834"/>
                  <a:pt x="10170" y="12774"/>
                </a:cubicBezTo>
                <a:cubicBezTo>
                  <a:pt x="10358" y="12720"/>
                  <a:pt x="10378" y="12388"/>
                  <a:pt x="10244" y="12278"/>
                </a:cubicBezTo>
                <a:cubicBezTo>
                  <a:pt x="10211" y="12270"/>
                  <a:pt x="10178" y="12262"/>
                  <a:pt x="10145" y="12254"/>
                </a:cubicBezTo>
              </a:path>
              <a:path w="2060" h="894">
                <a:moveTo>
                  <a:pt x="10492" y="11981"/>
                </a:moveTo>
                <a:cubicBezTo>
                  <a:pt x="10534" y="12215"/>
                  <a:pt x="10567" y="12435"/>
                  <a:pt x="10567" y="12675"/>
                </a:cubicBezTo>
                <a:cubicBezTo>
                  <a:pt x="10589" y="12478"/>
                  <a:pt x="10628" y="12382"/>
                  <a:pt x="10740" y="12229"/>
                </a:cubicBezTo>
                <a:cubicBezTo>
                  <a:pt x="10860" y="12348"/>
                  <a:pt x="10864" y="12429"/>
                  <a:pt x="10889" y="12601"/>
                </a:cubicBezTo>
                <a:cubicBezTo>
                  <a:pt x="10889" y="12593"/>
                  <a:pt x="10889" y="12584"/>
                  <a:pt x="10889" y="12576"/>
                </a:cubicBezTo>
              </a:path>
              <a:path w="2060" h="894">
                <a:moveTo>
                  <a:pt x="11013" y="12254"/>
                </a:moveTo>
                <a:cubicBezTo>
                  <a:pt x="11098" y="12226"/>
                  <a:pt x="11133" y="12213"/>
                  <a:pt x="11187" y="12179"/>
                </a:cubicBezTo>
                <a:cubicBezTo>
                  <a:pt x="11323" y="12021"/>
                  <a:pt x="11081" y="12152"/>
                  <a:pt x="11038" y="12229"/>
                </a:cubicBezTo>
                <a:cubicBezTo>
                  <a:pt x="10887" y="12497"/>
                  <a:pt x="11125" y="12648"/>
                  <a:pt x="11336" y="12452"/>
                </a:cubicBezTo>
                <a:cubicBezTo>
                  <a:pt x="11369" y="12402"/>
                  <a:pt x="11402" y="12353"/>
                  <a:pt x="11435" y="12303"/>
                </a:cubicBezTo>
                <a:cubicBezTo>
                  <a:pt x="11518" y="12194"/>
                  <a:pt x="11427" y="12443"/>
                  <a:pt x="11410" y="12502"/>
                </a:cubicBezTo>
                <a:cubicBezTo>
                  <a:pt x="11419" y="12409"/>
                  <a:pt x="11445" y="12071"/>
                  <a:pt x="11633" y="12129"/>
                </a:cubicBezTo>
                <a:cubicBezTo>
                  <a:pt x="11793" y="12178"/>
                  <a:pt x="11793" y="12408"/>
                  <a:pt x="11757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83080" y="4232160"/>
            <a:ext cx="177840" cy="285840"/>
          </a:xfrm>
          <a:custGeom>
            <a:avLst/>
            <a:gdLst/>
            <a:ahLst/>
            <a:rect l="l" t="t" r="r" b="b"/>
            <a:pathLst>
              <a:path w="497" h="795">
                <a:moveTo>
                  <a:pt x="12849" y="12278"/>
                </a:moveTo>
                <a:cubicBezTo>
                  <a:pt x="12834" y="12181"/>
                  <a:pt x="12764" y="11943"/>
                  <a:pt x="12601" y="12080"/>
                </a:cubicBezTo>
                <a:cubicBezTo>
                  <a:pt x="12418" y="12233"/>
                  <a:pt x="12459" y="12364"/>
                  <a:pt x="12502" y="12551"/>
                </a:cubicBezTo>
                <a:cubicBezTo>
                  <a:pt x="12846" y="12469"/>
                  <a:pt x="12840" y="12288"/>
                  <a:pt x="12874" y="11956"/>
                </a:cubicBezTo>
              </a:path>
              <a:path w="497" h="795">
                <a:moveTo>
                  <a:pt x="12849" y="11757"/>
                </a:moveTo>
                <a:cubicBezTo>
                  <a:pt x="12859" y="11820"/>
                  <a:pt x="12841" y="12436"/>
                  <a:pt x="12874" y="12452"/>
                </a:cubicBezTo>
                <a:cubicBezTo>
                  <a:pt x="12899" y="12419"/>
                  <a:pt x="12923" y="12386"/>
                  <a:pt x="12948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3840" y="4170240"/>
            <a:ext cx="447480" cy="268560"/>
          </a:xfrm>
          <a:custGeom>
            <a:avLst/>
            <a:gdLst/>
            <a:ahLst/>
            <a:rect l="l" t="t" r="r" b="b"/>
            <a:pathLst>
              <a:path w="1241" h="745">
                <a:moveTo>
                  <a:pt x="13345" y="11956"/>
                </a:moveTo>
                <a:cubicBezTo>
                  <a:pt x="13416" y="12075"/>
                  <a:pt x="13506" y="12196"/>
                  <a:pt x="13543" y="12328"/>
                </a:cubicBezTo>
                <a:cubicBezTo>
                  <a:pt x="13731" y="12266"/>
                  <a:pt x="13647" y="12141"/>
                  <a:pt x="13717" y="11981"/>
                </a:cubicBezTo>
                <a:cubicBezTo>
                  <a:pt x="13773" y="11905"/>
                  <a:pt x="13777" y="11851"/>
                  <a:pt x="13816" y="11906"/>
                </a:cubicBezTo>
              </a:path>
              <a:path w="1241" h="745">
                <a:moveTo>
                  <a:pt x="14536" y="11931"/>
                </a:moveTo>
                <a:cubicBezTo>
                  <a:pt x="14533" y="11739"/>
                  <a:pt x="14251" y="11988"/>
                  <a:pt x="14213" y="12080"/>
                </a:cubicBezTo>
                <a:cubicBezTo>
                  <a:pt x="14213" y="12130"/>
                  <a:pt x="14213" y="12179"/>
                  <a:pt x="14213" y="12229"/>
                </a:cubicBezTo>
                <a:cubicBezTo>
                  <a:pt x="14467" y="12246"/>
                  <a:pt x="14566" y="12098"/>
                  <a:pt x="14585" y="11832"/>
                </a:cubicBezTo>
                <a:cubicBezTo>
                  <a:pt x="14577" y="11774"/>
                  <a:pt x="14568" y="11716"/>
                  <a:pt x="14560" y="11658"/>
                </a:cubicBezTo>
                <a:cubicBezTo>
                  <a:pt x="14560" y="11491"/>
                  <a:pt x="14504" y="11839"/>
                  <a:pt x="14486" y="12005"/>
                </a:cubicBezTo>
                <a:cubicBezTo>
                  <a:pt x="14486" y="12128"/>
                  <a:pt x="14468" y="12159"/>
                  <a:pt x="14536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1880" y="4286160"/>
            <a:ext cx="268200" cy="268200"/>
          </a:xfrm>
          <a:custGeom>
            <a:avLst/>
            <a:gdLst/>
            <a:ahLst/>
            <a:rect l="l" t="t" r="r" b="b"/>
            <a:pathLst>
              <a:path w="745" h="745">
                <a:moveTo>
                  <a:pt x="15032" y="12204"/>
                </a:moveTo>
                <a:cubicBezTo>
                  <a:pt x="15032" y="12232"/>
                  <a:pt x="15197" y="11971"/>
                  <a:pt x="15230" y="11931"/>
                </a:cubicBezTo>
                <a:cubicBezTo>
                  <a:pt x="15318" y="11823"/>
                  <a:pt x="15304" y="12144"/>
                  <a:pt x="15304" y="12179"/>
                </a:cubicBezTo>
              </a:path>
              <a:path w="745" h="745">
                <a:moveTo>
                  <a:pt x="15701" y="11981"/>
                </a:moveTo>
                <a:cubicBezTo>
                  <a:pt x="15584" y="12004"/>
                  <a:pt x="15547" y="12007"/>
                  <a:pt x="15503" y="12080"/>
                </a:cubicBezTo>
                <a:cubicBezTo>
                  <a:pt x="15479" y="12220"/>
                  <a:pt x="15640" y="12070"/>
                  <a:pt x="15701" y="12030"/>
                </a:cubicBezTo>
                <a:cubicBezTo>
                  <a:pt x="15847" y="11934"/>
                  <a:pt x="15724" y="12500"/>
                  <a:pt x="15677" y="12576"/>
                </a:cubicBezTo>
                <a:cubicBezTo>
                  <a:pt x="15568" y="12657"/>
                  <a:pt x="15526" y="12674"/>
                  <a:pt x="15453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72120" y="4179960"/>
            <a:ext cx="598680" cy="258840"/>
          </a:xfrm>
          <a:custGeom>
            <a:avLst/>
            <a:gdLst/>
            <a:ahLst/>
            <a:rect l="l" t="t" r="r" b="b"/>
            <a:pathLst>
              <a:path w="1663" h="720">
                <a:moveTo>
                  <a:pt x="17289" y="12179"/>
                </a:moveTo>
                <a:cubicBezTo>
                  <a:pt x="17289" y="12093"/>
                  <a:pt x="17310" y="11927"/>
                  <a:pt x="17165" y="11931"/>
                </a:cubicBezTo>
                <a:cubicBezTo>
                  <a:pt x="16960" y="11937"/>
                  <a:pt x="16921" y="12115"/>
                  <a:pt x="16867" y="12254"/>
                </a:cubicBezTo>
                <a:cubicBezTo>
                  <a:pt x="16908" y="12279"/>
                  <a:pt x="16950" y="12303"/>
                  <a:pt x="16991" y="12328"/>
                </a:cubicBezTo>
                <a:cubicBezTo>
                  <a:pt x="17295" y="12149"/>
                  <a:pt x="17353" y="12037"/>
                  <a:pt x="17388" y="11683"/>
                </a:cubicBezTo>
                <a:cubicBezTo>
                  <a:pt x="17317" y="11496"/>
                  <a:pt x="17379" y="11929"/>
                  <a:pt x="17388" y="12129"/>
                </a:cubicBezTo>
                <a:cubicBezTo>
                  <a:pt x="17388" y="12229"/>
                  <a:pt x="17363" y="12271"/>
                  <a:pt x="17438" y="12254"/>
                </a:cubicBezTo>
              </a:path>
              <a:path w="1663" h="720">
                <a:moveTo>
                  <a:pt x="17587" y="11956"/>
                </a:moveTo>
                <a:cubicBezTo>
                  <a:pt x="17639" y="11960"/>
                  <a:pt x="17816" y="12007"/>
                  <a:pt x="17835" y="11956"/>
                </a:cubicBezTo>
                <a:cubicBezTo>
                  <a:pt x="17835" y="11939"/>
                  <a:pt x="17835" y="11923"/>
                  <a:pt x="17835" y="11906"/>
                </a:cubicBezTo>
                <a:cubicBezTo>
                  <a:pt x="17724" y="11741"/>
                  <a:pt x="17534" y="11973"/>
                  <a:pt x="17537" y="12129"/>
                </a:cubicBezTo>
                <a:cubicBezTo>
                  <a:pt x="17636" y="12262"/>
                  <a:pt x="17702" y="12292"/>
                  <a:pt x="17859" y="12204"/>
                </a:cubicBezTo>
              </a:path>
              <a:path w="1663" h="720">
                <a:moveTo>
                  <a:pt x="18405" y="11881"/>
                </a:moveTo>
                <a:cubicBezTo>
                  <a:pt x="18397" y="11898"/>
                  <a:pt x="18388" y="11914"/>
                  <a:pt x="18380" y="11931"/>
                </a:cubicBezTo>
                <a:cubicBezTo>
                  <a:pt x="18408" y="12015"/>
                  <a:pt x="18457" y="11857"/>
                  <a:pt x="18455" y="11832"/>
                </a:cubicBezTo>
                <a:cubicBezTo>
                  <a:pt x="18439" y="11654"/>
                  <a:pt x="18072" y="12047"/>
                  <a:pt x="18157" y="12204"/>
                </a:cubicBezTo>
                <a:cubicBezTo>
                  <a:pt x="18320" y="12270"/>
                  <a:pt x="18401" y="12274"/>
                  <a:pt x="18529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3963960"/>
            <a:ext cx="1000080" cy="474840"/>
          </a:xfrm>
          <a:custGeom>
            <a:avLst/>
            <a:gdLst/>
            <a:ahLst/>
            <a:rect l="l" t="t" r="r" b="b"/>
            <a:pathLst>
              <a:path w="2779" h="1316">
                <a:moveTo>
                  <a:pt x="19050" y="12105"/>
                </a:moveTo>
                <a:cubicBezTo>
                  <a:pt x="19050" y="12282"/>
                  <a:pt x="19140" y="11952"/>
                  <a:pt x="19199" y="11881"/>
                </a:cubicBezTo>
                <a:cubicBezTo>
                  <a:pt x="19409" y="11628"/>
                  <a:pt x="19314" y="11956"/>
                  <a:pt x="19298" y="12080"/>
                </a:cubicBezTo>
                <a:cubicBezTo>
                  <a:pt x="19290" y="12088"/>
                  <a:pt x="19281" y="12097"/>
                  <a:pt x="19273" y="12105"/>
                </a:cubicBezTo>
                <a:cubicBezTo>
                  <a:pt x="19337" y="11934"/>
                  <a:pt x="19457" y="11781"/>
                  <a:pt x="19596" y="11658"/>
                </a:cubicBezTo>
                <a:cubicBezTo>
                  <a:pt x="19604" y="11658"/>
                  <a:pt x="19613" y="11658"/>
                  <a:pt x="19621" y="11658"/>
                </a:cubicBezTo>
                <a:cubicBezTo>
                  <a:pt x="19615" y="11834"/>
                  <a:pt x="19529" y="12065"/>
                  <a:pt x="19645" y="12080"/>
                </a:cubicBezTo>
              </a:path>
              <a:path w="2779" h="1316">
                <a:moveTo>
                  <a:pt x="19993" y="11708"/>
                </a:moveTo>
                <a:cubicBezTo>
                  <a:pt x="19858" y="11831"/>
                  <a:pt x="19574" y="11998"/>
                  <a:pt x="19819" y="12080"/>
                </a:cubicBezTo>
                <a:cubicBezTo>
                  <a:pt x="19908" y="12014"/>
                  <a:pt x="20027" y="11829"/>
                  <a:pt x="20042" y="11906"/>
                </a:cubicBezTo>
                <a:cubicBezTo>
                  <a:pt x="20096" y="12176"/>
                  <a:pt x="20306" y="11981"/>
                  <a:pt x="20414" y="11807"/>
                </a:cubicBezTo>
                <a:cubicBezTo>
                  <a:pt x="20547" y="11592"/>
                  <a:pt x="20563" y="11445"/>
                  <a:pt x="20538" y="11212"/>
                </a:cubicBezTo>
                <a:cubicBezTo>
                  <a:pt x="20460" y="11353"/>
                  <a:pt x="20213" y="11831"/>
                  <a:pt x="20365" y="12005"/>
                </a:cubicBezTo>
                <a:cubicBezTo>
                  <a:pt x="20406" y="12005"/>
                  <a:pt x="20448" y="12005"/>
                  <a:pt x="20489" y="12005"/>
                </a:cubicBezTo>
              </a:path>
              <a:path w="2779" h="1316">
                <a:moveTo>
                  <a:pt x="21010" y="11609"/>
                </a:moveTo>
                <a:cubicBezTo>
                  <a:pt x="20939" y="11632"/>
                  <a:pt x="20876" y="11661"/>
                  <a:pt x="20811" y="11683"/>
                </a:cubicBezTo>
                <a:cubicBezTo>
                  <a:pt x="20833" y="11718"/>
                  <a:pt x="21040" y="11929"/>
                  <a:pt x="21010" y="11956"/>
                </a:cubicBezTo>
                <a:cubicBezTo>
                  <a:pt x="20862" y="12086"/>
                  <a:pt x="20822" y="11956"/>
                  <a:pt x="20786" y="11857"/>
                </a:cubicBezTo>
              </a:path>
              <a:path w="2779" h="1316">
                <a:moveTo>
                  <a:pt x="21828" y="11013"/>
                </a:moveTo>
                <a:cubicBezTo>
                  <a:pt x="21714" y="11258"/>
                  <a:pt x="21609" y="11507"/>
                  <a:pt x="21506" y="11757"/>
                </a:cubicBezTo>
              </a:path>
              <a:path w="2779" h="1316">
                <a:moveTo>
                  <a:pt x="21183" y="12278"/>
                </a:moveTo>
                <a:cubicBezTo>
                  <a:pt x="21158" y="12303"/>
                  <a:pt x="21150" y="12311"/>
                  <a:pt x="21134" y="12328"/>
                </a:cubicBezTo>
                <a:cubicBezTo>
                  <a:pt x="21139" y="12327"/>
                  <a:pt x="21303" y="12276"/>
                  <a:pt x="21258" y="12254"/>
                </a:cubicBezTo>
                <a:cubicBezTo>
                  <a:pt x="21241" y="12254"/>
                  <a:pt x="21225" y="12254"/>
                  <a:pt x="21208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05200" y="4803840"/>
            <a:ext cx="98640" cy="14436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3122" y="13370"/>
                </a:moveTo>
                <a:cubicBezTo>
                  <a:pt x="13122" y="13362"/>
                  <a:pt x="13122" y="13353"/>
                  <a:pt x="13122" y="13345"/>
                </a:cubicBezTo>
              </a:path>
              <a:path w="274" h="398">
                <a:moveTo>
                  <a:pt x="13122" y="13370"/>
                </a:moveTo>
                <a:lnTo>
                  <a:pt x="13122" y="13370"/>
                </a:lnTo>
              </a:path>
              <a:path w="274" h="398">
                <a:moveTo>
                  <a:pt x="13097" y="13444"/>
                </a:moveTo>
                <a:cubicBezTo>
                  <a:pt x="13094" y="13529"/>
                  <a:pt x="13083" y="13904"/>
                  <a:pt x="13295" y="13692"/>
                </a:cubicBezTo>
                <a:cubicBezTo>
                  <a:pt x="13441" y="13547"/>
                  <a:pt x="13261" y="13383"/>
                  <a:pt x="13146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8080" y="4776840"/>
            <a:ext cx="295200" cy="339840"/>
          </a:xfrm>
          <a:custGeom>
            <a:avLst/>
            <a:gdLst/>
            <a:ahLst/>
            <a:rect l="l" t="t" r="r" b="b"/>
            <a:pathLst>
              <a:path w="819" h="943">
                <a:moveTo>
                  <a:pt x="12353" y="13444"/>
                </a:moveTo>
                <a:cubicBezTo>
                  <a:pt x="12339" y="13317"/>
                  <a:pt x="12325" y="13293"/>
                  <a:pt x="12204" y="13271"/>
                </a:cubicBezTo>
                <a:cubicBezTo>
                  <a:pt x="12090" y="13435"/>
                  <a:pt x="12028" y="13539"/>
                  <a:pt x="12154" y="13692"/>
                </a:cubicBezTo>
                <a:cubicBezTo>
                  <a:pt x="12329" y="13577"/>
                  <a:pt x="12328" y="13528"/>
                  <a:pt x="12328" y="13320"/>
                </a:cubicBezTo>
                <a:cubicBezTo>
                  <a:pt x="12357" y="13522"/>
                  <a:pt x="12392" y="13749"/>
                  <a:pt x="12402" y="13965"/>
                </a:cubicBezTo>
                <a:cubicBezTo>
                  <a:pt x="12409" y="14130"/>
                  <a:pt x="12352" y="14206"/>
                  <a:pt x="12477" y="14188"/>
                </a:cubicBezTo>
                <a:cubicBezTo>
                  <a:pt x="12525" y="14014"/>
                  <a:pt x="12519" y="13937"/>
                  <a:pt x="12402" y="13791"/>
                </a:cubicBezTo>
              </a:path>
              <a:path w="819" h="943">
                <a:moveTo>
                  <a:pt x="12626" y="13395"/>
                </a:moveTo>
                <a:cubicBezTo>
                  <a:pt x="12642" y="13525"/>
                  <a:pt x="12643" y="13697"/>
                  <a:pt x="12700" y="13816"/>
                </a:cubicBezTo>
                <a:cubicBezTo>
                  <a:pt x="12733" y="13884"/>
                  <a:pt x="12776" y="13467"/>
                  <a:pt x="12774" y="13444"/>
                </a:cubicBezTo>
                <a:cubicBezTo>
                  <a:pt x="12766" y="13428"/>
                  <a:pt x="12758" y="13411"/>
                  <a:pt x="12750" y="13395"/>
                </a:cubicBezTo>
                <a:cubicBezTo>
                  <a:pt x="12813" y="13522"/>
                  <a:pt x="12857" y="13675"/>
                  <a:pt x="12898" y="138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45040" y="4606920"/>
            <a:ext cx="492120" cy="277920"/>
          </a:xfrm>
          <a:custGeom>
            <a:avLst/>
            <a:gdLst/>
            <a:ahLst/>
            <a:rect l="l" t="t" r="r" b="b"/>
            <a:pathLst>
              <a:path w="1365" h="770">
                <a:moveTo>
                  <a:pt x="14089" y="13295"/>
                </a:moveTo>
                <a:cubicBezTo>
                  <a:pt x="14180" y="13278"/>
                  <a:pt x="14392" y="13225"/>
                  <a:pt x="14263" y="13146"/>
                </a:cubicBezTo>
                <a:cubicBezTo>
                  <a:pt x="14149" y="13196"/>
                  <a:pt x="13854" y="13398"/>
                  <a:pt x="14089" y="13543"/>
                </a:cubicBezTo>
                <a:cubicBezTo>
                  <a:pt x="14259" y="13648"/>
                  <a:pt x="14321" y="13208"/>
                  <a:pt x="14511" y="13271"/>
                </a:cubicBezTo>
                <a:cubicBezTo>
                  <a:pt x="14511" y="13371"/>
                  <a:pt x="14511" y="13405"/>
                  <a:pt x="14536" y="13469"/>
                </a:cubicBezTo>
                <a:cubicBezTo>
                  <a:pt x="14536" y="13629"/>
                  <a:pt x="14560" y="13222"/>
                  <a:pt x="14560" y="13221"/>
                </a:cubicBezTo>
                <a:cubicBezTo>
                  <a:pt x="14675" y="13264"/>
                  <a:pt x="14702" y="13391"/>
                  <a:pt x="14784" y="13494"/>
                </a:cubicBezTo>
                <a:cubicBezTo>
                  <a:pt x="14823" y="13533"/>
                  <a:pt x="14824" y="13549"/>
                  <a:pt x="14858" y="13543"/>
                </a:cubicBezTo>
              </a:path>
              <a:path w="1365" h="770">
                <a:moveTo>
                  <a:pt x="14908" y="12799"/>
                </a:moveTo>
                <a:cubicBezTo>
                  <a:pt x="14951" y="13007"/>
                  <a:pt x="14932" y="13391"/>
                  <a:pt x="15106" y="13543"/>
                </a:cubicBezTo>
                <a:cubicBezTo>
                  <a:pt x="15231" y="13652"/>
                  <a:pt x="15320" y="13513"/>
                  <a:pt x="15379" y="13444"/>
                </a:cubicBezTo>
              </a:path>
              <a:path w="1365" h="770">
                <a:moveTo>
                  <a:pt x="14709" y="13146"/>
                </a:moveTo>
                <a:cubicBezTo>
                  <a:pt x="14907" y="13098"/>
                  <a:pt x="15166" y="12982"/>
                  <a:pt x="15354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1800" y="5313240"/>
            <a:ext cx="1455480" cy="250920"/>
          </a:xfrm>
          <a:custGeom>
            <a:avLst/>
            <a:gdLst/>
            <a:ahLst/>
            <a:rect l="l" t="t" r="r" b="b"/>
            <a:pathLst>
              <a:path w="4044" h="695">
                <a:moveTo>
                  <a:pt x="9004" y="15007"/>
                </a:moveTo>
                <a:lnTo>
                  <a:pt x="9004" y="15007"/>
                </a:lnTo>
                <a:lnTo>
                  <a:pt x="9004" y="15007"/>
                </a:lnTo>
              </a:path>
              <a:path w="4044" h="695">
                <a:moveTo>
                  <a:pt x="9004" y="15007"/>
                </a:moveTo>
                <a:lnTo>
                  <a:pt x="9004" y="15007"/>
                </a:lnTo>
              </a:path>
              <a:path w="4044" h="695">
                <a:moveTo>
                  <a:pt x="9550" y="14883"/>
                </a:moveTo>
                <a:lnTo>
                  <a:pt x="9550" y="14883"/>
                </a:lnTo>
                <a:lnTo>
                  <a:pt x="9550" y="14883"/>
                </a:lnTo>
                <a:lnTo>
                  <a:pt x="9550" y="14883"/>
                </a:lnTo>
              </a:path>
              <a:path w="4044" h="695">
                <a:moveTo>
                  <a:pt x="9550" y="14883"/>
                </a:moveTo>
                <a:lnTo>
                  <a:pt x="9550" y="14883"/>
                </a:lnTo>
              </a:path>
              <a:path w="4044" h="695">
                <a:moveTo>
                  <a:pt x="12378" y="15056"/>
                </a:moveTo>
                <a:cubicBezTo>
                  <a:pt x="12411" y="15188"/>
                  <a:pt x="12437" y="15326"/>
                  <a:pt x="12477" y="15453"/>
                </a:cubicBezTo>
              </a:path>
              <a:path w="4044" h="695">
                <a:moveTo>
                  <a:pt x="12427" y="14908"/>
                </a:moveTo>
                <a:cubicBezTo>
                  <a:pt x="12427" y="14900"/>
                  <a:pt x="12427" y="14891"/>
                  <a:pt x="12427" y="14883"/>
                </a:cubicBezTo>
              </a:path>
              <a:path w="4044" h="695">
                <a:moveTo>
                  <a:pt x="12427" y="14883"/>
                </a:moveTo>
                <a:lnTo>
                  <a:pt x="12427" y="14883"/>
                </a:lnTo>
              </a:path>
              <a:path w="4044" h="695">
                <a:moveTo>
                  <a:pt x="13047" y="14759"/>
                </a:moveTo>
                <a:lnTo>
                  <a:pt x="13047" y="14759"/>
                </a:lnTo>
                <a:lnTo>
                  <a:pt x="13047" y="14759"/>
                </a:lnTo>
              </a:path>
              <a:path w="4044" h="695">
                <a:moveTo>
                  <a:pt x="13047" y="14759"/>
                </a:moveTo>
                <a:lnTo>
                  <a:pt x="13047" y="1475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5880" y="4680000"/>
            <a:ext cx="2608200" cy="1079280"/>
          </a:xfrm>
          <a:custGeom>
            <a:avLst/>
            <a:gdLst/>
            <a:ahLst/>
            <a:rect l="l" t="t" r="r" b="b"/>
            <a:pathLst>
              <a:path w="7244" h="3002">
                <a:moveTo>
                  <a:pt x="11137" y="14238"/>
                </a:moveTo>
                <a:cubicBezTo>
                  <a:pt x="11164" y="14291"/>
                  <a:pt x="11172" y="14346"/>
                  <a:pt x="11187" y="14412"/>
                </a:cubicBezTo>
                <a:cubicBezTo>
                  <a:pt x="11252" y="14700"/>
                  <a:pt x="11273" y="14963"/>
                  <a:pt x="11212" y="15255"/>
                </a:cubicBezTo>
                <a:cubicBezTo>
                  <a:pt x="11172" y="15444"/>
                  <a:pt x="11091" y="15652"/>
                  <a:pt x="10964" y="15801"/>
                </a:cubicBezTo>
                <a:cubicBezTo>
                  <a:pt x="10907" y="15867"/>
                  <a:pt x="10958" y="15785"/>
                  <a:pt x="10964" y="15776"/>
                </a:cubicBezTo>
              </a:path>
              <a:path w="7244" h="3002">
                <a:moveTo>
                  <a:pt x="11137" y="14263"/>
                </a:moveTo>
                <a:cubicBezTo>
                  <a:pt x="11187" y="14266"/>
                  <a:pt x="11187" y="14258"/>
                  <a:pt x="11237" y="14263"/>
                </a:cubicBezTo>
                <a:cubicBezTo>
                  <a:pt x="11387" y="14279"/>
                  <a:pt x="11506" y="14287"/>
                  <a:pt x="11658" y="14263"/>
                </a:cubicBezTo>
                <a:cubicBezTo>
                  <a:pt x="11901" y="14224"/>
                  <a:pt x="12136" y="14188"/>
                  <a:pt x="12378" y="14163"/>
                </a:cubicBezTo>
                <a:cubicBezTo>
                  <a:pt x="12610" y="14139"/>
                  <a:pt x="12841" y="14096"/>
                  <a:pt x="13072" y="14064"/>
                </a:cubicBezTo>
                <a:cubicBezTo>
                  <a:pt x="13321" y="14029"/>
                  <a:pt x="13567" y="14012"/>
                  <a:pt x="13816" y="13990"/>
                </a:cubicBezTo>
                <a:cubicBezTo>
                  <a:pt x="14047" y="13969"/>
                  <a:pt x="14278" y="13943"/>
                  <a:pt x="14511" y="13940"/>
                </a:cubicBezTo>
                <a:cubicBezTo>
                  <a:pt x="14777" y="13936"/>
                  <a:pt x="15039" y="13903"/>
                  <a:pt x="15304" y="13891"/>
                </a:cubicBezTo>
                <a:cubicBezTo>
                  <a:pt x="15473" y="13884"/>
                  <a:pt x="15634" y="13882"/>
                  <a:pt x="15801" y="13866"/>
                </a:cubicBezTo>
                <a:cubicBezTo>
                  <a:pt x="15809" y="13866"/>
                  <a:pt x="15817" y="13866"/>
                  <a:pt x="15825" y="13866"/>
                </a:cubicBezTo>
              </a:path>
              <a:path w="7244" h="3002">
                <a:moveTo>
                  <a:pt x="11212" y="14362"/>
                </a:moveTo>
                <a:cubicBezTo>
                  <a:pt x="11189" y="14339"/>
                  <a:pt x="11181" y="14335"/>
                  <a:pt x="11187" y="14312"/>
                </a:cubicBezTo>
                <a:cubicBezTo>
                  <a:pt x="11194" y="14443"/>
                  <a:pt x="11195" y="14579"/>
                  <a:pt x="11212" y="14709"/>
                </a:cubicBezTo>
                <a:cubicBezTo>
                  <a:pt x="11230" y="14850"/>
                  <a:pt x="11232" y="15011"/>
                  <a:pt x="11212" y="15156"/>
                </a:cubicBezTo>
                <a:cubicBezTo>
                  <a:pt x="11194" y="15284"/>
                  <a:pt x="11148" y="15393"/>
                  <a:pt x="11088" y="15503"/>
                </a:cubicBezTo>
                <a:cubicBezTo>
                  <a:pt x="11045" y="15581"/>
                  <a:pt x="11060" y="15669"/>
                  <a:pt x="11013" y="15751"/>
                </a:cubicBezTo>
                <a:cubicBezTo>
                  <a:pt x="10992" y="15788"/>
                  <a:pt x="10956" y="15831"/>
                  <a:pt x="10939" y="15850"/>
                </a:cubicBezTo>
                <a:cubicBezTo>
                  <a:pt x="10921" y="15870"/>
                  <a:pt x="10908" y="15881"/>
                  <a:pt x="10889" y="15900"/>
                </a:cubicBezTo>
                <a:cubicBezTo>
                  <a:pt x="10864" y="15925"/>
                  <a:pt x="10859" y="15982"/>
                  <a:pt x="10840" y="15999"/>
                </a:cubicBezTo>
                <a:cubicBezTo>
                  <a:pt x="10832" y="15999"/>
                  <a:pt x="10823" y="15999"/>
                  <a:pt x="10815" y="15999"/>
                </a:cubicBezTo>
              </a:path>
              <a:path w="7244" h="3002">
                <a:moveTo>
                  <a:pt x="11137" y="14312"/>
                </a:moveTo>
                <a:cubicBezTo>
                  <a:pt x="11214" y="14326"/>
                  <a:pt x="11283" y="14327"/>
                  <a:pt x="11361" y="14337"/>
                </a:cubicBezTo>
                <a:cubicBezTo>
                  <a:pt x="11464" y="14350"/>
                  <a:pt x="11536" y="14342"/>
                  <a:pt x="11633" y="14337"/>
                </a:cubicBezTo>
                <a:cubicBezTo>
                  <a:pt x="11817" y="14328"/>
                  <a:pt x="11998" y="14322"/>
                  <a:pt x="12179" y="14288"/>
                </a:cubicBezTo>
                <a:cubicBezTo>
                  <a:pt x="12200" y="14284"/>
                  <a:pt x="12250" y="14270"/>
                  <a:pt x="12278" y="14263"/>
                </a:cubicBezTo>
                <a:cubicBezTo>
                  <a:pt x="12422" y="14226"/>
                  <a:pt x="12574" y="14175"/>
                  <a:pt x="12725" y="14163"/>
                </a:cubicBezTo>
                <a:cubicBezTo>
                  <a:pt x="12868" y="14152"/>
                  <a:pt x="13004" y="14128"/>
                  <a:pt x="13146" y="14114"/>
                </a:cubicBezTo>
                <a:cubicBezTo>
                  <a:pt x="13286" y="14100"/>
                  <a:pt x="13427" y="14075"/>
                  <a:pt x="13568" y="14064"/>
                </a:cubicBezTo>
                <a:cubicBezTo>
                  <a:pt x="13725" y="14052"/>
                  <a:pt x="13881" y="14024"/>
                  <a:pt x="14039" y="14015"/>
                </a:cubicBezTo>
                <a:cubicBezTo>
                  <a:pt x="14231" y="14004"/>
                  <a:pt x="14420" y="13979"/>
                  <a:pt x="14610" y="13965"/>
                </a:cubicBezTo>
                <a:cubicBezTo>
                  <a:pt x="14768" y="13953"/>
                  <a:pt x="14925" y="13946"/>
                  <a:pt x="15081" y="13915"/>
                </a:cubicBezTo>
                <a:cubicBezTo>
                  <a:pt x="15238" y="13884"/>
                  <a:pt x="15394" y="13893"/>
                  <a:pt x="15553" y="13866"/>
                </a:cubicBezTo>
                <a:cubicBezTo>
                  <a:pt x="15613" y="13856"/>
                  <a:pt x="15832" y="13804"/>
                  <a:pt x="15900" y="13816"/>
                </a:cubicBezTo>
                <a:cubicBezTo>
                  <a:pt x="15935" y="13816"/>
                  <a:pt x="15934" y="13821"/>
                  <a:pt x="15875" y="13841"/>
                </a:cubicBezTo>
              </a:path>
              <a:path w="7244" h="3002">
                <a:moveTo>
                  <a:pt x="8756" y="15825"/>
                </a:moveTo>
                <a:cubicBezTo>
                  <a:pt x="8815" y="15818"/>
                  <a:pt x="8871" y="15812"/>
                  <a:pt x="8930" y="15801"/>
                </a:cubicBezTo>
                <a:cubicBezTo>
                  <a:pt x="9082" y="15772"/>
                  <a:pt x="9247" y="15760"/>
                  <a:pt x="9401" y="15751"/>
                </a:cubicBezTo>
                <a:cubicBezTo>
                  <a:pt x="9564" y="15741"/>
                  <a:pt x="9712" y="15692"/>
                  <a:pt x="9872" y="15677"/>
                </a:cubicBezTo>
                <a:cubicBezTo>
                  <a:pt x="9981" y="15667"/>
                  <a:pt x="10085" y="15652"/>
                  <a:pt x="10195" y="15652"/>
                </a:cubicBezTo>
                <a:cubicBezTo>
                  <a:pt x="10272" y="15652"/>
                  <a:pt x="10341" y="15633"/>
                  <a:pt x="10418" y="15627"/>
                </a:cubicBezTo>
              </a:path>
              <a:path w="7244" h="3002">
                <a:moveTo>
                  <a:pt x="9054" y="15354"/>
                </a:moveTo>
                <a:cubicBezTo>
                  <a:pt x="8939" y="15287"/>
                  <a:pt x="8899" y="15219"/>
                  <a:pt x="8756" y="15205"/>
                </a:cubicBezTo>
                <a:cubicBezTo>
                  <a:pt x="8674" y="15370"/>
                  <a:pt x="8671" y="15455"/>
                  <a:pt x="8731" y="15627"/>
                </a:cubicBezTo>
                <a:cubicBezTo>
                  <a:pt x="8961" y="15627"/>
                  <a:pt x="9018" y="15578"/>
                  <a:pt x="9054" y="15354"/>
                </a:cubicBezTo>
              </a:path>
              <a:path w="7244" h="3002">
                <a:moveTo>
                  <a:pt x="8706" y="14908"/>
                </a:moveTo>
                <a:cubicBezTo>
                  <a:pt x="8828" y="15029"/>
                  <a:pt x="8878" y="15260"/>
                  <a:pt x="8954" y="15429"/>
                </a:cubicBezTo>
                <a:cubicBezTo>
                  <a:pt x="8985" y="15497"/>
                  <a:pt x="8986" y="15539"/>
                  <a:pt x="9029" y="15553"/>
                </a:cubicBezTo>
              </a:path>
              <a:path w="7244" h="3002">
                <a:moveTo>
                  <a:pt x="9079" y="15205"/>
                </a:moveTo>
                <a:cubicBezTo>
                  <a:pt x="9098" y="15246"/>
                  <a:pt x="9244" y="15558"/>
                  <a:pt x="9178" y="15429"/>
                </a:cubicBezTo>
              </a:path>
              <a:path w="7244" h="3002">
                <a:moveTo>
                  <a:pt x="9277" y="15156"/>
                </a:moveTo>
                <a:cubicBezTo>
                  <a:pt x="9350" y="15248"/>
                  <a:pt x="9411" y="15334"/>
                  <a:pt x="9500" y="15404"/>
                </a:cubicBezTo>
                <a:cubicBezTo>
                  <a:pt x="9500" y="15286"/>
                  <a:pt x="9448" y="15171"/>
                  <a:pt x="9451" y="15056"/>
                </a:cubicBezTo>
                <a:cubicBezTo>
                  <a:pt x="9475" y="14982"/>
                  <a:pt x="9484" y="14957"/>
                  <a:pt x="9550" y="14957"/>
                </a:cubicBezTo>
              </a:path>
              <a:path w="7244" h="3002">
                <a:moveTo>
                  <a:pt x="9575" y="14957"/>
                </a:moveTo>
                <a:cubicBezTo>
                  <a:pt x="9610" y="15048"/>
                  <a:pt x="9627" y="15148"/>
                  <a:pt x="9674" y="15230"/>
                </a:cubicBezTo>
                <a:cubicBezTo>
                  <a:pt x="9674" y="15145"/>
                  <a:pt x="9663" y="15094"/>
                  <a:pt x="9624" y="15032"/>
                </a:cubicBezTo>
              </a:path>
              <a:path w="7244" h="3002">
                <a:moveTo>
                  <a:pt x="11708" y="15602"/>
                </a:moveTo>
                <a:cubicBezTo>
                  <a:pt x="11832" y="15577"/>
                  <a:pt x="11953" y="15556"/>
                  <a:pt x="12080" y="15553"/>
                </a:cubicBezTo>
                <a:cubicBezTo>
                  <a:pt x="12286" y="15548"/>
                  <a:pt x="12495" y="15531"/>
                  <a:pt x="12700" y="15503"/>
                </a:cubicBezTo>
                <a:cubicBezTo>
                  <a:pt x="12883" y="15478"/>
                  <a:pt x="13063" y="15471"/>
                  <a:pt x="13246" y="15453"/>
                </a:cubicBezTo>
                <a:cubicBezTo>
                  <a:pt x="13476" y="15430"/>
                  <a:pt x="13710" y="15393"/>
                  <a:pt x="13940" y="15379"/>
                </a:cubicBezTo>
                <a:cubicBezTo>
                  <a:pt x="14190" y="15364"/>
                  <a:pt x="14435" y="15323"/>
                  <a:pt x="14684" y="15304"/>
                </a:cubicBezTo>
                <a:cubicBezTo>
                  <a:pt x="14856" y="15291"/>
                  <a:pt x="15035" y="15281"/>
                  <a:pt x="15205" y="15255"/>
                </a:cubicBezTo>
                <a:cubicBezTo>
                  <a:pt x="15306" y="15240"/>
                  <a:pt x="15406" y="15232"/>
                  <a:pt x="15503" y="15205"/>
                </a:cubicBezTo>
                <a:cubicBezTo>
                  <a:pt x="15573" y="15185"/>
                  <a:pt x="15625" y="15183"/>
                  <a:pt x="15701" y="15180"/>
                </a:cubicBezTo>
                <a:cubicBezTo>
                  <a:pt x="15759" y="15178"/>
                  <a:pt x="15776" y="15164"/>
                  <a:pt x="15825" y="15156"/>
                </a:cubicBezTo>
                <a:cubicBezTo>
                  <a:pt x="15833" y="15156"/>
                  <a:pt x="15842" y="15156"/>
                  <a:pt x="15850" y="15156"/>
                </a:cubicBezTo>
              </a:path>
              <a:path w="7244" h="3002">
                <a:moveTo>
                  <a:pt x="12278" y="15280"/>
                </a:moveTo>
                <a:cubicBezTo>
                  <a:pt x="12254" y="15079"/>
                  <a:pt x="12203" y="15071"/>
                  <a:pt x="12030" y="15007"/>
                </a:cubicBezTo>
                <a:cubicBezTo>
                  <a:pt x="11903" y="15185"/>
                  <a:pt x="11882" y="15260"/>
                  <a:pt x="11881" y="15478"/>
                </a:cubicBezTo>
                <a:cubicBezTo>
                  <a:pt x="12191" y="15503"/>
                  <a:pt x="12132" y="15495"/>
                  <a:pt x="12254" y="15205"/>
                </a:cubicBezTo>
              </a:path>
              <a:path w="7244" h="3002">
                <a:moveTo>
                  <a:pt x="12129" y="14585"/>
                </a:moveTo>
                <a:cubicBezTo>
                  <a:pt x="12208" y="14881"/>
                  <a:pt x="12270" y="15177"/>
                  <a:pt x="12328" y="15478"/>
                </a:cubicBezTo>
              </a:path>
              <a:path w="7244" h="3002">
                <a:moveTo>
                  <a:pt x="12675" y="15056"/>
                </a:moveTo>
                <a:cubicBezTo>
                  <a:pt x="12736" y="15178"/>
                  <a:pt x="12779" y="15284"/>
                  <a:pt x="12874" y="15379"/>
                </a:cubicBezTo>
                <a:cubicBezTo>
                  <a:pt x="12874" y="15228"/>
                  <a:pt x="12867" y="15067"/>
                  <a:pt x="12898" y="14932"/>
                </a:cubicBezTo>
                <a:cubicBezTo>
                  <a:pt x="12898" y="14924"/>
                  <a:pt x="12898" y="14916"/>
                  <a:pt x="12898" y="14908"/>
                </a:cubicBezTo>
              </a:path>
              <a:path w="7244" h="3002">
                <a:moveTo>
                  <a:pt x="13097" y="15081"/>
                </a:moveTo>
                <a:cubicBezTo>
                  <a:pt x="13112" y="15208"/>
                  <a:pt x="13083" y="15349"/>
                  <a:pt x="13146" y="15304"/>
                </a:cubicBezTo>
              </a:path>
              <a:path w="7244" h="3002">
                <a:moveTo>
                  <a:pt x="13519" y="15081"/>
                </a:moveTo>
                <a:cubicBezTo>
                  <a:pt x="13519" y="14981"/>
                  <a:pt x="13433" y="14926"/>
                  <a:pt x="13370" y="14858"/>
                </a:cubicBezTo>
                <a:cubicBezTo>
                  <a:pt x="13254" y="15051"/>
                  <a:pt x="13162" y="15156"/>
                  <a:pt x="13320" y="15329"/>
                </a:cubicBezTo>
                <a:cubicBezTo>
                  <a:pt x="13457" y="15247"/>
                  <a:pt x="13504" y="15209"/>
                  <a:pt x="13519" y="15081"/>
                </a:cubicBezTo>
              </a:path>
              <a:path w="7244" h="3002">
                <a:moveTo>
                  <a:pt x="13419" y="14560"/>
                </a:moveTo>
                <a:cubicBezTo>
                  <a:pt x="13450" y="14757"/>
                  <a:pt x="13482" y="15071"/>
                  <a:pt x="13568" y="15255"/>
                </a:cubicBezTo>
                <a:cubicBezTo>
                  <a:pt x="13585" y="15263"/>
                  <a:pt x="13601" y="15272"/>
                  <a:pt x="13618" y="15280"/>
                </a:cubicBezTo>
              </a:path>
              <a:path w="7244" h="3002">
                <a:moveTo>
                  <a:pt x="13667" y="15007"/>
                </a:moveTo>
                <a:cubicBezTo>
                  <a:pt x="13693" y="15007"/>
                  <a:pt x="13967" y="15035"/>
                  <a:pt x="13940" y="14982"/>
                </a:cubicBezTo>
                <a:cubicBezTo>
                  <a:pt x="13932" y="14974"/>
                  <a:pt x="13923" y="14965"/>
                  <a:pt x="13915" y="14957"/>
                </a:cubicBezTo>
                <a:cubicBezTo>
                  <a:pt x="13753" y="14866"/>
                  <a:pt x="13568" y="14888"/>
                  <a:pt x="13618" y="15156"/>
                </a:cubicBezTo>
                <a:cubicBezTo>
                  <a:pt x="13687" y="15530"/>
                  <a:pt x="14009" y="15152"/>
                  <a:pt x="14089" y="15056"/>
                </a:cubicBezTo>
              </a:path>
              <a:path w="7244" h="3002">
                <a:moveTo>
                  <a:pt x="14039" y="15156"/>
                </a:moveTo>
                <a:cubicBezTo>
                  <a:pt x="14058" y="15213"/>
                  <a:pt x="14067" y="15220"/>
                  <a:pt x="14064" y="15255"/>
                </a:cubicBezTo>
                <a:cubicBezTo>
                  <a:pt x="14053" y="15130"/>
                  <a:pt x="13994" y="14976"/>
                  <a:pt x="14114" y="14883"/>
                </a:cubicBezTo>
                <a:cubicBezTo>
                  <a:pt x="14281" y="14754"/>
                  <a:pt x="14420" y="15073"/>
                  <a:pt x="14461" y="15180"/>
                </a:cubicBezTo>
                <a:cubicBezTo>
                  <a:pt x="14461" y="15222"/>
                  <a:pt x="14461" y="15247"/>
                  <a:pt x="14461" y="15205"/>
                </a:cubicBezTo>
              </a:path>
              <a:path w="7244" h="3002">
                <a:moveTo>
                  <a:pt x="14858" y="14858"/>
                </a:moveTo>
                <a:cubicBezTo>
                  <a:pt x="14858" y="14774"/>
                  <a:pt x="14851" y="14741"/>
                  <a:pt x="14784" y="14709"/>
                </a:cubicBezTo>
                <a:cubicBezTo>
                  <a:pt x="14530" y="14806"/>
                  <a:pt x="14449" y="14887"/>
                  <a:pt x="14436" y="15156"/>
                </a:cubicBezTo>
                <a:cubicBezTo>
                  <a:pt x="14721" y="15181"/>
                  <a:pt x="14681" y="15132"/>
                  <a:pt x="14858" y="14883"/>
                </a:cubicBezTo>
              </a:path>
              <a:path w="7244" h="3002">
                <a:moveTo>
                  <a:pt x="14635" y="14213"/>
                </a:moveTo>
                <a:cubicBezTo>
                  <a:pt x="14706" y="14498"/>
                  <a:pt x="14748" y="14804"/>
                  <a:pt x="14833" y="15081"/>
                </a:cubicBezTo>
              </a:path>
              <a:path w="7244" h="3002">
                <a:moveTo>
                  <a:pt x="13494" y="12998"/>
                </a:moveTo>
                <a:cubicBezTo>
                  <a:pt x="13554" y="13237"/>
                  <a:pt x="13616" y="13471"/>
                  <a:pt x="13643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10000" y="5187960"/>
            <a:ext cx="401760" cy="285840"/>
          </a:xfrm>
          <a:custGeom>
            <a:avLst/>
            <a:gdLst/>
            <a:ahLst/>
            <a:rect l="l" t="t" r="r" b="b"/>
            <a:pathLst>
              <a:path w="1117" h="794">
                <a:moveTo>
                  <a:pt x="9847" y="14759"/>
                </a:moveTo>
                <a:cubicBezTo>
                  <a:pt x="9835" y="14795"/>
                  <a:pt x="9764" y="14809"/>
                  <a:pt x="9748" y="14858"/>
                </a:cubicBezTo>
                <a:cubicBezTo>
                  <a:pt x="9748" y="14908"/>
                  <a:pt x="9748" y="14924"/>
                  <a:pt x="9748" y="14957"/>
                </a:cubicBezTo>
                <a:cubicBezTo>
                  <a:pt x="9839" y="14957"/>
                  <a:pt x="10045" y="14880"/>
                  <a:pt x="10096" y="14982"/>
                </a:cubicBezTo>
                <a:cubicBezTo>
                  <a:pt x="10141" y="15071"/>
                  <a:pt x="9970" y="15246"/>
                  <a:pt x="9872" y="15205"/>
                </a:cubicBezTo>
                <a:cubicBezTo>
                  <a:pt x="9864" y="15189"/>
                  <a:pt x="9855" y="15172"/>
                  <a:pt x="9847" y="15156"/>
                </a:cubicBezTo>
              </a:path>
              <a:path w="1117" h="794">
                <a:moveTo>
                  <a:pt x="10368" y="14734"/>
                </a:moveTo>
                <a:cubicBezTo>
                  <a:pt x="10261" y="14878"/>
                  <a:pt x="10238" y="14927"/>
                  <a:pt x="10294" y="15081"/>
                </a:cubicBezTo>
                <a:cubicBezTo>
                  <a:pt x="10453" y="15039"/>
                  <a:pt x="10547" y="14935"/>
                  <a:pt x="10418" y="14759"/>
                </a:cubicBezTo>
                <a:cubicBezTo>
                  <a:pt x="10401" y="14751"/>
                  <a:pt x="10385" y="14742"/>
                  <a:pt x="10368" y="14734"/>
                </a:cubicBezTo>
              </a:path>
              <a:path w="1117" h="794">
                <a:moveTo>
                  <a:pt x="10716" y="14908"/>
                </a:moveTo>
                <a:cubicBezTo>
                  <a:pt x="10668" y="14739"/>
                  <a:pt x="10622" y="14623"/>
                  <a:pt x="10740" y="14461"/>
                </a:cubicBezTo>
                <a:cubicBezTo>
                  <a:pt x="10804" y="14419"/>
                  <a:pt x="10815" y="14403"/>
                  <a:pt x="10864" y="144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95920" y="2625840"/>
            <a:ext cx="1482480" cy="2268360"/>
          </a:xfrm>
          <a:custGeom>
            <a:avLst/>
            <a:gdLst/>
            <a:ahLst/>
            <a:rect l="l" t="t" r="r" b="b"/>
            <a:pathLst>
              <a:path w="4119" h="6301">
                <a:moveTo>
                  <a:pt x="16892" y="7293"/>
                </a:moveTo>
                <a:cubicBezTo>
                  <a:pt x="16969" y="7522"/>
                  <a:pt x="17034" y="7746"/>
                  <a:pt x="17066" y="7987"/>
                </a:cubicBezTo>
                <a:cubicBezTo>
                  <a:pt x="17066" y="8004"/>
                  <a:pt x="17066" y="8020"/>
                  <a:pt x="17066" y="8037"/>
                </a:cubicBezTo>
              </a:path>
              <a:path w="4119" h="6301">
                <a:moveTo>
                  <a:pt x="17363" y="7714"/>
                </a:moveTo>
                <a:cubicBezTo>
                  <a:pt x="17406" y="7863"/>
                  <a:pt x="17416" y="7895"/>
                  <a:pt x="17438" y="7987"/>
                </a:cubicBezTo>
              </a:path>
              <a:path w="4119" h="6301">
                <a:moveTo>
                  <a:pt x="17314" y="7417"/>
                </a:moveTo>
                <a:lnTo>
                  <a:pt x="17314" y="7417"/>
                </a:lnTo>
                <a:lnTo>
                  <a:pt x="17314" y="7417"/>
                </a:lnTo>
              </a:path>
              <a:path w="4119" h="6301">
                <a:moveTo>
                  <a:pt x="17314" y="7417"/>
                </a:moveTo>
                <a:lnTo>
                  <a:pt x="17314" y="7417"/>
                </a:lnTo>
              </a:path>
              <a:path w="4119" h="6301">
                <a:moveTo>
                  <a:pt x="13320" y="13320"/>
                </a:moveTo>
                <a:cubicBezTo>
                  <a:pt x="13501" y="13275"/>
                  <a:pt x="13725" y="13225"/>
                  <a:pt x="13866" y="13395"/>
                </a:cubicBezTo>
                <a:cubicBezTo>
                  <a:pt x="13908" y="13502"/>
                  <a:pt x="13919" y="13526"/>
                  <a:pt x="13940" y="13593"/>
                </a:cubicBezTo>
              </a:path>
              <a:path w="4119" h="6301">
                <a:moveTo>
                  <a:pt x="13791" y="13122"/>
                </a:moveTo>
                <a:lnTo>
                  <a:pt x="13791" y="13122"/>
                </a:lnTo>
              </a:path>
              <a:path w="4119" h="6301">
                <a:moveTo>
                  <a:pt x="13791" y="13122"/>
                </a:moveTo>
                <a:lnTo>
                  <a:pt x="13791" y="1312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When dividing a decimal by a whole number, place the decimal point in the quotient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bove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 the decimal point in the divid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6720" y="3886200"/>
          <a:ext cx="144756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86200"/>
                    <a:ext cx="14475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 flipV="1">
            <a:off x="4343400" y="5029200"/>
            <a:ext cx="0" cy="4572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3505320"/>
            <a:ext cx="0" cy="53316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76800" y="4429080"/>
            <a:ext cx="125280" cy="401760"/>
          </a:xfrm>
          <a:custGeom>
            <a:avLst/>
            <a:gdLst/>
            <a:ahLst/>
            <a:rect l="l" t="t" r="r" b="b"/>
            <a:pathLst>
              <a:path w="349" h="1117">
                <a:moveTo>
                  <a:pt x="12030" y="13370"/>
                </a:moveTo>
                <a:cubicBezTo>
                  <a:pt x="12030" y="13412"/>
                  <a:pt x="12030" y="13337"/>
                  <a:pt x="12030" y="13295"/>
                </a:cubicBezTo>
                <a:cubicBezTo>
                  <a:pt x="12030" y="13256"/>
                  <a:pt x="12005" y="13241"/>
                  <a:pt x="12005" y="13196"/>
                </a:cubicBezTo>
                <a:cubicBezTo>
                  <a:pt x="12005" y="13113"/>
                  <a:pt x="12004" y="13044"/>
                  <a:pt x="11981" y="12973"/>
                </a:cubicBezTo>
                <a:cubicBezTo>
                  <a:pt x="11948" y="12870"/>
                  <a:pt x="11983" y="12733"/>
                  <a:pt x="11956" y="12626"/>
                </a:cubicBezTo>
                <a:cubicBezTo>
                  <a:pt x="11941" y="12566"/>
                  <a:pt x="11980" y="12333"/>
                  <a:pt x="11956" y="12427"/>
                </a:cubicBezTo>
                <a:cubicBezTo>
                  <a:pt x="11943" y="12480"/>
                  <a:pt x="11911" y="12529"/>
                  <a:pt x="11906" y="12576"/>
                </a:cubicBezTo>
                <a:cubicBezTo>
                  <a:pt x="11901" y="12617"/>
                  <a:pt x="11881" y="12594"/>
                  <a:pt x="11881" y="12650"/>
                </a:cubicBezTo>
                <a:cubicBezTo>
                  <a:pt x="11881" y="12658"/>
                  <a:pt x="11881" y="12667"/>
                  <a:pt x="11881" y="12675"/>
                </a:cubicBezTo>
                <a:cubicBezTo>
                  <a:pt x="11881" y="12625"/>
                  <a:pt x="11889" y="12545"/>
                  <a:pt x="11906" y="12502"/>
                </a:cubicBezTo>
                <a:cubicBezTo>
                  <a:pt x="11925" y="12456"/>
                  <a:pt x="11966" y="12399"/>
                  <a:pt x="11981" y="12353"/>
                </a:cubicBezTo>
                <a:cubicBezTo>
                  <a:pt x="11995" y="12310"/>
                  <a:pt x="11961" y="12318"/>
                  <a:pt x="12005" y="12303"/>
                </a:cubicBezTo>
                <a:cubicBezTo>
                  <a:pt x="12087" y="12385"/>
                  <a:pt x="12122" y="12454"/>
                  <a:pt x="12179" y="12551"/>
                </a:cubicBezTo>
                <a:cubicBezTo>
                  <a:pt x="12200" y="12586"/>
                  <a:pt x="12200" y="12591"/>
                  <a:pt x="12229" y="12601"/>
                </a:cubicBezTo>
                <a:cubicBezTo>
                  <a:pt x="12207" y="12590"/>
                  <a:pt x="12160" y="12538"/>
                  <a:pt x="12154" y="12526"/>
                </a:cubicBezTo>
                <a:cubicBezTo>
                  <a:pt x="12135" y="12489"/>
                  <a:pt x="12123" y="12445"/>
                  <a:pt x="12105" y="12402"/>
                </a:cubicBezTo>
                <a:cubicBezTo>
                  <a:pt x="12007" y="12422"/>
                  <a:pt x="12034" y="12458"/>
                  <a:pt x="11981" y="12551"/>
                </a:cubicBezTo>
                <a:cubicBezTo>
                  <a:pt x="11949" y="12607"/>
                  <a:pt x="11902" y="12647"/>
                  <a:pt x="11881" y="12700"/>
                </a:cubicBezTo>
                <a:cubicBezTo>
                  <a:pt x="11922" y="12610"/>
                  <a:pt x="11988" y="12538"/>
                  <a:pt x="12030" y="12452"/>
                </a:cubicBezTo>
                <a:cubicBezTo>
                  <a:pt x="12030" y="12424"/>
                  <a:pt x="12032" y="12413"/>
                  <a:pt x="12055" y="12402"/>
                </a:cubicBezTo>
                <a:cubicBezTo>
                  <a:pt x="12079" y="12486"/>
                  <a:pt x="12122" y="12558"/>
                  <a:pt x="12129" y="12650"/>
                </a:cubicBezTo>
                <a:cubicBezTo>
                  <a:pt x="12129" y="12658"/>
                  <a:pt x="12129" y="12667"/>
                  <a:pt x="12129" y="12675"/>
                </a:cubicBezTo>
              </a:path>
              <a:path w="349" h="1117">
                <a:moveTo>
                  <a:pt x="12055" y="12576"/>
                </a:moveTo>
                <a:cubicBezTo>
                  <a:pt x="12031" y="12479"/>
                  <a:pt x="12053" y="12564"/>
                  <a:pt x="12055" y="12626"/>
                </a:cubicBezTo>
                <a:cubicBezTo>
                  <a:pt x="12060" y="12779"/>
                  <a:pt x="12057" y="12927"/>
                  <a:pt x="12080" y="13072"/>
                </a:cubicBezTo>
                <a:cubicBezTo>
                  <a:pt x="12097" y="13181"/>
                  <a:pt x="12080" y="13308"/>
                  <a:pt x="12080" y="13419"/>
                </a:cubicBezTo>
                <a:cubicBezTo>
                  <a:pt x="12080" y="13302"/>
                  <a:pt x="12041" y="13210"/>
                  <a:pt x="12030" y="13097"/>
                </a:cubicBezTo>
                <a:cubicBezTo>
                  <a:pt x="12016" y="12950"/>
                  <a:pt x="12022" y="12789"/>
                  <a:pt x="12055" y="12650"/>
                </a:cubicBezTo>
                <a:cubicBezTo>
                  <a:pt x="12061" y="12624"/>
                  <a:pt x="12055" y="12576"/>
                  <a:pt x="12055" y="12551"/>
                </a:cubicBezTo>
                <a:cubicBezTo>
                  <a:pt x="12055" y="12482"/>
                  <a:pt x="12030" y="12672"/>
                  <a:pt x="12030" y="12675"/>
                </a:cubicBezTo>
                <a:cubicBezTo>
                  <a:pt x="12046" y="12826"/>
                  <a:pt x="12055" y="12969"/>
                  <a:pt x="12055" y="13122"/>
                </a:cubicBezTo>
                <a:cubicBezTo>
                  <a:pt x="12055" y="13134"/>
                  <a:pt x="12055" y="13238"/>
                  <a:pt x="12055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)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)   291.7 ÷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)  0.7368 ÷ 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95280" y="1488960"/>
          <a:ext cx="16765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88960"/>
                    <a:ext cx="16765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334120" y="4114800"/>
          <a:ext cx="190476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114800"/>
                    <a:ext cx="19047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3589200" y="571680"/>
            <a:ext cx="4152960" cy="322200"/>
          </a:xfrm>
          <a:custGeom>
            <a:avLst/>
            <a:gdLst/>
            <a:ahLst/>
            <a:rect l="l" t="t" r="r" b="b"/>
            <a:pathLst>
              <a:path w="11536" h="893">
                <a:moveTo>
                  <a:pt x="9971" y="2381"/>
                </a:moveTo>
                <a:cubicBezTo>
                  <a:pt x="9971" y="2409"/>
                  <a:pt x="9973" y="2420"/>
                  <a:pt x="9996" y="2431"/>
                </a:cubicBezTo>
              </a:path>
              <a:path w="11536" h="893">
                <a:moveTo>
                  <a:pt x="11187" y="2158"/>
                </a:moveTo>
                <a:cubicBezTo>
                  <a:pt x="11211" y="2270"/>
                  <a:pt x="11205" y="2381"/>
                  <a:pt x="11261" y="2480"/>
                </a:cubicBezTo>
              </a:path>
              <a:path w="11536" h="893">
                <a:moveTo>
                  <a:pt x="11237" y="2034"/>
                </a:moveTo>
                <a:cubicBezTo>
                  <a:pt x="11229" y="2034"/>
                  <a:pt x="11220" y="2034"/>
                  <a:pt x="11212" y="2034"/>
                </a:cubicBezTo>
              </a:path>
              <a:path w="11536" h="893">
                <a:moveTo>
                  <a:pt x="11212" y="2034"/>
                </a:moveTo>
                <a:lnTo>
                  <a:pt x="11212" y="2034"/>
                </a:lnTo>
              </a:path>
              <a:path w="11536" h="893">
                <a:moveTo>
                  <a:pt x="12030" y="1984"/>
                </a:moveTo>
                <a:cubicBezTo>
                  <a:pt x="12038" y="1968"/>
                  <a:pt x="12047" y="1951"/>
                  <a:pt x="12055" y="1935"/>
                </a:cubicBezTo>
              </a:path>
              <a:path w="11536" h="893">
                <a:moveTo>
                  <a:pt x="12055" y="1935"/>
                </a:moveTo>
                <a:lnTo>
                  <a:pt x="12055" y="1935"/>
                </a:lnTo>
              </a:path>
              <a:path w="11536" h="893">
                <a:moveTo>
                  <a:pt x="16619" y="2381"/>
                </a:moveTo>
                <a:cubicBezTo>
                  <a:pt x="16619" y="2398"/>
                  <a:pt x="16619" y="2414"/>
                  <a:pt x="16619" y="2431"/>
                </a:cubicBezTo>
              </a:path>
              <a:path w="11536" h="893">
                <a:moveTo>
                  <a:pt x="16619" y="2431"/>
                </a:moveTo>
                <a:lnTo>
                  <a:pt x="16619" y="2431"/>
                </a:lnTo>
              </a:path>
              <a:path w="11536" h="893">
                <a:moveTo>
                  <a:pt x="21506" y="1612"/>
                </a:moveTo>
                <a:cubicBezTo>
                  <a:pt x="21506" y="1604"/>
                  <a:pt x="21506" y="1596"/>
                  <a:pt x="21506" y="1588"/>
                </a:cubicBezTo>
              </a:path>
              <a:path w="11536" h="893">
                <a:moveTo>
                  <a:pt x="21506" y="1588"/>
                </a:moveTo>
                <a:lnTo>
                  <a:pt x="21506" y="158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56000" y="704880"/>
            <a:ext cx="9360" cy="2160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9599" y="1984"/>
                </a:moveTo>
                <a:cubicBezTo>
                  <a:pt x="9599" y="1907"/>
                  <a:pt x="9622" y="2341"/>
                  <a:pt x="9624" y="2381"/>
                </a:cubicBezTo>
                <a:cubicBezTo>
                  <a:pt x="9627" y="2438"/>
                  <a:pt x="9624" y="2498"/>
                  <a:pt x="9624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21040" y="669960"/>
            <a:ext cx="152640" cy="2761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0914" y="2282"/>
                </a:moveTo>
                <a:cubicBezTo>
                  <a:pt x="10906" y="2236"/>
                  <a:pt x="10890" y="2130"/>
                  <a:pt x="10815" y="2133"/>
                </a:cubicBezTo>
                <a:cubicBezTo>
                  <a:pt x="10651" y="2141"/>
                  <a:pt x="10590" y="2353"/>
                  <a:pt x="10641" y="2480"/>
                </a:cubicBezTo>
                <a:cubicBezTo>
                  <a:pt x="10692" y="2608"/>
                  <a:pt x="10821" y="2679"/>
                  <a:pt x="10914" y="2555"/>
                </a:cubicBezTo>
                <a:cubicBezTo>
                  <a:pt x="10939" y="2514"/>
                  <a:pt x="10963" y="2472"/>
                  <a:pt x="10988" y="2431"/>
                </a:cubicBezTo>
              </a:path>
              <a:path w="423" h="770">
                <a:moveTo>
                  <a:pt x="10964" y="1860"/>
                </a:moveTo>
                <a:cubicBezTo>
                  <a:pt x="10979" y="2075"/>
                  <a:pt x="11006" y="2295"/>
                  <a:pt x="11038" y="2505"/>
                </a:cubicBezTo>
                <a:cubicBezTo>
                  <a:pt x="11038" y="2513"/>
                  <a:pt x="11038" y="2522"/>
                  <a:pt x="11038" y="25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25960" y="642960"/>
            <a:ext cx="615960" cy="258840"/>
          </a:xfrm>
          <a:custGeom>
            <a:avLst/>
            <a:gdLst/>
            <a:ahLst/>
            <a:rect l="l" t="t" r="r" b="b"/>
            <a:pathLst>
              <a:path w="1712" h="720">
                <a:moveTo>
                  <a:pt x="11460" y="2059"/>
                </a:moveTo>
                <a:cubicBezTo>
                  <a:pt x="11526" y="2176"/>
                  <a:pt x="11595" y="2279"/>
                  <a:pt x="11683" y="2381"/>
                </a:cubicBezTo>
                <a:cubicBezTo>
                  <a:pt x="11683" y="2405"/>
                  <a:pt x="11758" y="2178"/>
                  <a:pt x="11782" y="2108"/>
                </a:cubicBezTo>
                <a:cubicBezTo>
                  <a:pt x="11782" y="2084"/>
                  <a:pt x="11782" y="2076"/>
                  <a:pt x="11807" y="2084"/>
                </a:cubicBezTo>
              </a:path>
              <a:path w="1712" h="720">
                <a:moveTo>
                  <a:pt x="11981" y="2208"/>
                </a:moveTo>
                <a:cubicBezTo>
                  <a:pt x="11995" y="2311"/>
                  <a:pt x="11988" y="2406"/>
                  <a:pt x="12030" y="2406"/>
                </a:cubicBezTo>
              </a:path>
              <a:path w="1712" h="720">
                <a:moveTo>
                  <a:pt x="12526" y="2158"/>
                </a:moveTo>
                <a:cubicBezTo>
                  <a:pt x="12526" y="2129"/>
                  <a:pt x="12545" y="2042"/>
                  <a:pt x="12477" y="2084"/>
                </a:cubicBezTo>
                <a:cubicBezTo>
                  <a:pt x="12325" y="2177"/>
                  <a:pt x="12276" y="2304"/>
                  <a:pt x="12204" y="2456"/>
                </a:cubicBezTo>
                <a:cubicBezTo>
                  <a:pt x="12432" y="2536"/>
                  <a:pt x="12616" y="2432"/>
                  <a:pt x="12650" y="2158"/>
                </a:cubicBezTo>
                <a:cubicBezTo>
                  <a:pt x="12663" y="2051"/>
                  <a:pt x="12472" y="1848"/>
                  <a:pt x="12502" y="1786"/>
                </a:cubicBezTo>
                <a:cubicBezTo>
                  <a:pt x="12510" y="1786"/>
                  <a:pt x="12518" y="1786"/>
                  <a:pt x="12526" y="1786"/>
                </a:cubicBezTo>
                <a:cubicBezTo>
                  <a:pt x="12623" y="1978"/>
                  <a:pt x="12640" y="2168"/>
                  <a:pt x="12675" y="2381"/>
                </a:cubicBezTo>
              </a:path>
              <a:path w="1712" h="720">
                <a:moveTo>
                  <a:pt x="12849" y="2133"/>
                </a:moveTo>
                <a:cubicBezTo>
                  <a:pt x="12907" y="2133"/>
                  <a:pt x="13030" y="2159"/>
                  <a:pt x="13047" y="2108"/>
                </a:cubicBezTo>
                <a:cubicBezTo>
                  <a:pt x="13015" y="1983"/>
                  <a:pt x="12894" y="2103"/>
                  <a:pt x="12849" y="2158"/>
                </a:cubicBezTo>
                <a:cubicBezTo>
                  <a:pt x="12713" y="2325"/>
                  <a:pt x="12749" y="2474"/>
                  <a:pt x="12973" y="2456"/>
                </a:cubicBezTo>
                <a:cubicBezTo>
                  <a:pt x="13048" y="2450"/>
                  <a:pt x="13107" y="2414"/>
                  <a:pt x="13171" y="23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05640" y="677880"/>
            <a:ext cx="17928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5949" y="1984"/>
                </a:moveTo>
                <a:cubicBezTo>
                  <a:pt x="15977" y="1943"/>
                  <a:pt x="16124" y="1885"/>
                  <a:pt x="16197" y="1885"/>
                </a:cubicBezTo>
                <a:cubicBezTo>
                  <a:pt x="16205" y="1893"/>
                  <a:pt x="16214" y="1902"/>
                  <a:pt x="16222" y="1910"/>
                </a:cubicBezTo>
                <a:cubicBezTo>
                  <a:pt x="16302" y="2132"/>
                  <a:pt x="16174" y="2229"/>
                  <a:pt x="15999" y="2381"/>
                </a:cubicBezTo>
                <a:cubicBezTo>
                  <a:pt x="15908" y="2460"/>
                  <a:pt x="15839" y="2458"/>
                  <a:pt x="15875" y="2530"/>
                </a:cubicBezTo>
                <a:cubicBezTo>
                  <a:pt x="15995" y="2506"/>
                  <a:pt x="16227" y="2414"/>
                  <a:pt x="16346" y="2456"/>
                </a:cubicBezTo>
                <a:cubicBezTo>
                  <a:pt x="16346" y="2464"/>
                  <a:pt x="16346" y="2472"/>
                  <a:pt x="16346" y="24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642960"/>
            <a:ext cx="723600" cy="357120"/>
          </a:xfrm>
          <a:custGeom>
            <a:avLst/>
            <a:gdLst/>
            <a:ahLst/>
            <a:rect l="l" t="t" r="r" b="b"/>
            <a:pathLst>
              <a:path w="2010" h="993">
                <a:moveTo>
                  <a:pt x="17314" y="2158"/>
                </a:moveTo>
                <a:cubicBezTo>
                  <a:pt x="17344" y="2365"/>
                  <a:pt x="17389" y="2575"/>
                  <a:pt x="17363" y="2778"/>
                </a:cubicBezTo>
                <a:cubicBezTo>
                  <a:pt x="17363" y="2559"/>
                  <a:pt x="17344" y="2346"/>
                  <a:pt x="17413" y="2133"/>
                </a:cubicBezTo>
                <a:cubicBezTo>
                  <a:pt x="17480" y="2021"/>
                  <a:pt x="17491" y="1983"/>
                  <a:pt x="17587" y="1984"/>
                </a:cubicBezTo>
                <a:cubicBezTo>
                  <a:pt x="17692" y="2154"/>
                  <a:pt x="17802" y="2354"/>
                  <a:pt x="17487" y="2381"/>
                </a:cubicBezTo>
                <a:cubicBezTo>
                  <a:pt x="17214" y="2404"/>
                  <a:pt x="17365" y="2268"/>
                  <a:pt x="17462" y="2183"/>
                </a:cubicBezTo>
              </a:path>
              <a:path w="2010" h="993">
                <a:moveTo>
                  <a:pt x="17785" y="1786"/>
                </a:moveTo>
                <a:cubicBezTo>
                  <a:pt x="17785" y="1963"/>
                  <a:pt x="17843" y="2130"/>
                  <a:pt x="17859" y="2307"/>
                </a:cubicBezTo>
                <a:cubicBezTo>
                  <a:pt x="17859" y="2390"/>
                  <a:pt x="17859" y="2439"/>
                  <a:pt x="17859" y="2356"/>
                </a:cubicBezTo>
              </a:path>
              <a:path w="2010" h="993">
                <a:moveTo>
                  <a:pt x="18355" y="2108"/>
                </a:moveTo>
                <a:cubicBezTo>
                  <a:pt x="18355" y="2055"/>
                  <a:pt x="18349" y="2034"/>
                  <a:pt x="18331" y="1984"/>
                </a:cubicBezTo>
                <a:cubicBezTo>
                  <a:pt x="18214" y="2056"/>
                  <a:pt x="18028" y="2212"/>
                  <a:pt x="18132" y="2381"/>
                </a:cubicBezTo>
                <a:cubicBezTo>
                  <a:pt x="18190" y="2476"/>
                  <a:pt x="18336" y="2211"/>
                  <a:pt x="18355" y="2183"/>
                </a:cubicBezTo>
                <a:cubicBezTo>
                  <a:pt x="18355" y="2175"/>
                  <a:pt x="18355" y="2166"/>
                  <a:pt x="18355" y="2158"/>
                </a:cubicBezTo>
                <a:cubicBezTo>
                  <a:pt x="18371" y="2319"/>
                  <a:pt x="18354" y="2340"/>
                  <a:pt x="18504" y="2282"/>
                </a:cubicBezTo>
              </a:path>
              <a:path w="2010" h="993">
                <a:moveTo>
                  <a:pt x="18752" y="2034"/>
                </a:moveTo>
                <a:cubicBezTo>
                  <a:pt x="18752" y="2097"/>
                  <a:pt x="18752" y="1980"/>
                  <a:pt x="18752" y="1960"/>
                </a:cubicBezTo>
                <a:cubicBezTo>
                  <a:pt x="18688" y="2023"/>
                  <a:pt x="18506" y="2273"/>
                  <a:pt x="18678" y="2356"/>
                </a:cubicBezTo>
                <a:cubicBezTo>
                  <a:pt x="18719" y="2356"/>
                  <a:pt x="18761" y="2356"/>
                  <a:pt x="18802" y="2356"/>
                </a:cubicBezTo>
              </a:path>
              <a:path w="2010" h="993">
                <a:moveTo>
                  <a:pt x="19075" y="2084"/>
                </a:moveTo>
                <a:cubicBezTo>
                  <a:pt x="19186" y="2059"/>
                  <a:pt x="19241" y="1992"/>
                  <a:pt x="19323" y="1910"/>
                </a:cubicBezTo>
                <a:cubicBezTo>
                  <a:pt x="19185" y="1933"/>
                  <a:pt x="18994" y="1995"/>
                  <a:pt x="19000" y="2183"/>
                </a:cubicBezTo>
                <a:cubicBezTo>
                  <a:pt x="19057" y="2267"/>
                  <a:pt x="19086" y="2294"/>
                  <a:pt x="19174" y="22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50040" y="500040"/>
            <a:ext cx="1197000" cy="349200"/>
          </a:xfrm>
          <a:custGeom>
            <a:avLst/>
            <a:gdLst/>
            <a:ahLst/>
            <a:rect l="l" t="t" r="r" b="b"/>
            <a:pathLst>
              <a:path w="3325" h="968">
                <a:moveTo>
                  <a:pt x="20464" y="2009"/>
                </a:moveTo>
                <a:cubicBezTo>
                  <a:pt x="20490" y="1944"/>
                  <a:pt x="20461" y="1934"/>
                  <a:pt x="20414" y="1860"/>
                </a:cubicBezTo>
                <a:cubicBezTo>
                  <a:pt x="20261" y="1908"/>
                  <a:pt x="20044" y="2094"/>
                  <a:pt x="20166" y="2307"/>
                </a:cubicBezTo>
                <a:cubicBezTo>
                  <a:pt x="20292" y="2527"/>
                  <a:pt x="20472" y="2087"/>
                  <a:pt x="20489" y="2059"/>
                </a:cubicBezTo>
              </a:path>
              <a:path w="3325" h="968">
                <a:moveTo>
                  <a:pt x="20340" y="1563"/>
                </a:moveTo>
                <a:cubicBezTo>
                  <a:pt x="20463" y="1746"/>
                  <a:pt x="20491" y="1940"/>
                  <a:pt x="20513" y="2158"/>
                </a:cubicBezTo>
                <a:cubicBezTo>
                  <a:pt x="20513" y="2215"/>
                  <a:pt x="20513" y="2257"/>
                  <a:pt x="20513" y="2208"/>
                </a:cubicBezTo>
              </a:path>
              <a:path w="3325" h="968">
                <a:moveTo>
                  <a:pt x="20662" y="2009"/>
                </a:moveTo>
                <a:cubicBezTo>
                  <a:pt x="20715" y="2000"/>
                  <a:pt x="20942" y="1977"/>
                  <a:pt x="20935" y="1910"/>
                </a:cubicBezTo>
                <a:cubicBezTo>
                  <a:pt x="20927" y="1885"/>
                  <a:pt x="20918" y="1861"/>
                  <a:pt x="20910" y="1836"/>
                </a:cubicBezTo>
                <a:cubicBezTo>
                  <a:pt x="20724" y="1778"/>
                  <a:pt x="20586" y="1933"/>
                  <a:pt x="20638" y="2158"/>
                </a:cubicBezTo>
                <a:cubicBezTo>
                  <a:pt x="20695" y="2403"/>
                  <a:pt x="20953" y="2156"/>
                  <a:pt x="21034" y="2108"/>
                </a:cubicBezTo>
              </a:path>
              <a:path w="3325" h="968">
                <a:moveTo>
                  <a:pt x="21233" y="1836"/>
                </a:moveTo>
                <a:cubicBezTo>
                  <a:pt x="21233" y="1877"/>
                  <a:pt x="21233" y="1885"/>
                  <a:pt x="21233" y="1910"/>
                </a:cubicBezTo>
                <a:cubicBezTo>
                  <a:pt x="21272" y="1987"/>
                  <a:pt x="21263" y="1787"/>
                  <a:pt x="21233" y="1786"/>
                </a:cubicBezTo>
                <a:cubicBezTo>
                  <a:pt x="21015" y="1775"/>
                  <a:pt x="21094" y="2134"/>
                  <a:pt x="21134" y="2208"/>
                </a:cubicBezTo>
                <a:cubicBezTo>
                  <a:pt x="21325" y="2171"/>
                  <a:pt x="21474" y="2121"/>
                  <a:pt x="21530" y="1910"/>
                </a:cubicBezTo>
                <a:cubicBezTo>
                  <a:pt x="21530" y="1893"/>
                  <a:pt x="21530" y="1877"/>
                  <a:pt x="21530" y="1860"/>
                </a:cubicBezTo>
                <a:cubicBezTo>
                  <a:pt x="21526" y="1892"/>
                  <a:pt x="21452" y="2237"/>
                  <a:pt x="21555" y="2208"/>
                </a:cubicBezTo>
                <a:cubicBezTo>
                  <a:pt x="21563" y="2183"/>
                  <a:pt x="21572" y="2158"/>
                  <a:pt x="21580" y="2133"/>
                </a:cubicBezTo>
              </a:path>
              <a:path w="3325" h="968">
                <a:moveTo>
                  <a:pt x="21729" y="1836"/>
                </a:moveTo>
                <a:cubicBezTo>
                  <a:pt x="21753" y="1944"/>
                  <a:pt x="21775" y="2051"/>
                  <a:pt x="21803" y="2158"/>
                </a:cubicBezTo>
                <a:cubicBezTo>
                  <a:pt x="21803" y="2027"/>
                  <a:pt x="21811" y="1886"/>
                  <a:pt x="21853" y="1761"/>
                </a:cubicBezTo>
                <a:cubicBezTo>
                  <a:pt x="21861" y="1753"/>
                  <a:pt x="21870" y="1744"/>
                  <a:pt x="21878" y="1736"/>
                </a:cubicBezTo>
                <a:cubicBezTo>
                  <a:pt x="22038" y="1852"/>
                  <a:pt x="22081" y="1921"/>
                  <a:pt x="22101" y="2133"/>
                </a:cubicBezTo>
                <a:cubicBezTo>
                  <a:pt x="22101" y="2018"/>
                  <a:pt x="22125" y="1916"/>
                  <a:pt x="22175" y="1811"/>
                </a:cubicBezTo>
                <a:cubicBezTo>
                  <a:pt x="22203" y="1783"/>
                  <a:pt x="22217" y="1774"/>
                  <a:pt x="22250" y="1786"/>
                </a:cubicBezTo>
                <a:cubicBezTo>
                  <a:pt x="22325" y="1910"/>
                  <a:pt x="22378" y="2011"/>
                  <a:pt x="22399" y="2158"/>
                </a:cubicBezTo>
              </a:path>
              <a:path w="3325" h="968">
                <a:moveTo>
                  <a:pt x="22820" y="1885"/>
                </a:moveTo>
                <a:cubicBezTo>
                  <a:pt x="22709" y="1822"/>
                  <a:pt x="22524" y="1978"/>
                  <a:pt x="22473" y="2133"/>
                </a:cubicBezTo>
                <a:cubicBezTo>
                  <a:pt x="22481" y="2150"/>
                  <a:pt x="22490" y="2166"/>
                  <a:pt x="22498" y="2183"/>
                </a:cubicBezTo>
                <a:cubicBezTo>
                  <a:pt x="22658" y="2143"/>
                  <a:pt x="22677" y="2097"/>
                  <a:pt x="22771" y="1960"/>
                </a:cubicBezTo>
                <a:cubicBezTo>
                  <a:pt x="22779" y="2059"/>
                  <a:pt x="22795" y="2204"/>
                  <a:pt x="22944" y="2108"/>
                </a:cubicBezTo>
                <a:cubicBezTo>
                  <a:pt x="23136" y="1985"/>
                  <a:pt x="23129" y="1657"/>
                  <a:pt x="23068" y="1463"/>
                </a:cubicBezTo>
                <a:cubicBezTo>
                  <a:pt x="23052" y="1438"/>
                  <a:pt x="23035" y="1414"/>
                  <a:pt x="23019" y="1389"/>
                </a:cubicBezTo>
                <a:cubicBezTo>
                  <a:pt x="23019" y="1583"/>
                  <a:pt x="22974" y="1829"/>
                  <a:pt x="23068" y="2009"/>
                </a:cubicBezTo>
                <a:cubicBezTo>
                  <a:pt x="23150" y="2165"/>
                  <a:pt x="23323" y="2127"/>
                  <a:pt x="23465" y="21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20880" y="3321000"/>
            <a:ext cx="117360" cy="190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5060" y="9277"/>
                </a:moveTo>
                <a:cubicBezTo>
                  <a:pt x="5171" y="9251"/>
                  <a:pt x="5270" y="9234"/>
                  <a:pt x="5383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74880" y="1303200"/>
            <a:ext cx="930240" cy="277920"/>
          </a:xfrm>
          <a:custGeom>
            <a:avLst/>
            <a:gdLst/>
            <a:ahLst/>
            <a:rect l="l" t="t" r="r" b="b"/>
            <a:pathLst>
              <a:path w="2581" h="770">
                <a:moveTo>
                  <a:pt x="7144" y="4142"/>
                </a:moveTo>
                <a:cubicBezTo>
                  <a:pt x="7202" y="4123"/>
                  <a:pt x="7147" y="4103"/>
                  <a:pt x="7119" y="4118"/>
                </a:cubicBezTo>
                <a:cubicBezTo>
                  <a:pt x="7090" y="4146"/>
                  <a:pt x="7082" y="4159"/>
                  <a:pt x="7094" y="4192"/>
                </a:cubicBezTo>
                <a:cubicBezTo>
                  <a:pt x="7112" y="4185"/>
                  <a:pt x="7218" y="4083"/>
                  <a:pt x="7144" y="4093"/>
                </a:cubicBezTo>
                <a:cubicBezTo>
                  <a:pt x="7101" y="4099"/>
                  <a:pt x="7064" y="4210"/>
                  <a:pt x="7119" y="4217"/>
                </a:cubicBezTo>
                <a:cubicBezTo>
                  <a:pt x="7157" y="4222"/>
                  <a:pt x="7173" y="4116"/>
                  <a:pt x="7144" y="4118"/>
                </a:cubicBezTo>
                <a:cubicBezTo>
                  <a:pt x="7088" y="4145"/>
                  <a:pt x="7071" y="4159"/>
                  <a:pt x="7094" y="4217"/>
                </a:cubicBezTo>
                <a:cubicBezTo>
                  <a:pt x="7119" y="4211"/>
                  <a:pt x="7219" y="4121"/>
                  <a:pt x="7144" y="4118"/>
                </a:cubicBezTo>
                <a:cubicBezTo>
                  <a:pt x="7134" y="4118"/>
                  <a:pt x="7103" y="4279"/>
                  <a:pt x="7144" y="4192"/>
                </a:cubicBezTo>
                <a:cubicBezTo>
                  <a:pt x="7170" y="4137"/>
                  <a:pt x="7081" y="4240"/>
                  <a:pt x="7119" y="4192"/>
                </a:cubicBezTo>
                <a:cubicBezTo>
                  <a:pt x="7127" y="4175"/>
                  <a:pt x="7136" y="4159"/>
                  <a:pt x="7144" y="4142"/>
                </a:cubicBezTo>
              </a:path>
              <a:path w="2581" h="770">
                <a:moveTo>
                  <a:pt x="5209" y="3795"/>
                </a:moveTo>
                <a:cubicBezTo>
                  <a:pt x="5209" y="3930"/>
                  <a:pt x="5249" y="4058"/>
                  <a:pt x="5259" y="4192"/>
                </a:cubicBezTo>
                <a:cubicBezTo>
                  <a:pt x="5265" y="4271"/>
                  <a:pt x="5243" y="4349"/>
                  <a:pt x="5283" y="4390"/>
                </a:cubicBezTo>
              </a:path>
              <a:path w="2581" h="770">
                <a:moveTo>
                  <a:pt x="5829" y="3795"/>
                </a:moveTo>
                <a:cubicBezTo>
                  <a:pt x="5797" y="3731"/>
                  <a:pt x="5762" y="3939"/>
                  <a:pt x="5755" y="3969"/>
                </a:cubicBezTo>
                <a:cubicBezTo>
                  <a:pt x="5733" y="4066"/>
                  <a:pt x="5712" y="4170"/>
                  <a:pt x="5705" y="4266"/>
                </a:cubicBezTo>
                <a:cubicBezTo>
                  <a:pt x="5703" y="4286"/>
                  <a:pt x="5774" y="4342"/>
                  <a:pt x="5804" y="4341"/>
                </a:cubicBezTo>
                <a:cubicBezTo>
                  <a:pt x="5904" y="4336"/>
                  <a:pt x="5940" y="4260"/>
                  <a:pt x="6003" y="4217"/>
                </a:cubicBezTo>
                <a:cubicBezTo>
                  <a:pt x="6040" y="4192"/>
                  <a:pt x="6028" y="4155"/>
                  <a:pt x="6028" y="4093"/>
                </a:cubicBezTo>
                <a:cubicBezTo>
                  <a:pt x="6028" y="4068"/>
                  <a:pt x="6028" y="4060"/>
                  <a:pt x="6028" y="4043"/>
                </a:cubicBezTo>
                <a:cubicBezTo>
                  <a:pt x="5957" y="4043"/>
                  <a:pt x="5908" y="4037"/>
                  <a:pt x="5879" y="4118"/>
                </a:cubicBezTo>
                <a:cubicBezTo>
                  <a:pt x="5861" y="4171"/>
                  <a:pt x="5879" y="4259"/>
                  <a:pt x="5879" y="4316"/>
                </a:cubicBezTo>
              </a:path>
              <a:path w="2581" h="770">
                <a:moveTo>
                  <a:pt x="6300" y="3746"/>
                </a:moveTo>
                <a:cubicBezTo>
                  <a:pt x="6300" y="3835"/>
                  <a:pt x="6300" y="3910"/>
                  <a:pt x="6276" y="3994"/>
                </a:cubicBezTo>
                <a:cubicBezTo>
                  <a:pt x="6375" y="3994"/>
                  <a:pt x="6474" y="3994"/>
                  <a:pt x="6573" y="3994"/>
                </a:cubicBezTo>
              </a:path>
              <a:path w="2581" h="770">
                <a:moveTo>
                  <a:pt x="6524" y="3621"/>
                </a:moveTo>
                <a:cubicBezTo>
                  <a:pt x="6545" y="3812"/>
                  <a:pt x="6548" y="3999"/>
                  <a:pt x="6548" y="4192"/>
                </a:cubicBezTo>
                <a:cubicBezTo>
                  <a:pt x="6548" y="4242"/>
                  <a:pt x="6548" y="4291"/>
                  <a:pt x="6548" y="4341"/>
                </a:cubicBezTo>
              </a:path>
              <a:path w="2581" h="770">
                <a:moveTo>
                  <a:pt x="7491" y="3795"/>
                </a:moveTo>
                <a:cubicBezTo>
                  <a:pt x="7504" y="3731"/>
                  <a:pt x="7513" y="3733"/>
                  <a:pt x="7565" y="3696"/>
                </a:cubicBezTo>
                <a:cubicBezTo>
                  <a:pt x="7694" y="3744"/>
                  <a:pt x="7687" y="3827"/>
                  <a:pt x="7615" y="3944"/>
                </a:cubicBezTo>
                <a:cubicBezTo>
                  <a:pt x="7607" y="3952"/>
                  <a:pt x="7598" y="3961"/>
                  <a:pt x="7590" y="3969"/>
                </a:cubicBezTo>
                <a:cubicBezTo>
                  <a:pt x="7684" y="3950"/>
                  <a:pt x="7852" y="3970"/>
                  <a:pt x="7764" y="4118"/>
                </a:cubicBezTo>
                <a:cubicBezTo>
                  <a:pt x="7713" y="4203"/>
                  <a:pt x="7652" y="4205"/>
                  <a:pt x="7565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43040" y="2098800"/>
            <a:ext cx="1071720" cy="1946160"/>
          </a:xfrm>
          <a:custGeom>
            <a:avLst/>
            <a:gdLst/>
            <a:ahLst/>
            <a:rect l="l" t="t" r="r" b="b"/>
            <a:pathLst>
              <a:path w="2978" h="5409">
                <a:moveTo>
                  <a:pt x="5333" y="5928"/>
                </a:moveTo>
                <a:cubicBezTo>
                  <a:pt x="5333" y="5882"/>
                  <a:pt x="5237" y="5941"/>
                  <a:pt x="5159" y="5953"/>
                </a:cubicBezTo>
                <a:cubicBezTo>
                  <a:pt x="5062" y="5969"/>
                  <a:pt x="5122" y="6056"/>
                  <a:pt x="5135" y="6152"/>
                </a:cubicBezTo>
                <a:cubicBezTo>
                  <a:pt x="5135" y="6160"/>
                  <a:pt x="5135" y="6168"/>
                  <a:pt x="5135" y="6176"/>
                </a:cubicBezTo>
                <a:cubicBezTo>
                  <a:pt x="5193" y="6147"/>
                  <a:pt x="5227" y="6095"/>
                  <a:pt x="5308" y="6077"/>
                </a:cubicBezTo>
                <a:cubicBezTo>
                  <a:pt x="5370" y="6191"/>
                  <a:pt x="5381" y="6320"/>
                  <a:pt x="5234" y="6400"/>
                </a:cubicBezTo>
                <a:cubicBezTo>
                  <a:pt x="5179" y="6430"/>
                  <a:pt x="5119" y="6424"/>
                  <a:pt x="5060" y="6424"/>
                </a:cubicBezTo>
              </a:path>
              <a:path w="2978" h="5409">
                <a:moveTo>
                  <a:pt x="4762" y="6152"/>
                </a:moveTo>
                <a:cubicBezTo>
                  <a:pt x="4847" y="6152"/>
                  <a:pt x="4926" y="6134"/>
                  <a:pt x="5011" y="6127"/>
                </a:cubicBezTo>
              </a:path>
              <a:path w="2978" h="5409">
                <a:moveTo>
                  <a:pt x="4738" y="6524"/>
                </a:moveTo>
                <a:cubicBezTo>
                  <a:pt x="4897" y="6524"/>
                  <a:pt x="5052" y="6530"/>
                  <a:pt x="5209" y="6499"/>
                </a:cubicBezTo>
                <a:cubicBezTo>
                  <a:pt x="5337" y="6474"/>
                  <a:pt x="5355" y="6449"/>
                  <a:pt x="5457" y="6449"/>
                </a:cubicBezTo>
              </a:path>
              <a:path w="2978" h="5409">
                <a:moveTo>
                  <a:pt x="5085" y="6747"/>
                </a:moveTo>
                <a:cubicBezTo>
                  <a:pt x="5072" y="6707"/>
                  <a:pt x="5073" y="6737"/>
                  <a:pt x="5060" y="6697"/>
                </a:cubicBezTo>
                <a:cubicBezTo>
                  <a:pt x="5127" y="6697"/>
                  <a:pt x="5178" y="6705"/>
                  <a:pt x="5234" y="6722"/>
                </a:cubicBezTo>
                <a:cubicBezTo>
                  <a:pt x="5301" y="6742"/>
                  <a:pt x="5230" y="6870"/>
                  <a:pt x="5184" y="6896"/>
                </a:cubicBezTo>
                <a:cubicBezTo>
                  <a:pt x="5151" y="6904"/>
                  <a:pt x="5118" y="6913"/>
                  <a:pt x="5085" y="6921"/>
                </a:cubicBezTo>
                <a:cubicBezTo>
                  <a:pt x="5154" y="6893"/>
                  <a:pt x="5335" y="6805"/>
                  <a:pt x="5308" y="6995"/>
                </a:cubicBezTo>
                <a:cubicBezTo>
                  <a:pt x="5297" y="7074"/>
                  <a:pt x="5172" y="7211"/>
                  <a:pt x="5085" y="7193"/>
                </a:cubicBezTo>
                <a:cubicBezTo>
                  <a:pt x="5062" y="7171"/>
                  <a:pt x="5051" y="7163"/>
                  <a:pt x="5085" y="7169"/>
                </a:cubicBezTo>
              </a:path>
              <a:path w="2978" h="5409">
                <a:moveTo>
                  <a:pt x="5829" y="5928"/>
                </a:moveTo>
                <a:cubicBezTo>
                  <a:pt x="5829" y="6143"/>
                  <a:pt x="5829" y="6358"/>
                  <a:pt x="5829" y="6573"/>
                </a:cubicBezTo>
              </a:path>
              <a:path w="2978" h="5409">
                <a:moveTo>
                  <a:pt x="5730" y="6449"/>
                </a:moveTo>
                <a:cubicBezTo>
                  <a:pt x="5750" y="6483"/>
                  <a:pt x="5789" y="6597"/>
                  <a:pt x="5854" y="6548"/>
                </a:cubicBezTo>
                <a:cubicBezTo>
                  <a:pt x="5931" y="6491"/>
                  <a:pt x="5942" y="6371"/>
                  <a:pt x="6028" y="6350"/>
                </a:cubicBezTo>
              </a:path>
              <a:path w="2978" h="5409">
                <a:moveTo>
                  <a:pt x="5680" y="6747"/>
                </a:moveTo>
                <a:cubicBezTo>
                  <a:pt x="5680" y="6668"/>
                  <a:pt x="5733" y="6675"/>
                  <a:pt x="5804" y="6672"/>
                </a:cubicBezTo>
                <a:cubicBezTo>
                  <a:pt x="5924" y="6667"/>
                  <a:pt x="5914" y="6706"/>
                  <a:pt x="5904" y="6796"/>
                </a:cubicBezTo>
                <a:cubicBezTo>
                  <a:pt x="5894" y="6886"/>
                  <a:pt x="5845" y="6889"/>
                  <a:pt x="5779" y="6945"/>
                </a:cubicBezTo>
                <a:cubicBezTo>
                  <a:pt x="5702" y="7009"/>
                  <a:pt x="5633" y="7085"/>
                  <a:pt x="5581" y="7169"/>
                </a:cubicBezTo>
                <a:cubicBezTo>
                  <a:pt x="5581" y="7225"/>
                  <a:pt x="5612" y="7110"/>
                  <a:pt x="5631" y="7094"/>
                </a:cubicBezTo>
                <a:cubicBezTo>
                  <a:pt x="5722" y="7017"/>
                  <a:pt x="5758" y="7169"/>
                  <a:pt x="5829" y="7169"/>
                </a:cubicBezTo>
                <a:cubicBezTo>
                  <a:pt x="5874" y="7169"/>
                  <a:pt x="5938" y="7114"/>
                  <a:pt x="5953" y="7094"/>
                </a:cubicBezTo>
              </a:path>
              <a:path w="2978" h="5409">
                <a:moveTo>
                  <a:pt x="5085" y="7541"/>
                </a:moveTo>
                <a:cubicBezTo>
                  <a:pt x="5111" y="7462"/>
                  <a:pt x="5182" y="7367"/>
                  <a:pt x="5283" y="7367"/>
                </a:cubicBezTo>
                <a:cubicBezTo>
                  <a:pt x="5291" y="7375"/>
                  <a:pt x="5300" y="7384"/>
                  <a:pt x="5308" y="7392"/>
                </a:cubicBezTo>
                <a:cubicBezTo>
                  <a:pt x="5336" y="7514"/>
                  <a:pt x="5293" y="7530"/>
                  <a:pt x="5184" y="7590"/>
                </a:cubicBezTo>
                <a:cubicBezTo>
                  <a:pt x="5217" y="7582"/>
                  <a:pt x="5315" y="7520"/>
                  <a:pt x="5333" y="7590"/>
                </a:cubicBezTo>
                <a:cubicBezTo>
                  <a:pt x="5380" y="7769"/>
                  <a:pt x="5222" y="7827"/>
                  <a:pt x="5085" y="7863"/>
                </a:cubicBezTo>
                <a:cubicBezTo>
                  <a:pt x="5021" y="7880"/>
                  <a:pt x="5110" y="7784"/>
                  <a:pt x="5159" y="7739"/>
                </a:cubicBezTo>
              </a:path>
              <a:path w="2978" h="5409">
                <a:moveTo>
                  <a:pt x="5829" y="7367"/>
                </a:moveTo>
                <a:cubicBezTo>
                  <a:pt x="5731" y="7476"/>
                  <a:pt x="5689" y="7539"/>
                  <a:pt x="5680" y="7689"/>
                </a:cubicBezTo>
                <a:cubicBezTo>
                  <a:pt x="5680" y="7697"/>
                  <a:pt x="5680" y="7706"/>
                  <a:pt x="5680" y="7714"/>
                </a:cubicBezTo>
                <a:cubicBezTo>
                  <a:pt x="5799" y="7658"/>
                  <a:pt x="5955" y="7567"/>
                  <a:pt x="5829" y="7417"/>
                </a:cubicBezTo>
                <a:cubicBezTo>
                  <a:pt x="5774" y="7389"/>
                  <a:pt x="5751" y="7381"/>
                  <a:pt x="5705" y="7392"/>
                </a:cubicBezTo>
              </a:path>
              <a:path w="2978" h="5409">
                <a:moveTo>
                  <a:pt x="4663" y="7640"/>
                </a:moveTo>
                <a:cubicBezTo>
                  <a:pt x="4713" y="7640"/>
                  <a:pt x="4762" y="7640"/>
                  <a:pt x="4812" y="7640"/>
                </a:cubicBezTo>
              </a:path>
              <a:path w="2978" h="5409">
                <a:moveTo>
                  <a:pt x="4564" y="7987"/>
                </a:moveTo>
                <a:cubicBezTo>
                  <a:pt x="4803" y="7967"/>
                  <a:pt x="5042" y="7958"/>
                  <a:pt x="5283" y="7938"/>
                </a:cubicBezTo>
                <a:cubicBezTo>
                  <a:pt x="5524" y="7918"/>
                  <a:pt x="5762" y="7871"/>
                  <a:pt x="6003" y="7863"/>
                </a:cubicBezTo>
                <a:cubicBezTo>
                  <a:pt x="6019" y="7863"/>
                  <a:pt x="6036" y="7863"/>
                  <a:pt x="6052" y="7863"/>
                </a:cubicBezTo>
              </a:path>
              <a:path w="2978" h="5409">
                <a:moveTo>
                  <a:pt x="5655" y="8161"/>
                </a:moveTo>
                <a:cubicBezTo>
                  <a:pt x="5705" y="8141"/>
                  <a:pt x="5760" y="8069"/>
                  <a:pt x="5829" y="8086"/>
                </a:cubicBezTo>
                <a:cubicBezTo>
                  <a:pt x="5879" y="8111"/>
                  <a:pt x="5895" y="8119"/>
                  <a:pt x="5928" y="8136"/>
                </a:cubicBezTo>
                <a:cubicBezTo>
                  <a:pt x="5904" y="8292"/>
                  <a:pt x="5827" y="8358"/>
                  <a:pt x="5730" y="8483"/>
                </a:cubicBezTo>
                <a:cubicBezTo>
                  <a:pt x="5668" y="8563"/>
                  <a:pt x="5636" y="8658"/>
                  <a:pt x="5581" y="8731"/>
                </a:cubicBezTo>
                <a:cubicBezTo>
                  <a:pt x="5609" y="8648"/>
                  <a:pt x="5617" y="8545"/>
                  <a:pt x="5705" y="8508"/>
                </a:cubicBezTo>
                <a:cubicBezTo>
                  <a:pt x="5798" y="8470"/>
                  <a:pt x="5800" y="8621"/>
                  <a:pt x="5854" y="8632"/>
                </a:cubicBezTo>
                <a:cubicBezTo>
                  <a:pt x="5946" y="8651"/>
                  <a:pt x="5988" y="8623"/>
                  <a:pt x="6028" y="8558"/>
                </a:cubicBezTo>
              </a:path>
              <a:path w="2978" h="5409">
                <a:moveTo>
                  <a:pt x="6598" y="6052"/>
                </a:moveTo>
                <a:cubicBezTo>
                  <a:pt x="6598" y="6134"/>
                  <a:pt x="6610" y="6170"/>
                  <a:pt x="6598" y="6251"/>
                </a:cubicBezTo>
                <a:cubicBezTo>
                  <a:pt x="6580" y="6378"/>
                  <a:pt x="6598" y="6491"/>
                  <a:pt x="6598" y="6623"/>
                </a:cubicBezTo>
                <a:cubicBezTo>
                  <a:pt x="6598" y="6705"/>
                  <a:pt x="6576" y="6765"/>
                  <a:pt x="6573" y="6846"/>
                </a:cubicBezTo>
                <a:cubicBezTo>
                  <a:pt x="6568" y="6973"/>
                  <a:pt x="6552" y="7092"/>
                  <a:pt x="6548" y="7218"/>
                </a:cubicBezTo>
                <a:cubicBezTo>
                  <a:pt x="6545" y="7299"/>
                  <a:pt x="6528" y="7364"/>
                  <a:pt x="6524" y="7441"/>
                </a:cubicBezTo>
                <a:cubicBezTo>
                  <a:pt x="6517" y="7566"/>
                  <a:pt x="6506" y="7722"/>
                  <a:pt x="6548" y="7838"/>
                </a:cubicBezTo>
              </a:path>
              <a:path w="2978" h="5409">
                <a:moveTo>
                  <a:pt x="6325" y="7689"/>
                </a:moveTo>
                <a:cubicBezTo>
                  <a:pt x="6347" y="7821"/>
                  <a:pt x="6398" y="7812"/>
                  <a:pt x="6474" y="7888"/>
                </a:cubicBezTo>
                <a:cubicBezTo>
                  <a:pt x="6496" y="7932"/>
                  <a:pt x="6499" y="7943"/>
                  <a:pt x="6524" y="7962"/>
                </a:cubicBezTo>
                <a:cubicBezTo>
                  <a:pt x="6609" y="7941"/>
                  <a:pt x="6672" y="7832"/>
                  <a:pt x="6722" y="7764"/>
                </a:cubicBezTo>
                <a:cubicBezTo>
                  <a:pt x="6760" y="7707"/>
                  <a:pt x="6754" y="7682"/>
                  <a:pt x="6796" y="7689"/>
                </a:cubicBezTo>
              </a:path>
              <a:path w="2978" h="5409">
                <a:moveTo>
                  <a:pt x="6449" y="8186"/>
                </a:moveTo>
                <a:cubicBezTo>
                  <a:pt x="6449" y="8288"/>
                  <a:pt x="6432" y="8384"/>
                  <a:pt x="6424" y="8483"/>
                </a:cubicBezTo>
                <a:cubicBezTo>
                  <a:pt x="6424" y="8557"/>
                  <a:pt x="6424" y="8566"/>
                  <a:pt x="6424" y="8607"/>
                </a:cubicBezTo>
              </a:path>
              <a:path w="2978" h="5409">
                <a:moveTo>
                  <a:pt x="5705" y="8979"/>
                </a:moveTo>
                <a:cubicBezTo>
                  <a:pt x="5692" y="8928"/>
                  <a:pt x="5740" y="8899"/>
                  <a:pt x="5804" y="8880"/>
                </a:cubicBezTo>
                <a:cubicBezTo>
                  <a:pt x="5906" y="8981"/>
                  <a:pt x="5820" y="9110"/>
                  <a:pt x="5755" y="9227"/>
                </a:cubicBezTo>
                <a:cubicBezTo>
                  <a:pt x="5745" y="9244"/>
                  <a:pt x="5655" y="9448"/>
                  <a:pt x="5655" y="9401"/>
                </a:cubicBezTo>
                <a:cubicBezTo>
                  <a:pt x="5670" y="9343"/>
                  <a:pt x="5702" y="9258"/>
                  <a:pt x="5779" y="9252"/>
                </a:cubicBezTo>
                <a:cubicBezTo>
                  <a:pt x="5878" y="9244"/>
                  <a:pt x="5931" y="9334"/>
                  <a:pt x="6003" y="9327"/>
                </a:cubicBezTo>
                <a:cubicBezTo>
                  <a:pt x="6083" y="9319"/>
                  <a:pt x="6168" y="9223"/>
                  <a:pt x="6226" y="9178"/>
                </a:cubicBezTo>
              </a:path>
              <a:path w="2978" h="5409">
                <a:moveTo>
                  <a:pt x="6325" y="8880"/>
                </a:moveTo>
                <a:cubicBezTo>
                  <a:pt x="6223" y="8970"/>
                  <a:pt x="6132" y="9129"/>
                  <a:pt x="6127" y="9277"/>
                </a:cubicBezTo>
                <a:cubicBezTo>
                  <a:pt x="6135" y="9294"/>
                  <a:pt x="6144" y="9310"/>
                  <a:pt x="6152" y="9327"/>
                </a:cubicBezTo>
                <a:cubicBezTo>
                  <a:pt x="6337" y="9304"/>
                  <a:pt x="6472" y="9226"/>
                  <a:pt x="6400" y="9004"/>
                </a:cubicBezTo>
                <a:cubicBezTo>
                  <a:pt x="6343" y="8947"/>
                  <a:pt x="6317" y="8931"/>
                  <a:pt x="6251" y="8954"/>
                </a:cubicBezTo>
              </a:path>
              <a:path w="2978" h="5409">
                <a:moveTo>
                  <a:pt x="5407" y="9624"/>
                </a:moveTo>
                <a:cubicBezTo>
                  <a:pt x="5610" y="9595"/>
                  <a:pt x="5822" y="9570"/>
                  <a:pt x="6028" y="9550"/>
                </a:cubicBezTo>
                <a:cubicBezTo>
                  <a:pt x="6235" y="9530"/>
                  <a:pt x="6462" y="9500"/>
                  <a:pt x="6672" y="9500"/>
                </a:cubicBezTo>
              </a:path>
              <a:path w="2978" h="5409">
                <a:moveTo>
                  <a:pt x="6375" y="9748"/>
                </a:moveTo>
                <a:cubicBezTo>
                  <a:pt x="6375" y="9706"/>
                  <a:pt x="6365" y="9710"/>
                  <a:pt x="6400" y="9699"/>
                </a:cubicBezTo>
                <a:cubicBezTo>
                  <a:pt x="6383" y="9832"/>
                  <a:pt x="6348" y="9964"/>
                  <a:pt x="6325" y="10096"/>
                </a:cubicBezTo>
                <a:cubicBezTo>
                  <a:pt x="6325" y="10104"/>
                  <a:pt x="6325" y="10112"/>
                  <a:pt x="6325" y="10120"/>
                </a:cubicBezTo>
              </a:path>
              <a:path w="2978" h="5409">
                <a:moveTo>
                  <a:pt x="7491" y="5854"/>
                </a:moveTo>
                <a:cubicBezTo>
                  <a:pt x="7491" y="5929"/>
                  <a:pt x="7491" y="5953"/>
                  <a:pt x="7491" y="6028"/>
                </a:cubicBezTo>
                <a:cubicBezTo>
                  <a:pt x="7491" y="6214"/>
                  <a:pt x="7498" y="6391"/>
                  <a:pt x="7516" y="6573"/>
                </a:cubicBezTo>
                <a:cubicBezTo>
                  <a:pt x="7527" y="6683"/>
                  <a:pt x="7541" y="6783"/>
                  <a:pt x="7541" y="6896"/>
                </a:cubicBezTo>
                <a:cubicBezTo>
                  <a:pt x="7541" y="7042"/>
                  <a:pt x="7532" y="7176"/>
                  <a:pt x="7516" y="7317"/>
                </a:cubicBezTo>
                <a:cubicBezTo>
                  <a:pt x="7498" y="7474"/>
                  <a:pt x="7454" y="7631"/>
                  <a:pt x="7441" y="7789"/>
                </a:cubicBezTo>
                <a:cubicBezTo>
                  <a:pt x="7431" y="7914"/>
                  <a:pt x="7417" y="8035"/>
                  <a:pt x="7417" y="8161"/>
                </a:cubicBezTo>
                <a:cubicBezTo>
                  <a:pt x="7417" y="8263"/>
                  <a:pt x="7412" y="8408"/>
                  <a:pt x="7392" y="8508"/>
                </a:cubicBezTo>
                <a:cubicBezTo>
                  <a:pt x="7372" y="8607"/>
                  <a:pt x="7367" y="8700"/>
                  <a:pt x="7367" y="8806"/>
                </a:cubicBezTo>
                <a:cubicBezTo>
                  <a:pt x="7367" y="8912"/>
                  <a:pt x="7350" y="9001"/>
                  <a:pt x="7342" y="9103"/>
                </a:cubicBezTo>
                <a:cubicBezTo>
                  <a:pt x="7337" y="9160"/>
                  <a:pt x="7342" y="9220"/>
                  <a:pt x="7342" y="9277"/>
                </a:cubicBezTo>
              </a:path>
              <a:path w="2978" h="5409">
                <a:moveTo>
                  <a:pt x="7392" y="9624"/>
                </a:moveTo>
                <a:cubicBezTo>
                  <a:pt x="7316" y="9643"/>
                  <a:pt x="7231" y="9686"/>
                  <a:pt x="7144" y="9699"/>
                </a:cubicBezTo>
                <a:cubicBezTo>
                  <a:pt x="7069" y="9711"/>
                  <a:pt x="7073" y="9735"/>
                  <a:pt x="7069" y="9823"/>
                </a:cubicBezTo>
                <a:cubicBezTo>
                  <a:pt x="7069" y="9848"/>
                  <a:pt x="7069" y="9872"/>
                  <a:pt x="7069" y="9897"/>
                </a:cubicBezTo>
                <a:cubicBezTo>
                  <a:pt x="7149" y="9897"/>
                  <a:pt x="7208" y="9861"/>
                  <a:pt x="7293" y="9872"/>
                </a:cubicBezTo>
                <a:cubicBezTo>
                  <a:pt x="7411" y="9888"/>
                  <a:pt x="7443" y="10050"/>
                  <a:pt x="7342" y="10120"/>
                </a:cubicBezTo>
                <a:cubicBezTo>
                  <a:pt x="7244" y="10188"/>
                  <a:pt x="7073" y="10176"/>
                  <a:pt x="6970" y="10145"/>
                </a:cubicBezTo>
              </a:path>
              <a:path w="2978" h="5409">
                <a:moveTo>
                  <a:pt x="6424" y="10393"/>
                </a:moveTo>
                <a:cubicBezTo>
                  <a:pt x="6375" y="10494"/>
                  <a:pt x="6419" y="10624"/>
                  <a:pt x="6424" y="10740"/>
                </a:cubicBezTo>
                <a:cubicBezTo>
                  <a:pt x="6427" y="10802"/>
                  <a:pt x="6445" y="10733"/>
                  <a:pt x="6449" y="10716"/>
                </a:cubicBezTo>
              </a:path>
              <a:path w="2978" h="5409">
                <a:moveTo>
                  <a:pt x="7169" y="10344"/>
                </a:moveTo>
                <a:cubicBezTo>
                  <a:pt x="7098" y="10344"/>
                  <a:pt x="7036" y="10355"/>
                  <a:pt x="6970" y="10368"/>
                </a:cubicBezTo>
                <a:cubicBezTo>
                  <a:pt x="6909" y="10380"/>
                  <a:pt x="6921" y="10440"/>
                  <a:pt x="6921" y="10492"/>
                </a:cubicBezTo>
                <a:cubicBezTo>
                  <a:pt x="6997" y="10480"/>
                  <a:pt x="7067" y="10452"/>
                  <a:pt x="7144" y="10443"/>
                </a:cubicBezTo>
                <a:cubicBezTo>
                  <a:pt x="7172" y="10581"/>
                  <a:pt x="7108" y="10666"/>
                  <a:pt x="6945" y="10666"/>
                </a:cubicBezTo>
                <a:cubicBezTo>
                  <a:pt x="6929" y="10658"/>
                  <a:pt x="6912" y="10649"/>
                  <a:pt x="6896" y="10641"/>
                </a:cubicBezTo>
              </a:path>
              <a:path w="2978" h="5409">
                <a:moveTo>
                  <a:pt x="5730" y="10517"/>
                </a:moveTo>
                <a:cubicBezTo>
                  <a:pt x="5843" y="10517"/>
                  <a:pt x="5940" y="10509"/>
                  <a:pt x="6052" y="10492"/>
                </a:cubicBezTo>
              </a:path>
              <a:path w="2978" h="5409">
                <a:moveTo>
                  <a:pt x="5755" y="10939"/>
                </a:moveTo>
                <a:cubicBezTo>
                  <a:pt x="6055" y="10921"/>
                  <a:pt x="6358" y="10871"/>
                  <a:pt x="6648" y="10790"/>
                </a:cubicBezTo>
                <a:cubicBezTo>
                  <a:pt x="6855" y="10732"/>
                  <a:pt x="7060" y="10666"/>
                  <a:pt x="7268" y="10616"/>
                </a:cubicBezTo>
              </a:path>
              <a:path w="2978" h="5409">
                <a:moveTo>
                  <a:pt x="7169" y="10864"/>
                </a:moveTo>
                <a:cubicBezTo>
                  <a:pt x="7084" y="11012"/>
                  <a:pt x="7036" y="11084"/>
                  <a:pt x="7094" y="11237"/>
                </a:cubicBezTo>
                <a:cubicBezTo>
                  <a:pt x="7251" y="11178"/>
                  <a:pt x="7407" y="11095"/>
                  <a:pt x="7317" y="10889"/>
                </a:cubicBezTo>
                <a:cubicBezTo>
                  <a:pt x="7295" y="10838"/>
                  <a:pt x="7183" y="10864"/>
                  <a:pt x="7144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3920" y="4687920"/>
            <a:ext cx="1338120" cy="2108160"/>
          </a:xfrm>
          <a:custGeom>
            <a:avLst/>
            <a:gdLst/>
            <a:ahLst/>
            <a:rect l="l" t="t" r="r" b="b"/>
            <a:pathLst>
              <a:path w="3721" h="5855">
                <a:moveTo>
                  <a:pt x="5035" y="14312"/>
                </a:moveTo>
                <a:cubicBezTo>
                  <a:pt x="4941" y="14407"/>
                  <a:pt x="4859" y="14585"/>
                  <a:pt x="4837" y="14734"/>
                </a:cubicBezTo>
                <a:cubicBezTo>
                  <a:pt x="4824" y="14826"/>
                  <a:pt x="4849" y="14917"/>
                  <a:pt x="4961" y="14908"/>
                </a:cubicBezTo>
                <a:cubicBezTo>
                  <a:pt x="5057" y="14900"/>
                  <a:pt x="5161" y="14800"/>
                  <a:pt x="5184" y="14709"/>
                </a:cubicBezTo>
                <a:cubicBezTo>
                  <a:pt x="5197" y="14656"/>
                  <a:pt x="5201" y="14480"/>
                  <a:pt x="5159" y="14436"/>
                </a:cubicBezTo>
                <a:cubicBezTo>
                  <a:pt x="5129" y="14405"/>
                  <a:pt x="5074" y="14372"/>
                  <a:pt x="5035" y="14362"/>
                </a:cubicBezTo>
              </a:path>
              <a:path w="3721" h="5855">
                <a:moveTo>
                  <a:pt x="5358" y="14709"/>
                </a:moveTo>
                <a:cubicBezTo>
                  <a:pt x="5358" y="14756"/>
                  <a:pt x="5342" y="14789"/>
                  <a:pt x="5333" y="14833"/>
                </a:cubicBezTo>
              </a:path>
              <a:path w="3721" h="5855">
                <a:moveTo>
                  <a:pt x="5606" y="14362"/>
                </a:moveTo>
                <a:cubicBezTo>
                  <a:pt x="5618" y="14301"/>
                  <a:pt x="5650" y="14257"/>
                  <a:pt x="5730" y="14263"/>
                </a:cubicBezTo>
                <a:cubicBezTo>
                  <a:pt x="5797" y="14268"/>
                  <a:pt x="5856" y="14288"/>
                  <a:pt x="5928" y="14288"/>
                </a:cubicBezTo>
                <a:cubicBezTo>
                  <a:pt x="5928" y="14410"/>
                  <a:pt x="5898" y="14522"/>
                  <a:pt x="5854" y="14635"/>
                </a:cubicBezTo>
                <a:cubicBezTo>
                  <a:pt x="5851" y="14643"/>
                  <a:pt x="5706" y="14911"/>
                  <a:pt x="5804" y="14784"/>
                </a:cubicBezTo>
              </a:path>
              <a:path w="3721" h="5855">
                <a:moveTo>
                  <a:pt x="6127" y="14362"/>
                </a:moveTo>
                <a:cubicBezTo>
                  <a:pt x="6196" y="14270"/>
                  <a:pt x="6239" y="14238"/>
                  <a:pt x="6350" y="14263"/>
                </a:cubicBezTo>
                <a:cubicBezTo>
                  <a:pt x="6358" y="14334"/>
                  <a:pt x="6335" y="14436"/>
                  <a:pt x="6251" y="14486"/>
                </a:cubicBezTo>
                <a:cubicBezTo>
                  <a:pt x="6243" y="14486"/>
                  <a:pt x="6234" y="14486"/>
                  <a:pt x="6226" y="14486"/>
                </a:cubicBezTo>
                <a:cubicBezTo>
                  <a:pt x="6290" y="14502"/>
                  <a:pt x="6327" y="14558"/>
                  <a:pt x="6325" y="14635"/>
                </a:cubicBezTo>
                <a:cubicBezTo>
                  <a:pt x="6320" y="14807"/>
                  <a:pt x="6182" y="14809"/>
                  <a:pt x="6052" y="14759"/>
                </a:cubicBezTo>
                <a:cubicBezTo>
                  <a:pt x="6044" y="14751"/>
                  <a:pt x="6036" y="14742"/>
                  <a:pt x="6028" y="14734"/>
                </a:cubicBezTo>
              </a:path>
              <a:path w="3721" h="5855">
                <a:moveTo>
                  <a:pt x="6648" y="14263"/>
                </a:moveTo>
                <a:cubicBezTo>
                  <a:pt x="6579" y="14400"/>
                  <a:pt x="6518" y="14529"/>
                  <a:pt x="6499" y="14684"/>
                </a:cubicBezTo>
                <a:cubicBezTo>
                  <a:pt x="6484" y="14804"/>
                  <a:pt x="6516" y="14878"/>
                  <a:pt x="6648" y="14833"/>
                </a:cubicBezTo>
                <a:cubicBezTo>
                  <a:pt x="6751" y="14798"/>
                  <a:pt x="6754" y="14774"/>
                  <a:pt x="6772" y="14684"/>
                </a:cubicBezTo>
                <a:cubicBezTo>
                  <a:pt x="6656" y="14684"/>
                  <a:pt x="6638" y="14703"/>
                  <a:pt x="6573" y="14808"/>
                </a:cubicBezTo>
                <a:cubicBezTo>
                  <a:pt x="6551" y="14852"/>
                  <a:pt x="6538" y="14864"/>
                  <a:pt x="6573" y="14883"/>
                </a:cubicBezTo>
              </a:path>
              <a:path w="3721" h="5855">
                <a:moveTo>
                  <a:pt x="7020" y="14288"/>
                </a:moveTo>
                <a:cubicBezTo>
                  <a:pt x="6939" y="14368"/>
                  <a:pt x="6866" y="14428"/>
                  <a:pt x="6970" y="14536"/>
                </a:cubicBezTo>
                <a:cubicBezTo>
                  <a:pt x="7024" y="14592"/>
                  <a:pt x="7199" y="14685"/>
                  <a:pt x="7119" y="14784"/>
                </a:cubicBezTo>
                <a:cubicBezTo>
                  <a:pt x="7051" y="14852"/>
                  <a:pt x="7034" y="14879"/>
                  <a:pt x="6970" y="14833"/>
                </a:cubicBezTo>
                <a:cubicBezTo>
                  <a:pt x="6970" y="14682"/>
                  <a:pt x="6989" y="14645"/>
                  <a:pt x="7094" y="14536"/>
                </a:cubicBezTo>
                <a:cubicBezTo>
                  <a:pt x="7175" y="14452"/>
                  <a:pt x="7220" y="14394"/>
                  <a:pt x="7193" y="14288"/>
                </a:cubicBezTo>
              </a:path>
              <a:path w="3721" h="5855">
                <a:moveTo>
                  <a:pt x="4514" y="15106"/>
                </a:moveTo>
                <a:cubicBezTo>
                  <a:pt x="4528" y="15074"/>
                  <a:pt x="4573" y="14971"/>
                  <a:pt x="4589" y="14908"/>
                </a:cubicBezTo>
                <a:cubicBezTo>
                  <a:pt x="4624" y="14773"/>
                  <a:pt x="4595" y="14616"/>
                  <a:pt x="4638" y="14486"/>
                </a:cubicBezTo>
                <a:cubicBezTo>
                  <a:pt x="4661" y="14417"/>
                  <a:pt x="4683" y="14386"/>
                  <a:pt x="4688" y="14312"/>
                </a:cubicBezTo>
                <a:cubicBezTo>
                  <a:pt x="4693" y="14230"/>
                  <a:pt x="4688" y="14146"/>
                  <a:pt x="4688" y="14064"/>
                </a:cubicBezTo>
                <a:cubicBezTo>
                  <a:pt x="4798" y="14085"/>
                  <a:pt x="4896" y="14089"/>
                  <a:pt x="5011" y="14089"/>
                </a:cubicBezTo>
                <a:cubicBezTo>
                  <a:pt x="5155" y="14089"/>
                  <a:pt x="5290" y="14110"/>
                  <a:pt x="5432" y="14114"/>
                </a:cubicBezTo>
                <a:cubicBezTo>
                  <a:pt x="5558" y="14118"/>
                  <a:pt x="5677" y="14089"/>
                  <a:pt x="5804" y="14089"/>
                </a:cubicBezTo>
                <a:cubicBezTo>
                  <a:pt x="5928" y="14089"/>
                  <a:pt x="6056" y="14090"/>
                  <a:pt x="6176" y="14064"/>
                </a:cubicBezTo>
                <a:cubicBezTo>
                  <a:pt x="6302" y="14037"/>
                  <a:pt x="6421" y="14056"/>
                  <a:pt x="6548" y="14039"/>
                </a:cubicBezTo>
                <a:cubicBezTo>
                  <a:pt x="6675" y="14022"/>
                  <a:pt x="6792" y="14015"/>
                  <a:pt x="6921" y="14015"/>
                </a:cubicBezTo>
                <a:cubicBezTo>
                  <a:pt x="7065" y="14015"/>
                  <a:pt x="7203" y="14026"/>
                  <a:pt x="7342" y="14039"/>
                </a:cubicBezTo>
                <a:cubicBezTo>
                  <a:pt x="7397" y="14044"/>
                  <a:pt x="7459" y="14039"/>
                  <a:pt x="7516" y="14039"/>
                </a:cubicBezTo>
              </a:path>
              <a:path w="3721" h="5855">
                <a:moveTo>
                  <a:pt x="4142" y="14213"/>
                </a:moveTo>
                <a:cubicBezTo>
                  <a:pt x="4142" y="14263"/>
                  <a:pt x="4142" y="14279"/>
                  <a:pt x="4142" y="14312"/>
                </a:cubicBezTo>
                <a:cubicBezTo>
                  <a:pt x="4196" y="14239"/>
                  <a:pt x="4322" y="14094"/>
                  <a:pt x="4366" y="14288"/>
                </a:cubicBezTo>
                <a:cubicBezTo>
                  <a:pt x="4408" y="14474"/>
                  <a:pt x="4313" y="14651"/>
                  <a:pt x="4167" y="14759"/>
                </a:cubicBezTo>
                <a:cubicBezTo>
                  <a:pt x="4140" y="14779"/>
                  <a:pt x="3961" y="14875"/>
                  <a:pt x="3919" y="14858"/>
                </a:cubicBezTo>
                <a:cubicBezTo>
                  <a:pt x="3911" y="14850"/>
                  <a:pt x="3902" y="14841"/>
                  <a:pt x="3894" y="14833"/>
                </a:cubicBezTo>
                <a:cubicBezTo>
                  <a:pt x="3859" y="14798"/>
                  <a:pt x="3915" y="14741"/>
                  <a:pt x="3969" y="14709"/>
                </a:cubicBezTo>
                <a:cubicBezTo>
                  <a:pt x="4017" y="14680"/>
                  <a:pt x="4099" y="14713"/>
                  <a:pt x="4142" y="14759"/>
                </a:cubicBezTo>
                <a:cubicBezTo>
                  <a:pt x="4184" y="14804"/>
                  <a:pt x="4192" y="14911"/>
                  <a:pt x="4291" y="14883"/>
                </a:cubicBezTo>
                <a:cubicBezTo>
                  <a:pt x="4348" y="14845"/>
                  <a:pt x="4351" y="14829"/>
                  <a:pt x="4390" y="14833"/>
                </a:cubicBezTo>
              </a:path>
              <a:path w="3721" h="5855">
                <a:moveTo>
                  <a:pt x="4986" y="13444"/>
                </a:moveTo>
                <a:cubicBezTo>
                  <a:pt x="4975" y="13556"/>
                  <a:pt x="4926" y="13656"/>
                  <a:pt x="4911" y="13767"/>
                </a:cubicBezTo>
                <a:cubicBezTo>
                  <a:pt x="4901" y="13839"/>
                  <a:pt x="4939" y="13882"/>
                  <a:pt x="4961" y="13915"/>
                </a:cubicBezTo>
                <a:cubicBezTo>
                  <a:pt x="4969" y="13932"/>
                  <a:pt x="4978" y="13948"/>
                  <a:pt x="4986" y="13965"/>
                </a:cubicBezTo>
                <a:cubicBezTo>
                  <a:pt x="5027" y="13965"/>
                  <a:pt x="5083" y="13949"/>
                  <a:pt x="5110" y="13915"/>
                </a:cubicBezTo>
                <a:cubicBezTo>
                  <a:pt x="5134" y="13885"/>
                  <a:pt x="5156" y="13806"/>
                  <a:pt x="5159" y="13767"/>
                </a:cubicBezTo>
                <a:cubicBezTo>
                  <a:pt x="5162" y="13728"/>
                  <a:pt x="5153" y="13673"/>
                  <a:pt x="5135" y="13643"/>
                </a:cubicBezTo>
                <a:cubicBezTo>
                  <a:pt x="5109" y="13600"/>
                  <a:pt x="5054" y="13605"/>
                  <a:pt x="5035" y="13568"/>
                </a:cubicBezTo>
                <a:cubicBezTo>
                  <a:pt x="5019" y="13536"/>
                  <a:pt x="5032" y="13543"/>
                  <a:pt x="4986" y="13543"/>
                </a:cubicBezTo>
              </a:path>
              <a:path w="3721" h="5855">
                <a:moveTo>
                  <a:pt x="5383" y="13891"/>
                </a:moveTo>
                <a:cubicBezTo>
                  <a:pt x="5274" y="13853"/>
                  <a:pt x="5456" y="13932"/>
                  <a:pt x="5383" y="13841"/>
                </a:cubicBezTo>
                <a:cubicBezTo>
                  <a:pt x="5372" y="13827"/>
                  <a:pt x="5300" y="13924"/>
                  <a:pt x="5333" y="13940"/>
                </a:cubicBezTo>
                <a:cubicBezTo>
                  <a:pt x="5355" y="13904"/>
                  <a:pt x="5367" y="13779"/>
                  <a:pt x="5333" y="13891"/>
                </a:cubicBezTo>
                <a:cubicBezTo>
                  <a:pt x="5305" y="13983"/>
                  <a:pt x="5413" y="13758"/>
                  <a:pt x="5333" y="13915"/>
                </a:cubicBezTo>
              </a:path>
              <a:path w="3721" h="5855">
                <a:moveTo>
                  <a:pt x="5631" y="13543"/>
                </a:moveTo>
                <a:cubicBezTo>
                  <a:pt x="5649" y="13471"/>
                  <a:pt x="5669" y="13428"/>
                  <a:pt x="5755" y="13419"/>
                </a:cubicBezTo>
                <a:cubicBezTo>
                  <a:pt x="5763" y="13419"/>
                  <a:pt x="5771" y="13419"/>
                  <a:pt x="5779" y="13419"/>
                </a:cubicBezTo>
                <a:cubicBezTo>
                  <a:pt x="5784" y="13445"/>
                  <a:pt x="5812" y="13618"/>
                  <a:pt x="5730" y="13618"/>
                </a:cubicBezTo>
                <a:cubicBezTo>
                  <a:pt x="5730" y="13610"/>
                  <a:pt x="5730" y="13601"/>
                  <a:pt x="5730" y="13593"/>
                </a:cubicBezTo>
                <a:cubicBezTo>
                  <a:pt x="5861" y="13610"/>
                  <a:pt x="5859" y="13651"/>
                  <a:pt x="5854" y="13767"/>
                </a:cubicBezTo>
                <a:cubicBezTo>
                  <a:pt x="5851" y="13839"/>
                  <a:pt x="5774" y="13859"/>
                  <a:pt x="5705" y="13866"/>
                </a:cubicBezTo>
                <a:cubicBezTo>
                  <a:pt x="5680" y="13866"/>
                  <a:pt x="5672" y="13866"/>
                  <a:pt x="5680" y="13841"/>
                </a:cubicBezTo>
              </a:path>
              <a:path w="3721" h="5855">
                <a:moveTo>
                  <a:pt x="5606" y="15007"/>
                </a:moveTo>
                <a:cubicBezTo>
                  <a:pt x="5588" y="15077"/>
                  <a:pt x="5547" y="15150"/>
                  <a:pt x="5531" y="15230"/>
                </a:cubicBezTo>
                <a:cubicBezTo>
                  <a:pt x="5531" y="15263"/>
                  <a:pt x="5531" y="15279"/>
                  <a:pt x="5531" y="15304"/>
                </a:cubicBezTo>
                <a:cubicBezTo>
                  <a:pt x="5620" y="15342"/>
                  <a:pt x="5709" y="15341"/>
                  <a:pt x="5779" y="15255"/>
                </a:cubicBezTo>
                <a:cubicBezTo>
                  <a:pt x="5803" y="15207"/>
                  <a:pt x="5811" y="15193"/>
                  <a:pt x="5804" y="15156"/>
                </a:cubicBezTo>
                <a:cubicBezTo>
                  <a:pt x="5697" y="15177"/>
                  <a:pt x="5696" y="15234"/>
                  <a:pt x="5680" y="15329"/>
                </a:cubicBezTo>
              </a:path>
              <a:path w="3721" h="5855">
                <a:moveTo>
                  <a:pt x="4812" y="15528"/>
                </a:moveTo>
                <a:cubicBezTo>
                  <a:pt x="4937" y="15603"/>
                  <a:pt x="5099" y="15523"/>
                  <a:pt x="5234" y="15503"/>
                </a:cubicBezTo>
                <a:cubicBezTo>
                  <a:pt x="5407" y="15477"/>
                  <a:pt x="5597" y="15444"/>
                  <a:pt x="5755" y="15404"/>
                </a:cubicBezTo>
                <a:cubicBezTo>
                  <a:pt x="5763" y="15404"/>
                  <a:pt x="5771" y="15404"/>
                  <a:pt x="5779" y="15404"/>
                </a:cubicBezTo>
              </a:path>
              <a:path w="3721" h="5855">
                <a:moveTo>
                  <a:pt x="4862" y="15205"/>
                </a:moveTo>
                <a:cubicBezTo>
                  <a:pt x="4903" y="15205"/>
                  <a:pt x="4945" y="15205"/>
                  <a:pt x="4986" y="15205"/>
                </a:cubicBezTo>
              </a:path>
              <a:path w="3721" h="5855">
                <a:moveTo>
                  <a:pt x="5655" y="15652"/>
                </a:moveTo>
                <a:cubicBezTo>
                  <a:pt x="5704" y="15767"/>
                  <a:pt x="5653" y="15874"/>
                  <a:pt x="5631" y="15999"/>
                </a:cubicBezTo>
                <a:cubicBezTo>
                  <a:pt x="5631" y="16024"/>
                  <a:pt x="5631" y="16032"/>
                  <a:pt x="5631" y="16049"/>
                </a:cubicBezTo>
              </a:path>
              <a:path w="3721" h="5855">
                <a:moveTo>
                  <a:pt x="6077" y="14982"/>
                </a:moveTo>
                <a:cubicBezTo>
                  <a:pt x="6077" y="14907"/>
                  <a:pt x="6077" y="15081"/>
                  <a:pt x="6077" y="15156"/>
                </a:cubicBezTo>
                <a:cubicBezTo>
                  <a:pt x="6077" y="15205"/>
                  <a:pt x="6077" y="15255"/>
                  <a:pt x="6077" y="15304"/>
                </a:cubicBezTo>
              </a:path>
              <a:path w="3721" h="5855">
                <a:moveTo>
                  <a:pt x="5978" y="15677"/>
                </a:moveTo>
                <a:cubicBezTo>
                  <a:pt x="6033" y="15633"/>
                  <a:pt x="6082" y="15614"/>
                  <a:pt x="6152" y="15602"/>
                </a:cubicBezTo>
                <a:cubicBezTo>
                  <a:pt x="6130" y="15731"/>
                  <a:pt x="6106" y="15732"/>
                  <a:pt x="6003" y="15801"/>
                </a:cubicBezTo>
                <a:cubicBezTo>
                  <a:pt x="6054" y="15801"/>
                  <a:pt x="6123" y="15795"/>
                  <a:pt x="6152" y="15850"/>
                </a:cubicBezTo>
                <a:cubicBezTo>
                  <a:pt x="6160" y="15875"/>
                  <a:pt x="6168" y="15900"/>
                  <a:pt x="6176" y="15925"/>
                </a:cubicBezTo>
                <a:cubicBezTo>
                  <a:pt x="6119" y="15953"/>
                  <a:pt x="6064" y="15987"/>
                  <a:pt x="6003" y="15999"/>
                </a:cubicBezTo>
              </a:path>
              <a:path w="3721" h="5855">
                <a:moveTo>
                  <a:pt x="6102" y="13543"/>
                </a:moveTo>
                <a:cubicBezTo>
                  <a:pt x="6102" y="13630"/>
                  <a:pt x="6063" y="13706"/>
                  <a:pt x="6052" y="13791"/>
                </a:cubicBezTo>
                <a:cubicBezTo>
                  <a:pt x="6044" y="13853"/>
                  <a:pt x="6039" y="13943"/>
                  <a:pt x="6077" y="13990"/>
                </a:cubicBezTo>
                <a:cubicBezTo>
                  <a:pt x="6136" y="14064"/>
                  <a:pt x="6223" y="13996"/>
                  <a:pt x="6276" y="13965"/>
                </a:cubicBezTo>
                <a:cubicBezTo>
                  <a:pt x="6343" y="13926"/>
                  <a:pt x="6365" y="13876"/>
                  <a:pt x="6375" y="13816"/>
                </a:cubicBezTo>
                <a:cubicBezTo>
                  <a:pt x="6304" y="13802"/>
                  <a:pt x="6273" y="13780"/>
                  <a:pt x="6226" y="13866"/>
                </a:cubicBezTo>
                <a:cubicBezTo>
                  <a:pt x="6186" y="13940"/>
                  <a:pt x="6198" y="13950"/>
                  <a:pt x="6226" y="14015"/>
                </a:cubicBezTo>
              </a:path>
              <a:path w="3721" h="5855">
                <a:moveTo>
                  <a:pt x="5631" y="16297"/>
                </a:moveTo>
                <a:cubicBezTo>
                  <a:pt x="5588" y="16367"/>
                  <a:pt x="5606" y="16459"/>
                  <a:pt x="5606" y="16545"/>
                </a:cubicBezTo>
                <a:cubicBezTo>
                  <a:pt x="5606" y="16553"/>
                  <a:pt x="5606" y="16562"/>
                  <a:pt x="5606" y="16570"/>
                </a:cubicBezTo>
              </a:path>
              <a:path w="3721" h="5855">
                <a:moveTo>
                  <a:pt x="5978" y="16197"/>
                </a:moveTo>
                <a:cubicBezTo>
                  <a:pt x="6039" y="16197"/>
                  <a:pt x="6071" y="16203"/>
                  <a:pt x="6127" y="16222"/>
                </a:cubicBezTo>
                <a:cubicBezTo>
                  <a:pt x="6127" y="16355"/>
                  <a:pt x="6122" y="16364"/>
                  <a:pt x="6003" y="16421"/>
                </a:cubicBezTo>
                <a:cubicBezTo>
                  <a:pt x="5962" y="16441"/>
                  <a:pt x="5956" y="16450"/>
                  <a:pt x="5928" y="16446"/>
                </a:cubicBezTo>
                <a:cubicBezTo>
                  <a:pt x="5939" y="16381"/>
                  <a:pt x="5990" y="16354"/>
                  <a:pt x="6077" y="16371"/>
                </a:cubicBezTo>
                <a:cubicBezTo>
                  <a:pt x="6121" y="16393"/>
                  <a:pt x="6133" y="16396"/>
                  <a:pt x="6152" y="16421"/>
                </a:cubicBezTo>
              </a:path>
              <a:path w="3721" h="5855">
                <a:moveTo>
                  <a:pt x="5135" y="16321"/>
                </a:moveTo>
                <a:cubicBezTo>
                  <a:pt x="5184" y="16334"/>
                  <a:pt x="5226" y="16354"/>
                  <a:pt x="5283" y="16371"/>
                </a:cubicBezTo>
              </a:path>
              <a:path w="3721" h="5855">
                <a:moveTo>
                  <a:pt x="5308" y="16718"/>
                </a:moveTo>
                <a:cubicBezTo>
                  <a:pt x="5436" y="16718"/>
                  <a:pt x="5552" y="16709"/>
                  <a:pt x="5680" y="16694"/>
                </a:cubicBezTo>
                <a:cubicBezTo>
                  <a:pt x="5863" y="16672"/>
                  <a:pt x="6045" y="16645"/>
                  <a:pt x="6226" y="16619"/>
                </a:cubicBezTo>
                <a:cubicBezTo>
                  <a:pt x="6234" y="16619"/>
                  <a:pt x="6243" y="16619"/>
                  <a:pt x="6251" y="16619"/>
                </a:cubicBezTo>
              </a:path>
              <a:path w="3721" h="5855">
                <a:moveTo>
                  <a:pt x="6127" y="16818"/>
                </a:moveTo>
                <a:cubicBezTo>
                  <a:pt x="6127" y="16735"/>
                  <a:pt x="6127" y="16933"/>
                  <a:pt x="6127" y="17016"/>
                </a:cubicBezTo>
                <a:cubicBezTo>
                  <a:pt x="6127" y="17082"/>
                  <a:pt x="6127" y="17099"/>
                  <a:pt x="6127" y="17140"/>
                </a:cubicBezTo>
              </a:path>
              <a:path w="3721" h="5855">
                <a:moveTo>
                  <a:pt x="6548" y="15056"/>
                </a:moveTo>
                <a:cubicBezTo>
                  <a:pt x="6548" y="14990"/>
                  <a:pt x="6548" y="15139"/>
                  <a:pt x="6548" y="15205"/>
                </a:cubicBezTo>
                <a:cubicBezTo>
                  <a:pt x="6548" y="15391"/>
                  <a:pt x="6541" y="15569"/>
                  <a:pt x="6524" y="15751"/>
                </a:cubicBezTo>
                <a:cubicBezTo>
                  <a:pt x="6516" y="15835"/>
                  <a:pt x="6509" y="15920"/>
                  <a:pt x="6499" y="15999"/>
                </a:cubicBezTo>
                <a:cubicBezTo>
                  <a:pt x="6491" y="16060"/>
                  <a:pt x="6474" y="16113"/>
                  <a:pt x="6474" y="16173"/>
                </a:cubicBezTo>
                <a:cubicBezTo>
                  <a:pt x="6474" y="16185"/>
                  <a:pt x="6474" y="16289"/>
                  <a:pt x="6474" y="16222"/>
                </a:cubicBezTo>
              </a:path>
              <a:path w="3721" h="5855">
                <a:moveTo>
                  <a:pt x="6449" y="16694"/>
                </a:moveTo>
                <a:cubicBezTo>
                  <a:pt x="6419" y="16743"/>
                  <a:pt x="6403" y="16804"/>
                  <a:pt x="6400" y="16867"/>
                </a:cubicBezTo>
                <a:cubicBezTo>
                  <a:pt x="6398" y="16913"/>
                  <a:pt x="6399" y="17012"/>
                  <a:pt x="6449" y="17016"/>
                </a:cubicBezTo>
                <a:cubicBezTo>
                  <a:pt x="6514" y="17021"/>
                  <a:pt x="6540" y="17062"/>
                  <a:pt x="6598" y="17016"/>
                </a:cubicBezTo>
                <a:cubicBezTo>
                  <a:pt x="6623" y="16996"/>
                  <a:pt x="6687" y="16979"/>
                  <a:pt x="6697" y="16942"/>
                </a:cubicBezTo>
                <a:cubicBezTo>
                  <a:pt x="6708" y="16903"/>
                  <a:pt x="6713" y="16878"/>
                  <a:pt x="6722" y="16842"/>
                </a:cubicBezTo>
                <a:cubicBezTo>
                  <a:pt x="6674" y="16830"/>
                  <a:pt x="6681" y="16817"/>
                  <a:pt x="6648" y="16842"/>
                </a:cubicBezTo>
                <a:cubicBezTo>
                  <a:pt x="6588" y="16887"/>
                  <a:pt x="6598" y="16950"/>
                  <a:pt x="6598" y="17016"/>
                </a:cubicBezTo>
              </a:path>
              <a:path w="3721" h="5855">
                <a:moveTo>
                  <a:pt x="6573" y="13543"/>
                </a:moveTo>
                <a:cubicBezTo>
                  <a:pt x="6601" y="13543"/>
                  <a:pt x="6612" y="13541"/>
                  <a:pt x="6623" y="13519"/>
                </a:cubicBezTo>
                <a:cubicBezTo>
                  <a:pt x="6604" y="13462"/>
                  <a:pt x="6492" y="13513"/>
                  <a:pt x="6474" y="13568"/>
                </a:cubicBezTo>
                <a:cubicBezTo>
                  <a:pt x="6430" y="13700"/>
                  <a:pt x="6581" y="13709"/>
                  <a:pt x="6648" y="13791"/>
                </a:cubicBezTo>
                <a:cubicBezTo>
                  <a:pt x="6721" y="13880"/>
                  <a:pt x="6711" y="13901"/>
                  <a:pt x="6648" y="13965"/>
                </a:cubicBezTo>
                <a:cubicBezTo>
                  <a:pt x="6555" y="13942"/>
                  <a:pt x="6562" y="13819"/>
                  <a:pt x="6598" y="13742"/>
                </a:cubicBezTo>
                <a:cubicBezTo>
                  <a:pt x="6618" y="13700"/>
                  <a:pt x="6707" y="13619"/>
                  <a:pt x="6697" y="13568"/>
                </a:cubicBezTo>
                <a:cubicBezTo>
                  <a:pt x="6667" y="13538"/>
                  <a:pt x="6653" y="13527"/>
                  <a:pt x="6623" y="13519"/>
                </a:cubicBezTo>
              </a:path>
              <a:path w="3721" h="5855">
                <a:moveTo>
                  <a:pt x="6077" y="17338"/>
                </a:moveTo>
                <a:cubicBezTo>
                  <a:pt x="6077" y="17272"/>
                  <a:pt x="6087" y="17422"/>
                  <a:pt x="6077" y="17487"/>
                </a:cubicBezTo>
                <a:cubicBezTo>
                  <a:pt x="6058" y="17561"/>
                  <a:pt x="6050" y="17568"/>
                  <a:pt x="6052" y="17611"/>
                </a:cubicBezTo>
              </a:path>
              <a:path w="3721" h="5855">
                <a:moveTo>
                  <a:pt x="6400" y="17264"/>
                </a:moveTo>
                <a:cubicBezTo>
                  <a:pt x="6448" y="17281"/>
                  <a:pt x="6424" y="17357"/>
                  <a:pt x="6424" y="17413"/>
                </a:cubicBezTo>
                <a:cubicBezTo>
                  <a:pt x="6424" y="17486"/>
                  <a:pt x="6523" y="17560"/>
                  <a:pt x="6598" y="17512"/>
                </a:cubicBezTo>
                <a:cubicBezTo>
                  <a:pt x="6641" y="17485"/>
                  <a:pt x="6663" y="17409"/>
                  <a:pt x="6672" y="17363"/>
                </a:cubicBezTo>
                <a:cubicBezTo>
                  <a:pt x="6633" y="17414"/>
                  <a:pt x="6608" y="17460"/>
                  <a:pt x="6573" y="17512"/>
                </a:cubicBezTo>
              </a:path>
              <a:path w="3721" h="5855">
                <a:moveTo>
                  <a:pt x="5556" y="17413"/>
                </a:moveTo>
                <a:cubicBezTo>
                  <a:pt x="5618" y="17425"/>
                  <a:pt x="5663" y="17438"/>
                  <a:pt x="5730" y="17438"/>
                </a:cubicBezTo>
              </a:path>
              <a:path w="3721" h="5855">
                <a:moveTo>
                  <a:pt x="5705" y="17785"/>
                </a:moveTo>
                <a:cubicBezTo>
                  <a:pt x="5761" y="17709"/>
                  <a:pt x="5950" y="17725"/>
                  <a:pt x="6052" y="17711"/>
                </a:cubicBezTo>
                <a:cubicBezTo>
                  <a:pt x="6249" y="17684"/>
                  <a:pt x="6450" y="17670"/>
                  <a:pt x="6648" y="17661"/>
                </a:cubicBezTo>
                <a:cubicBezTo>
                  <a:pt x="6672" y="17661"/>
                  <a:pt x="6681" y="17661"/>
                  <a:pt x="6697" y="17661"/>
                </a:cubicBezTo>
              </a:path>
              <a:path w="3721" h="5855">
                <a:moveTo>
                  <a:pt x="6598" y="17835"/>
                </a:moveTo>
                <a:cubicBezTo>
                  <a:pt x="6510" y="17835"/>
                  <a:pt x="6480" y="17902"/>
                  <a:pt x="6449" y="17983"/>
                </a:cubicBezTo>
                <a:cubicBezTo>
                  <a:pt x="6428" y="18066"/>
                  <a:pt x="6420" y="18081"/>
                  <a:pt x="6424" y="18132"/>
                </a:cubicBezTo>
                <a:cubicBezTo>
                  <a:pt x="6545" y="18199"/>
                  <a:pt x="6622" y="18136"/>
                  <a:pt x="6648" y="17983"/>
                </a:cubicBezTo>
                <a:cubicBezTo>
                  <a:pt x="6673" y="17841"/>
                  <a:pt x="6621" y="17903"/>
                  <a:pt x="6598" y="17835"/>
                </a:cubicBezTo>
              </a:path>
              <a:path w="3721" h="5855">
                <a:moveTo>
                  <a:pt x="6970" y="15131"/>
                </a:moveTo>
                <a:cubicBezTo>
                  <a:pt x="6984" y="15189"/>
                  <a:pt x="6995" y="15333"/>
                  <a:pt x="6995" y="15429"/>
                </a:cubicBezTo>
                <a:cubicBezTo>
                  <a:pt x="6995" y="15590"/>
                  <a:pt x="7024" y="15739"/>
                  <a:pt x="6995" y="15900"/>
                </a:cubicBezTo>
                <a:cubicBezTo>
                  <a:pt x="6972" y="16031"/>
                  <a:pt x="6950" y="16163"/>
                  <a:pt x="6945" y="16297"/>
                </a:cubicBezTo>
                <a:cubicBezTo>
                  <a:pt x="6941" y="16431"/>
                  <a:pt x="6921" y="16559"/>
                  <a:pt x="6921" y="16694"/>
                </a:cubicBezTo>
                <a:cubicBezTo>
                  <a:pt x="6921" y="16790"/>
                  <a:pt x="6896" y="16870"/>
                  <a:pt x="6896" y="16966"/>
                </a:cubicBezTo>
                <a:cubicBezTo>
                  <a:pt x="6896" y="17115"/>
                  <a:pt x="6896" y="17264"/>
                  <a:pt x="6896" y="17413"/>
                </a:cubicBezTo>
              </a:path>
              <a:path w="3721" h="5855">
                <a:moveTo>
                  <a:pt x="7069" y="17884"/>
                </a:moveTo>
                <a:cubicBezTo>
                  <a:pt x="7018" y="17884"/>
                  <a:pt x="6955" y="17862"/>
                  <a:pt x="6921" y="17909"/>
                </a:cubicBezTo>
                <a:cubicBezTo>
                  <a:pt x="6870" y="17979"/>
                  <a:pt x="6914" y="17997"/>
                  <a:pt x="6970" y="18033"/>
                </a:cubicBezTo>
                <a:cubicBezTo>
                  <a:pt x="7046" y="18082"/>
                  <a:pt x="7101" y="18118"/>
                  <a:pt x="7119" y="18207"/>
                </a:cubicBezTo>
                <a:cubicBezTo>
                  <a:pt x="7056" y="18227"/>
                  <a:pt x="7012" y="18231"/>
                  <a:pt x="6945" y="18231"/>
                </a:cubicBezTo>
                <a:cubicBezTo>
                  <a:pt x="6945" y="18147"/>
                  <a:pt x="6944" y="18032"/>
                  <a:pt x="6995" y="17959"/>
                </a:cubicBezTo>
                <a:cubicBezTo>
                  <a:pt x="7024" y="17917"/>
                  <a:pt x="7032" y="17964"/>
                  <a:pt x="7045" y="17884"/>
                </a:cubicBezTo>
              </a:path>
              <a:path w="3721" h="5855">
                <a:moveTo>
                  <a:pt x="6896" y="13444"/>
                </a:moveTo>
                <a:cubicBezTo>
                  <a:pt x="6980" y="13487"/>
                  <a:pt x="6974" y="13603"/>
                  <a:pt x="6945" y="13692"/>
                </a:cubicBezTo>
                <a:cubicBezTo>
                  <a:pt x="6937" y="13700"/>
                  <a:pt x="6929" y="13709"/>
                  <a:pt x="6921" y="13717"/>
                </a:cubicBezTo>
                <a:cubicBezTo>
                  <a:pt x="6961" y="13717"/>
                  <a:pt x="7046" y="13715"/>
                  <a:pt x="7069" y="13692"/>
                </a:cubicBezTo>
                <a:cubicBezTo>
                  <a:pt x="7069" y="13667"/>
                  <a:pt x="7069" y="13659"/>
                  <a:pt x="7094" y="13667"/>
                </a:cubicBezTo>
              </a:path>
              <a:path w="3721" h="5855">
                <a:moveTo>
                  <a:pt x="7094" y="13345"/>
                </a:moveTo>
                <a:cubicBezTo>
                  <a:pt x="7059" y="13398"/>
                  <a:pt x="7113" y="13611"/>
                  <a:pt x="7119" y="13717"/>
                </a:cubicBezTo>
                <a:cubicBezTo>
                  <a:pt x="7122" y="13773"/>
                  <a:pt x="7119" y="13834"/>
                  <a:pt x="7119" y="13891"/>
                </a:cubicBezTo>
              </a:path>
              <a:path w="3721" h="5855">
                <a:moveTo>
                  <a:pt x="6995" y="18355"/>
                </a:moveTo>
                <a:cubicBezTo>
                  <a:pt x="6995" y="18300"/>
                  <a:pt x="7017" y="18300"/>
                  <a:pt x="6995" y="18281"/>
                </a:cubicBezTo>
                <a:cubicBezTo>
                  <a:pt x="6947" y="18240"/>
                  <a:pt x="6920" y="18249"/>
                  <a:pt x="6896" y="18281"/>
                </a:cubicBezTo>
                <a:cubicBezTo>
                  <a:pt x="6888" y="18289"/>
                  <a:pt x="6879" y="18298"/>
                  <a:pt x="6871" y="18306"/>
                </a:cubicBezTo>
                <a:cubicBezTo>
                  <a:pt x="6926" y="18352"/>
                  <a:pt x="6993" y="18382"/>
                  <a:pt x="7045" y="18430"/>
                </a:cubicBezTo>
                <a:cubicBezTo>
                  <a:pt x="7074" y="18460"/>
                  <a:pt x="7076" y="18471"/>
                  <a:pt x="7020" y="18479"/>
                </a:cubicBezTo>
                <a:cubicBezTo>
                  <a:pt x="6937" y="18459"/>
                  <a:pt x="6960" y="18346"/>
                  <a:pt x="6995" y="18281"/>
                </a:cubicBezTo>
                <a:cubicBezTo>
                  <a:pt x="7020" y="18281"/>
                  <a:pt x="7028" y="18281"/>
                  <a:pt x="6995" y="18281"/>
                </a:cubicBezTo>
              </a:path>
              <a:path w="3721" h="5855">
                <a:moveTo>
                  <a:pt x="6276" y="18405"/>
                </a:moveTo>
                <a:cubicBezTo>
                  <a:pt x="6392" y="18405"/>
                  <a:pt x="6507" y="18405"/>
                  <a:pt x="6623" y="18405"/>
                </a:cubicBezTo>
              </a:path>
              <a:path w="3721" h="5855">
                <a:moveTo>
                  <a:pt x="6226" y="18678"/>
                </a:moveTo>
                <a:cubicBezTo>
                  <a:pt x="6424" y="18661"/>
                  <a:pt x="6624" y="18619"/>
                  <a:pt x="6821" y="18604"/>
                </a:cubicBezTo>
                <a:cubicBezTo>
                  <a:pt x="7012" y="18590"/>
                  <a:pt x="7204" y="18605"/>
                  <a:pt x="7392" y="18628"/>
                </a:cubicBezTo>
              </a:path>
              <a:path w="3721" h="5855">
                <a:moveTo>
                  <a:pt x="7169" y="18777"/>
                </a:moveTo>
                <a:cubicBezTo>
                  <a:pt x="7136" y="18728"/>
                  <a:pt x="7092" y="18759"/>
                  <a:pt x="7045" y="18802"/>
                </a:cubicBezTo>
                <a:cubicBezTo>
                  <a:pt x="7037" y="18810"/>
                  <a:pt x="7028" y="18819"/>
                  <a:pt x="7020" y="18827"/>
                </a:cubicBezTo>
                <a:cubicBezTo>
                  <a:pt x="7044" y="18864"/>
                  <a:pt x="7130" y="18873"/>
                  <a:pt x="7193" y="18876"/>
                </a:cubicBezTo>
                <a:cubicBezTo>
                  <a:pt x="7253" y="18879"/>
                  <a:pt x="7323" y="18840"/>
                  <a:pt x="7342" y="18777"/>
                </a:cubicBezTo>
                <a:cubicBezTo>
                  <a:pt x="7361" y="18713"/>
                  <a:pt x="7291" y="18707"/>
                  <a:pt x="7243" y="18703"/>
                </a:cubicBezTo>
                <a:cubicBezTo>
                  <a:pt x="7204" y="18700"/>
                  <a:pt x="7115" y="18687"/>
                  <a:pt x="7094" y="18728"/>
                </a:cubicBezTo>
                <a:cubicBezTo>
                  <a:pt x="7094" y="18736"/>
                  <a:pt x="7094" y="18744"/>
                  <a:pt x="7094" y="18752"/>
                </a:cubicBezTo>
              </a:path>
              <a:path w="3721" h="5855">
                <a:moveTo>
                  <a:pt x="6077" y="13146"/>
                </a:moveTo>
                <a:cubicBezTo>
                  <a:pt x="6017" y="13146"/>
                  <a:pt x="6036" y="13136"/>
                  <a:pt x="5978" y="13122"/>
                </a:cubicBezTo>
                <a:cubicBezTo>
                  <a:pt x="5911" y="13105"/>
                  <a:pt x="5848" y="13107"/>
                  <a:pt x="5779" y="13097"/>
                </a:cubicBezTo>
                <a:cubicBezTo>
                  <a:pt x="5682" y="13083"/>
                  <a:pt x="5627" y="13097"/>
                  <a:pt x="5531" y="13097"/>
                </a:cubicBezTo>
                <a:cubicBezTo>
                  <a:pt x="5340" y="13097"/>
                  <a:pt x="5143" y="13083"/>
                  <a:pt x="4961" y="13122"/>
                </a:cubicBezTo>
                <a:cubicBezTo>
                  <a:pt x="4866" y="13142"/>
                  <a:pt x="4841" y="13163"/>
                  <a:pt x="4762" y="13196"/>
                </a:cubicBezTo>
                <a:cubicBezTo>
                  <a:pt x="4678" y="13231"/>
                  <a:pt x="4639" y="13265"/>
                  <a:pt x="4589" y="13345"/>
                </a:cubicBezTo>
                <a:cubicBezTo>
                  <a:pt x="4540" y="13423"/>
                  <a:pt x="4529" y="13482"/>
                  <a:pt x="4514" y="13568"/>
                </a:cubicBezTo>
                <a:cubicBezTo>
                  <a:pt x="4499" y="13649"/>
                  <a:pt x="4482" y="13731"/>
                  <a:pt x="4490" y="13816"/>
                </a:cubicBezTo>
                <a:cubicBezTo>
                  <a:pt x="4495" y="13868"/>
                  <a:pt x="4514" y="13992"/>
                  <a:pt x="4539" y="14039"/>
                </a:cubicBezTo>
                <a:cubicBezTo>
                  <a:pt x="4545" y="14050"/>
                  <a:pt x="4614" y="14115"/>
                  <a:pt x="4638" y="14139"/>
                </a:cubicBezTo>
                <a:cubicBezTo>
                  <a:pt x="4709" y="14209"/>
                  <a:pt x="4794" y="14254"/>
                  <a:pt x="4887" y="14288"/>
                </a:cubicBezTo>
                <a:cubicBezTo>
                  <a:pt x="4939" y="14307"/>
                  <a:pt x="5064" y="14363"/>
                  <a:pt x="5110" y="14362"/>
                </a:cubicBezTo>
                <a:cubicBezTo>
                  <a:pt x="5150" y="14361"/>
                  <a:pt x="5250" y="14314"/>
                  <a:pt x="5259" y="14312"/>
                </a:cubicBezTo>
                <a:cubicBezTo>
                  <a:pt x="5311" y="14304"/>
                  <a:pt x="5384" y="14292"/>
                  <a:pt x="5432" y="14288"/>
                </a:cubicBezTo>
                <a:cubicBezTo>
                  <a:pt x="5512" y="14281"/>
                  <a:pt x="5557" y="14252"/>
                  <a:pt x="5631" y="14238"/>
                </a:cubicBezTo>
                <a:cubicBezTo>
                  <a:pt x="5689" y="14227"/>
                  <a:pt x="5776" y="14217"/>
                  <a:pt x="5829" y="14213"/>
                </a:cubicBezTo>
                <a:cubicBezTo>
                  <a:pt x="5861" y="14210"/>
                  <a:pt x="5887" y="14228"/>
                  <a:pt x="5953" y="14213"/>
                </a:cubicBezTo>
                <a:cubicBezTo>
                  <a:pt x="6016" y="14198"/>
                  <a:pt x="6084" y="14179"/>
                  <a:pt x="6152" y="14188"/>
                </a:cubicBezTo>
                <a:cubicBezTo>
                  <a:pt x="6238" y="14200"/>
                  <a:pt x="6340" y="14265"/>
                  <a:pt x="6424" y="14263"/>
                </a:cubicBezTo>
                <a:cubicBezTo>
                  <a:pt x="6490" y="14261"/>
                  <a:pt x="6579" y="14220"/>
                  <a:pt x="6648" y="14213"/>
                </a:cubicBezTo>
                <a:cubicBezTo>
                  <a:pt x="6713" y="14206"/>
                  <a:pt x="6784" y="14194"/>
                  <a:pt x="6846" y="14188"/>
                </a:cubicBezTo>
                <a:cubicBezTo>
                  <a:pt x="6928" y="14180"/>
                  <a:pt x="7014" y="14171"/>
                  <a:pt x="7094" y="14163"/>
                </a:cubicBezTo>
                <a:cubicBezTo>
                  <a:pt x="7163" y="14156"/>
                  <a:pt x="7204" y="14155"/>
                  <a:pt x="7268" y="14139"/>
                </a:cubicBezTo>
                <a:cubicBezTo>
                  <a:pt x="7328" y="14124"/>
                  <a:pt x="7416" y="14106"/>
                  <a:pt x="7466" y="14064"/>
                </a:cubicBezTo>
                <a:cubicBezTo>
                  <a:pt x="7502" y="14033"/>
                  <a:pt x="7550" y="13936"/>
                  <a:pt x="7565" y="13891"/>
                </a:cubicBezTo>
                <a:cubicBezTo>
                  <a:pt x="7590" y="13813"/>
                  <a:pt x="7603" y="13728"/>
                  <a:pt x="7590" y="13643"/>
                </a:cubicBezTo>
                <a:cubicBezTo>
                  <a:pt x="7577" y="13555"/>
                  <a:pt x="7559" y="13457"/>
                  <a:pt x="7541" y="13370"/>
                </a:cubicBezTo>
                <a:cubicBezTo>
                  <a:pt x="7527" y="13304"/>
                  <a:pt x="7501" y="13254"/>
                  <a:pt x="7466" y="13196"/>
                </a:cubicBezTo>
                <a:cubicBezTo>
                  <a:pt x="7422" y="13124"/>
                  <a:pt x="7390" y="13134"/>
                  <a:pt x="7342" y="13097"/>
                </a:cubicBezTo>
                <a:cubicBezTo>
                  <a:pt x="7283" y="13052"/>
                  <a:pt x="7251" y="13034"/>
                  <a:pt x="7169" y="13022"/>
                </a:cubicBezTo>
                <a:cubicBezTo>
                  <a:pt x="7070" y="13007"/>
                  <a:pt x="6988" y="13037"/>
                  <a:pt x="6896" y="13047"/>
                </a:cubicBezTo>
                <a:cubicBezTo>
                  <a:pt x="6808" y="13056"/>
                  <a:pt x="6709" y="13065"/>
                  <a:pt x="6623" y="13072"/>
                </a:cubicBezTo>
                <a:cubicBezTo>
                  <a:pt x="6407" y="13089"/>
                  <a:pt x="6191" y="13073"/>
                  <a:pt x="5978" y="13097"/>
                </a:cubicBezTo>
                <a:cubicBezTo>
                  <a:pt x="5865" y="13110"/>
                  <a:pt x="5765" y="13083"/>
                  <a:pt x="5655" y="13072"/>
                </a:cubicBezTo>
                <a:cubicBezTo>
                  <a:pt x="5551" y="13062"/>
                  <a:pt x="5434" y="13078"/>
                  <a:pt x="5333" y="13097"/>
                </a:cubicBezTo>
                <a:cubicBezTo>
                  <a:pt x="5309" y="13101"/>
                  <a:pt x="5160" y="13140"/>
                  <a:pt x="5135" y="13171"/>
                </a:cubicBezTo>
                <a:cubicBezTo>
                  <a:pt x="5151" y="13171"/>
                  <a:pt x="5168" y="13171"/>
                  <a:pt x="5184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91120" y="2152800"/>
            <a:ext cx="1903680" cy="4035240"/>
          </a:xfrm>
          <a:custGeom>
            <a:avLst/>
            <a:gdLst/>
            <a:ahLst/>
            <a:rect l="l" t="t" r="r" b="b"/>
            <a:pathLst>
              <a:path w="5284" h="11213">
                <a:moveTo>
                  <a:pt x="18207" y="7689"/>
                </a:moveTo>
                <a:cubicBezTo>
                  <a:pt x="18200" y="7719"/>
                  <a:pt x="18189" y="7734"/>
                  <a:pt x="18182" y="7764"/>
                </a:cubicBezTo>
                <a:cubicBezTo>
                  <a:pt x="18205" y="7674"/>
                  <a:pt x="18292" y="7664"/>
                  <a:pt x="18355" y="7764"/>
                </a:cubicBezTo>
                <a:cubicBezTo>
                  <a:pt x="18499" y="7993"/>
                  <a:pt x="18315" y="8246"/>
                  <a:pt x="18107" y="8334"/>
                </a:cubicBezTo>
                <a:cubicBezTo>
                  <a:pt x="18002" y="8355"/>
                  <a:pt x="17974" y="8377"/>
                  <a:pt x="17934" y="8310"/>
                </a:cubicBezTo>
                <a:cubicBezTo>
                  <a:pt x="17978" y="8187"/>
                  <a:pt x="18094" y="8124"/>
                  <a:pt x="18231" y="8235"/>
                </a:cubicBezTo>
                <a:cubicBezTo>
                  <a:pt x="18271" y="8295"/>
                  <a:pt x="18274" y="8307"/>
                  <a:pt x="18306" y="8334"/>
                </a:cubicBezTo>
              </a:path>
              <a:path w="5284" h="11213">
                <a:moveTo>
                  <a:pt x="18827" y="7863"/>
                </a:moveTo>
                <a:cubicBezTo>
                  <a:pt x="18827" y="7814"/>
                  <a:pt x="18850" y="7694"/>
                  <a:pt x="18802" y="7665"/>
                </a:cubicBezTo>
                <a:cubicBezTo>
                  <a:pt x="18675" y="7588"/>
                  <a:pt x="18603" y="7757"/>
                  <a:pt x="18579" y="7863"/>
                </a:cubicBezTo>
                <a:cubicBezTo>
                  <a:pt x="18579" y="7896"/>
                  <a:pt x="18579" y="7929"/>
                  <a:pt x="18579" y="7962"/>
                </a:cubicBezTo>
                <a:cubicBezTo>
                  <a:pt x="18658" y="7996"/>
                  <a:pt x="18768" y="8005"/>
                  <a:pt x="18827" y="7913"/>
                </a:cubicBezTo>
                <a:cubicBezTo>
                  <a:pt x="18849" y="7846"/>
                  <a:pt x="18854" y="7828"/>
                  <a:pt x="18876" y="7789"/>
                </a:cubicBezTo>
                <a:cubicBezTo>
                  <a:pt x="18867" y="7935"/>
                  <a:pt x="18865" y="8120"/>
                  <a:pt x="18827" y="8260"/>
                </a:cubicBezTo>
                <a:cubicBezTo>
                  <a:pt x="18804" y="8283"/>
                  <a:pt x="18793" y="8291"/>
                  <a:pt x="18827" y="8285"/>
                </a:cubicBezTo>
              </a:path>
              <a:path w="5284" h="11213">
                <a:moveTo>
                  <a:pt x="19100" y="7615"/>
                </a:moveTo>
                <a:cubicBezTo>
                  <a:pt x="19100" y="7838"/>
                  <a:pt x="19100" y="8062"/>
                  <a:pt x="19100" y="8285"/>
                </a:cubicBezTo>
              </a:path>
              <a:path w="5284" h="11213">
                <a:moveTo>
                  <a:pt x="19397" y="8037"/>
                </a:moveTo>
                <a:cubicBezTo>
                  <a:pt x="19397" y="8078"/>
                  <a:pt x="19397" y="8086"/>
                  <a:pt x="19397" y="8111"/>
                </a:cubicBezTo>
              </a:path>
              <a:path w="5284" h="11213">
                <a:moveTo>
                  <a:pt x="19546" y="7665"/>
                </a:moveTo>
                <a:cubicBezTo>
                  <a:pt x="19657" y="7651"/>
                  <a:pt x="19781" y="7634"/>
                  <a:pt x="19893" y="7615"/>
                </a:cubicBezTo>
                <a:cubicBezTo>
                  <a:pt x="19953" y="7605"/>
                  <a:pt x="19964" y="7590"/>
                  <a:pt x="20017" y="7590"/>
                </a:cubicBezTo>
                <a:cubicBezTo>
                  <a:pt x="20017" y="7688"/>
                  <a:pt x="20022" y="7763"/>
                  <a:pt x="20017" y="7863"/>
                </a:cubicBezTo>
                <a:cubicBezTo>
                  <a:pt x="20012" y="7972"/>
                  <a:pt x="19993" y="8077"/>
                  <a:pt x="19993" y="8186"/>
                </a:cubicBezTo>
              </a:path>
              <a:path w="5284" h="11213">
                <a:moveTo>
                  <a:pt x="17611" y="8558"/>
                </a:moveTo>
                <a:cubicBezTo>
                  <a:pt x="17642" y="8450"/>
                  <a:pt x="17647" y="8348"/>
                  <a:pt x="17661" y="8235"/>
                </a:cubicBezTo>
                <a:cubicBezTo>
                  <a:pt x="17683" y="8049"/>
                  <a:pt x="17676" y="7897"/>
                  <a:pt x="17661" y="7714"/>
                </a:cubicBezTo>
                <a:cubicBezTo>
                  <a:pt x="17655" y="7641"/>
                  <a:pt x="17661" y="7564"/>
                  <a:pt x="17661" y="7491"/>
                </a:cubicBezTo>
                <a:cubicBezTo>
                  <a:pt x="17770" y="7486"/>
                  <a:pt x="17875" y="7469"/>
                  <a:pt x="17983" y="7466"/>
                </a:cubicBezTo>
                <a:cubicBezTo>
                  <a:pt x="18175" y="7460"/>
                  <a:pt x="18363" y="7453"/>
                  <a:pt x="18554" y="7441"/>
                </a:cubicBezTo>
                <a:cubicBezTo>
                  <a:pt x="18745" y="7429"/>
                  <a:pt x="18937" y="7434"/>
                  <a:pt x="19124" y="7417"/>
                </a:cubicBezTo>
                <a:cubicBezTo>
                  <a:pt x="19247" y="7406"/>
                  <a:pt x="19376" y="7391"/>
                  <a:pt x="19496" y="7367"/>
                </a:cubicBezTo>
                <a:cubicBezTo>
                  <a:pt x="19603" y="7346"/>
                  <a:pt x="19712" y="7336"/>
                  <a:pt x="19819" y="7317"/>
                </a:cubicBezTo>
                <a:cubicBezTo>
                  <a:pt x="19979" y="7289"/>
                  <a:pt x="20133" y="7271"/>
                  <a:pt x="20290" y="7243"/>
                </a:cubicBezTo>
                <a:cubicBezTo>
                  <a:pt x="20397" y="7224"/>
                  <a:pt x="20508" y="7238"/>
                  <a:pt x="20613" y="7218"/>
                </a:cubicBezTo>
                <a:cubicBezTo>
                  <a:pt x="20676" y="7206"/>
                  <a:pt x="20722" y="7197"/>
                  <a:pt x="20786" y="7193"/>
                </a:cubicBezTo>
              </a:path>
              <a:path w="5284" h="11213">
                <a:moveTo>
                  <a:pt x="17239" y="7789"/>
                </a:moveTo>
                <a:cubicBezTo>
                  <a:pt x="17225" y="7721"/>
                  <a:pt x="17189" y="7681"/>
                  <a:pt x="17115" y="7665"/>
                </a:cubicBezTo>
                <a:cubicBezTo>
                  <a:pt x="16986" y="7637"/>
                  <a:pt x="16928" y="7827"/>
                  <a:pt x="16892" y="7913"/>
                </a:cubicBezTo>
                <a:cubicBezTo>
                  <a:pt x="16869" y="7980"/>
                  <a:pt x="16858" y="7998"/>
                  <a:pt x="16892" y="8037"/>
                </a:cubicBezTo>
                <a:cubicBezTo>
                  <a:pt x="17006" y="8027"/>
                  <a:pt x="17113" y="8009"/>
                  <a:pt x="17165" y="7888"/>
                </a:cubicBezTo>
                <a:cubicBezTo>
                  <a:pt x="17165" y="7843"/>
                  <a:pt x="17162" y="7830"/>
                  <a:pt x="17190" y="7813"/>
                </a:cubicBezTo>
                <a:cubicBezTo>
                  <a:pt x="17190" y="7939"/>
                  <a:pt x="17169" y="8060"/>
                  <a:pt x="17165" y="8186"/>
                </a:cubicBezTo>
                <a:cubicBezTo>
                  <a:pt x="17163" y="8245"/>
                  <a:pt x="17122" y="8296"/>
                  <a:pt x="17165" y="8310"/>
                </a:cubicBezTo>
              </a:path>
              <a:path w="5284" h="11213">
                <a:moveTo>
                  <a:pt x="18132" y="6821"/>
                </a:moveTo>
                <a:cubicBezTo>
                  <a:pt x="18132" y="6813"/>
                  <a:pt x="18132" y="6804"/>
                  <a:pt x="18132" y="6796"/>
                </a:cubicBezTo>
                <a:cubicBezTo>
                  <a:pt x="18072" y="6811"/>
                  <a:pt x="18061" y="6865"/>
                  <a:pt x="18033" y="6921"/>
                </a:cubicBezTo>
                <a:cubicBezTo>
                  <a:pt x="18015" y="6957"/>
                  <a:pt x="17988" y="7033"/>
                  <a:pt x="17983" y="7045"/>
                </a:cubicBezTo>
                <a:cubicBezTo>
                  <a:pt x="17963" y="7091"/>
                  <a:pt x="17977" y="7183"/>
                  <a:pt x="18008" y="7218"/>
                </a:cubicBezTo>
                <a:cubicBezTo>
                  <a:pt x="18045" y="7260"/>
                  <a:pt x="18104" y="7243"/>
                  <a:pt x="18157" y="7243"/>
                </a:cubicBezTo>
                <a:cubicBezTo>
                  <a:pt x="18188" y="7243"/>
                  <a:pt x="18242" y="7200"/>
                  <a:pt x="18256" y="7169"/>
                </a:cubicBezTo>
                <a:cubicBezTo>
                  <a:pt x="18266" y="7146"/>
                  <a:pt x="18298" y="7075"/>
                  <a:pt x="18281" y="7045"/>
                </a:cubicBezTo>
                <a:cubicBezTo>
                  <a:pt x="18268" y="7022"/>
                  <a:pt x="18248" y="6932"/>
                  <a:pt x="18231" y="6921"/>
                </a:cubicBezTo>
                <a:cubicBezTo>
                  <a:pt x="18200" y="6901"/>
                  <a:pt x="18204" y="6900"/>
                  <a:pt x="18182" y="6871"/>
                </a:cubicBezTo>
                <a:cubicBezTo>
                  <a:pt x="18152" y="6831"/>
                  <a:pt x="18118" y="6830"/>
                  <a:pt x="18107" y="6796"/>
                </a:cubicBezTo>
              </a:path>
              <a:path w="5284" h="11213">
                <a:moveTo>
                  <a:pt x="17983" y="8483"/>
                </a:moveTo>
                <a:cubicBezTo>
                  <a:pt x="18061" y="8483"/>
                  <a:pt x="18129" y="8463"/>
                  <a:pt x="18207" y="8458"/>
                </a:cubicBezTo>
                <a:cubicBezTo>
                  <a:pt x="18283" y="8453"/>
                  <a:pt x="18335" y="8467"/>
                  <a:pt x="18405" y="8483"/>
                </a:cubicBezTo>
                <a:cubicBezTo>
                  <a:pt x="18468" y="8498"/>
                  <a:pt x="18502" y="8469"/>
                  <a:pt x="18554" y="8508"/>
                </a:cubicBezTo>
                <a:cubicBezTo>
                  <a:pt x="18592" y="8479"/>
                  <a:pt x="18605" y="8483"/>
                  <a:pt x="18653" y="8483"/>
                </a:cubicBezTo>
                <a:cubicBezTo>
                  <a:pt x="18719" y="8483"/>
                  <a:pt x="18786" y="8483"/>
                  <a:pt x="18852" y="8483"/>
                </a:cubicBezTo>
              </a:path>
              <a:path w="5284" h="11213">
                <a:moveTo>
                  <a:pt x="18529" y="6772"/>
                </a:moveTo>
                <a:cubicBezTo>
                  <a:pt x="18489" y="6759"/>
                  <a:pt x="18515" y="6702"/>
                  <a:pt x="18554" y="6672"/>
                </a:cubicBezTo>
                <a:cubicBezTo>
                  <a:pt x="18600" y="6636"/>
                  <a:pt x="18628" y="6658"/>
                  <a:pt x="18653" y="6697"/>
                </a:cubicBezTo>
                <a:cubicBezTo>
                  <a:pt x="18717" y="6798"/>
                  <a:pt x="18698" y="6816"/>
                  <a:pt x="18604" y="6871"/>
                </a:cubicBezTo>
                <a:cubicBezTo>
                  <a:pt x="18604" y="6906"/>
                  <a:pt x="18608" y="6843"/>
                  <a:pt x="18678" y="6896"/>
                </a:cubicBezTo>
                <a:cubicBezTo>
                  <a:pt x="18780" y="6973"/>
                  <a:pt x="18752" y="7071"/>
                  <a:pt x="18628" y="7119"/>
                </a:cubicBezTo>
                <a:cubicBezTo>
                  <a:pt x="18581" y="7137"/>
                  <a:pt x="18515" y="7126"/>
                  <a:pt x="18504" y="7094"/>
                </a:cubicBezTo>
              </a:path>
              <a:path w="5284" h="11213">
                <a:moveTo>
                  <a:pt x="18083" y="8657"/>
                </a:moveTo>
                <a:cubicBezTo>
                  <a:pt x="18135" y="8617"/>
                  <a:pt x="18222" y="8644"/>
                  <a:pt x="18231" y="8731"/>
                </a:cubicBezTo>
                <a:cubicBezTo>
                  <a:pt x="18245" y="8867"/>
                  <a:pt x="18138" y="8927"/>
                  <a:pt x="18033" y="8954"/>
                </a:cubicBezTo>
                <a:cubicBezTo>
                  <a:pt x="17998" y="8954"/>
                  <a:pt x="17981" y="8950"/>
                  <a:pt x="17959" y="8930"/>
                </a:cubicBezTo>
                <a:cubicBezTo>
                  <a:pt x="17959" y="8832"/>
                  <a:pt x="18068" y="8806"/>
                  <a:pt x="18157" y="8806"/>
                </a:cubicBezTo>
                <a:cubicBezTo>
                  <a:pt x="18287" y="8806"/>
                  <a:pt x="18252" y="8885"/>
                  <a:pt x="18355" y="8855"/>
                </a:cubicBezTo>
              </a:path>
              <a:path w="5284" h="11213">
                <a:moveTo>
                  <a:pt x="18504" y="8582"/>
                </a:moveTo>
                <a:cubicBezTo>
                  <a:pt x="18570" y="8582"/>
                  <a:pt x="18617" y="8550"/>
                  <a:pt x="18678" y="8533"/>
                </a:cubicBezTo>
                <a:cubicBezTo>
                  <a:pt x="18686" y="8533"/>
                  <a:pt x="18695" y="8533"/>
                  <a:pt x="18703" y="8533"/>
                </a:cubicBezTo>
                <a:cubicBezTo>
                  <a:pt x="18739" y="8629"/>
                  <a:pt x="18709" y="8703"/>
                  <a:pt x="18703" y="8806"/>
                </a:cubicBezTo>
                <a:cubicBezTo>
                  <a:pt x="18703" y="8814"/>
                  <a:pt x="18703" y="8822"/>
                  <a:pt x="18703" y="8830"/>
                </a:cubicBezTo>
              </a:path>
              <a:path w="5284" h="11213">
                <a:moveTo>
                  <a:pt x="17611" y="8830"/>
                </a:moveTo>
                <a:cubicBezTo>
                  <a:pt x="17679" y="8830"/>
                  <a:pt x="17744" y="8795"/>
                  <a:pt x="17810" y="8806"/>
                </a:cubicBezTo>
                <a:cubicBezTo>
                  <a:pt x="17835" y="8814"/>
                  <a:pt x="17859" y="8822"/>
                  <a:pt x="17884" y="8830"/>
                </a:cubicBezTo>
              </a:path>
              <a:path w="5284" h="11213">
                <a:moveTo>
                  <a:pt x="17636" y="9103"/>
                </a:moveTo>
                <a:cubicBezTo>
                  <a:pt x="17811" y="9103"/>
                  <a:pt x="17983" y="9073"/>
                  <a:pt x="18157" y="9054"/>
                </a:cubicBezTo>
                <a:cubicBezTo>
                  <a:pt x="18375" y="9031"/>
                  <a:pt x="18584" y="9004"/>
                  <a:pt x="18802" y="9004"/>
                </a:cubicBezTo>
                <a:cubicBezTo>
                  <a:pt x="18810" y="9004"/>
                  <a:pt x="18819" y="9004"/>
                  <a:pt x="18827" y="9004"/>
                </a:cubicBezTo>
              </a:path>
              <a:path w="5284" h="11213">
                <a:moveTo>
                  <a:pt x="18678" y="9203"/>
                </a:moveTo>
                <a:cubicBezTo>
                  <a:pt x="18704" y="9165"/>
                  <a:pt x="18788" y="9160"/>
                  <a:pt x="18852" y="9153"/>
                </a:cubicBezTo>
                <a:cubicBezTo>
                  <a:pt x="18852" y="9294"/>
                  <a:pt x="18779" y="9293"/>
                  <a:pt x="18703" y="9401"/>
                </a:cubicBezTo>
                <a:cubicBezTo>
                  <a:pt x="18703" y="9426"/>
                  <a:pt x="18703" y="9434"/>
                  <a:pt x="18678" y="9426"/>
                </a:cubicBezTo>
                <a:cubicBezTo>
                  <a:pt x="18747" y="9426"/>
                  <a:pt x="18812" y="9402"/>
                  <a:pt x="18876" y="9376"/>
                </a:cubicBezTo>
                <a:cubicBezTo>
                  <a:pt x="18917" y="9356"/>
                  <a:pt x="18923" y="9347"/>
                  <a:pt x="18951" y="9351"/>
                </a:cubicBezTo>
              </a:path>
              <a:path w="5284" h="11213">
                <a:moveTo>
                  <a:pt x="19050" y="8434"/>
                </a:moveTo>
                <a:cubicBezTo>
                  <a:pt x="19050" y="8517"/>
                  <a:pt x="19045" y="8572"/>
                  <a:pt x="19050" y="8657"/>
                </a:cubicBezTo>
                <a:cubicBezTo>
                  <a:pt x="19055" y="8735"/>
                  <a:pt x="19075" y="8804"/>
                  <a:pt x="19075" y="8880"/>
                </a:cubicBezTo>
                <a:cubicBezTo>
                  <a:pt x="19075" y="8897"/>
                  <a:pt x="19075" y="8913"/>
                  <a:pt x="19075" y="8930"/>
                </a:cubicBezTo>
              </a:path>
              <a:path w="5284" h="11213">
                <a:moveTo>
                  <a:pt x="19100" y="9153"/>
                </a:moveTo>
                <a:cubicBezTo>
                  <a:pt x="19100" y="9235"/>
                  <a:pt x="19077" y="9335"/>
                  <a:pt x="19124" y="9401"/>
                </a:cubicBezTo>
              </a:path>
              <a:path w="5284" h="11213">
                <a:moveTo>
                  <a:pt x="18876" y="6747"/>
                </a:moveTo>
                <a:cubicBezTo>
                  <a:pt x="18876" y="6694"/>
                  <a:pt x="18888" y="6686"/>
                  <a:pt x="18926" y="6648"/>
                </a:cubicBezTo>
                <a:cubicBezTo>
                  <a:pt x="18968" y="6606"/>
                  <a:pt x="18979" y="6620"/>
                  <a:pt x="19000" y="6648"/>
                </a:cubicBezTo>
                <a:cubicBezTo>
                  <a:pt x="19025" y="6681"/>
                  <a:pt x="19039" y="6725"/>
                  <a:pt x="19025" y="6772"/>
                </a:cubicBezTo>
                <a:cubicBezTo>
                  <a:pt x="19005" y="6840"/>
                  <a:pt x="18984" y="6882"/>
                  <a:pt x="18951" y="6945"/>
                </a:cubicBezTo>
                <a:cubicBezTo>
                  <a:pt x="18921" y="7001"/>
                  <a:pt x="18892" y="7066"/>
                  <a:pt x="18876" y="7119"/>
                </a:cubicBezTo>
                <a:cubicBezTo>
                  <a:pt x="18858" y="7179"/>
                  <a:pt x="18886" y="7165"/>
                  <a:pt x="18901" y="7119"/>
                </a:cubicBezTo>
                <a:cubicBezTo>
                  <a:pt x="18920" y="7061"/>
                  <a:pt x="18936" y="7069"/>
                  <a:pt x="19000" y="7069"/>
                </a:cubicBezTo>
                <a:cubicBezTo>
                  <a:pt x="19061" y="7069"/>
                  <a:pt x="19059" y="7109"/>
                  <a:pt x="19124" y="7069"/>
                </a:cubicBezTo>
              </a:path>
              <a:path w="5284" h="11213">
                <a:moveTo>
                  <a:pt x="18827" y="9550"/>
                </a:moveTo>
                <a:cubicBezTo>
                  <a:pt x="18827" y="9610"/>
                  <a:pt x="18797" y="9780"/>
                  <a:pt x="18852" y="9798"/>
                </a:cubicBezTo>
              </a:path>
              <a:path w="5284" h="11213">
                <a:moveTo>
                  <a:pt x="19199" y="9426"/>
                </a:moveTo>
                <a:cubicBezTo>
                  <a:pt x="19130" y="9479"/>
                  <a:pt x="19130" y="9494"/>
                  <a:pt x="19075" y="9550"/>
                </a:cubicBezTo>
                <a:cubicBezTo>
                  <a:pt x="19116" y="9584"/>
                  <a:pt x="19248" y="9635"/>
                  <a:pt x="19248" y="9699"/>
                </a:cubicBezTo>
                <a:cubicBezTo>
                  <a:pt x="19248" y="9739"/>
                  <a:pt x="19194" y="9818"/>
                  <a:pt x="19149" y="9773"/>
                </a:cubicBezTo>
                <a:cubicBezTo>
                  <a:pt x="19087" y="9711"/>
                  <a:pt x="19144" y="9654"/>
                  <a:pt x="19174" y="9599"/>
                </a:cubicBezTo>
                <a:cubicBezTo>
                  <a:pt x="19204" y="9543"/>
                  <a:pt x="19245" y="9526"/>
                  <a:pt x="19199" y="9475"/>
                </a:cubicBezTo>
                <a:cubicBezTo>
                  <a:pt x="19163" y="9436"/>
                  <a:pt x="19160" y="9449"/>
                  <a:pt x="19124" y="9475"/>
                </a:cubicBezTo>
              </a:path>
              <a:path w="5284" h="11213">
                <a:moveTo>
                  <a:pt x="18355" y="9674"/>
                </a:moveTo>
                <a:cubicBezTo>
                  <a:pt x="18396" y="9674"/>
                  <a:pt x="18438" y="9674"/>
                  <a:pt x="18479" y="9674"/>
                </a:cubicBezTo>
              </a:path>
              <a:path w="5284" h="11213">
                <a:moveTo>
                  <a:pt x="18678" y="9996"/>
                </a:moveTo>
                <a:cubicBezTo>
                  <a:pt x="18829" y="9985"/>
                  <a:pt x="18975" y="9952"/>
                  <a:pt x="19124" y="9922"/>
                </a:cubicBezTo>
                <a:cubicBezTo>
                  <a:pt x="19200" y="9907"/>
                  <a:pt x="19272" y="9872"/>
                  <a:pt x="19348" y="9872"/>
                </a:cubicBezTo>
              </a:path>
              <a:path w="5284" h="11213">
                <a:moveTo>
                  <a:pt x="19174" y="10096"/>
                </a:moveTo>
                <a:cubicBezTo>
                  <a:pt x="19190" y="10034"/>
                  <a:pt x="19261" y="10014"/>
                  <a:pt x="19323" y="9996"/>
                </a:cubicBezTo>
                <a:cubicBezTo>
                  <a:pt x="19331" y="9996"/>
                  <a:pt x="19340" y="9996"/>
                  <a:pt x="19348" y="9996"/>
                </a:cubicBezTo>
                <a:cubicBezTo>
                  <a:pt x="19384" y="10090"/>
                  <a:pt x="19317" y="10077"/>
                  <a:pt x="19273" y="10120"/>
                </a:cubicBezTo>
                <a:cubicBezTo>
                  <a:pt x="19273" y="10145"/>
                  <a:pt x="19273" y="10153"/>
                  <a:pt x="19248" y="10145"/>
                </a:cubicBezTo>
                <a:cubicBezTo>
                  <a:pt x="19283" y="10119"/>
                  <a:pt x="19368" y="10083"/>
                  <a:pt x="19397" y="10145"/>
                </a:cubicBezTo>
                <a:cubicBezTo>
                  <a:pt x="19435" y="10228"/>
                  <a:pt x="19328" y="10301"/>
                  <a:pt x="19273" y="10319"/>
                </a:cubicBezTo>
                <a:cubicBezTo>
                  <a:pt x="19248" y="10319"/>
                  <a:pt x="19240" y="10319"/>
                  <a:pt x="19224" y="10319"/>
                </a:cubicBezTo>
              </a:path>
              <a:path w="5284" h="11213">
                <a:moveTo>
                  <a:pt x="19348" y="7069"/>
                </a:moveTo>
                <a:cubicBezTo>
                  <a:pt x="19400" y="7034"/>
                  <a:pt x="19372" y="7110"/>
                  <a:pt x="19372" y="7069"/>
                </a:cubicBezTo>
                <a:cubicBezTo>
                  <a:pt x="19372" y="7045"/>
                  <a:pt x="19372" y="7037"/>
                  <a:pt x="19372" y="7069"/>
                </a:cubicBezTo>
                <a:cubicBezTo>
                  <a:pt x="19351" y="7098"/>
                  <a:pt x="19407" y="7086"/>
                  <a:pt x="19372" y="7094"/>
                </a:cubicBezTo>
                <a:cubicBezTo>
                  <a:pt x="19324" y="7118"/>
                  <a:pt x="19308" y="7125"/>
                  <a:pt x="19323" y="7169"/>
                </a:cubicBezTo>
                <a:cubicBezTo>
                  <a:pt x="19370" y="7157"/>
                  <a:pt x="19372" y="7107"/>
                  <a:pt x="19372" y="7144"/>
                </a:cubicBezTo>
                <a:cubicBezTo>
                  <a:pt x="19372" y="7224"/>
                  <a:pt x="19411" y="7066"/>
                  <a:pt x="19372" y="7144"/>
                </a:cubicBezTo>
              </a:path>
              <a:path w="5284" h="11213">
                <a:moveTo>
                  <a:pt x="19769" y="8409"/>
                </a:moveTo>
                <a:cubicBezTo>
                  <a:pt x="19769" y="8401"/>
                  <a:pt x="19769" y="8392"/>
                  <a:pt x="19769" y="8384"/>
                </a:cubicBezTo>
                <a:cubicBezTo>
                  <a:pt x="19769" y="8420"/>
                  <a:pt x="19767" y="8422"/>
                  <a:pt x="19769" y="8458"/>
                </a:cubicBezTo>
                <a:cubicBezTo>
                  <a:pt x="19772" y="8504"/>
                  <a:pt x="19779" y="8563"/>
                  <a:pt x="19794" y="8607"/>
                </a:cubicBezTo>
                <a:cubicBezTo>
                  <a:pt x="19815" y="8670"/>
                  <a:pt x="19836" y="8741"/>
                  <a:pt x="19844" y="8806"/>
                </a:cubicBezTo>
                <a:cubicBezTo>
                  <a:pt x="19858" y="8916"/>
                  <a:pt x="19893" y="9016"/>
                  <a:pt x="19893" y="9128"/>
                </a:cubicBezTo>
                <a:cubicBezTo>
                  <a:pt x="19893" y="9369"/>
                  <a:pt x="19900" y="9611"/>
                  <a:pt x="19869" y="9847"/>
                </a:cubicBezTo>
                <a:cubicBezTo>
                  <a:pt x="19863" y="9894"/>
                  <a:pt x="19872" y="9910"/>
                  <a:pt x="19893" y="9947"/>
                </a:cubicBezTo>
              </a:path>
              <a:path w="5284" h="11213">
                <a:moveTo>
                  <a:pt x="19720" y="9996"/>
                </a:moveTo>
                <a:cubicBezTo>
                  <a:pt x="19712" y="9996"/>
                  <a:pt x="19703" y="9996"/>
                  <a:pt x="19695" y="9996"/>
                </a:cubicBezTo>
                <a:cubicBezTo>
                  <a:pt x="19720" y="9958"/>
                  <a:pt x="19830" y="9948"/>
                  <a:pt x="19893" y="9922"/>
                </a:cubicBezTo>
                <a:cubicBezTo>
                  <a:pt x="19956" y="9896"/>
                  <a:pt x="19999" y="9897"/>
                  <a:pt x="20067" y="9897"/>
                </a:cubicBezTo>
                <a:cubicBezTo>
                  <a:pt x="20029" y="10018"/>
                  <a:pt x="19987" y="10130"/>
                  <a:pt x="19943" y="10244"/>
                </a:cubicBezTo>
                <a:cubicBezTo>
                  <a:pt x="19943" y="10269"/>
                  <a:pt x="19943" y="10277"/>
                  <a:pt x="19943" y="10294"/>
                </a:cubicBezTo>
              </a:path>
              <a:path w="5284" h="11213">
                <a:moveTo>
                  <a:pt x="19571" y="6672"/>
                </a:moveTo>
                <a:cubicBezTo>
                  <a:pt x="19571" y="6730"/>
                  <a:pt x="19550" y="6780"/>
                  <a:pt x="19596" y="6796"/>
                </a:cubicBezTo>
                <a:cubicBezTo>
                  <a:pt x="19679" y="6824"/>
                  <a:pt x="19693" y="6796"/>
                  <a:pt x="19769" y="6796"/>
                </a:cubicBezTo>
                <a:cubicBezTo>
                  <a:pt x="19828" y="6796"/>
                  <a:pt x="19806" y="6803"/>
                  <a:pt x="19844" y="6747"/>
                </a:cubicBezTo>
              </a:path>
              <a:path w="5284" h="11213">
                <a:moveTo>
                  <a:pt x="19769" y="6524"/>
                </a:moveTo>
                <a:cubicBezTo>
                  <a:pt x="19719" y="6608"/>
                  <a:pt x="19747" y="6725"/>
                  <a:pt x="19769" y="6821"/>
                </a:cubicBezTo>
                <a:cubicBezTo>
                  <a:pt x="19783" y="6883"/>
                  <a:pt x="19794" y="6891"/>
                  <a:pt x="19794" y="6945"/>
                </a:cubicBezTo>
              </a:path>
              <a:path w="5284" h="11213">
                <a:moveTo>
                  <a:pt x="19372" y="10418"/>
                </a:moveTo>
                <a:cubicBezTo>
                  <a:pt x="19411" y="10410"/>
                  <a:pt x="19512" y="10345"/>
                  <a:pt x="19546" y="10368"/>
                </a:cubicBezTo>
                <a:cubicBezTo>
                  <a:pt x="19580" y="10391"/>
                  <a:pt x="19528" y="10489"/>
                  <a:pt x="19521" y="10517"/>
                </a:cubicBezTo>
                <a:cubicBezTo>
                  <a:pt x="19562" y="10510"/>
                  <a:pt x="19604" y="10499"/>
                  <a:pt x="19645" y="10492"/>
                </a:cubicBezTo>
                <a:cubicBezTo>
                  <a:pt x="19702" y="10606"/>
                  <a:pt x="19658" y="10588"/>
                  <a:pt x="19571" y="10641"/>
                </a:cubicBezTo>
                <a:cubicBezTo>
                  <a:pt x="19500" y="10684"/>
                  <a:pt x="19580" y="10632"/>
                  <a:pt x="19596" y="10616"/>
                </a:cubicBezTo>
              </a:path>
              <a:path w="5284" h="11213">
                <a:moveTo>
                  <a:pt x="19993" y="10294"/>
                </a:moveTo>
                <a:cubicBezTo>
                  <a:pt x="19978" y="10368"/>
                  <a:pt x="19968" y="10397"/>
                  <a:pt x="20017" y="10468"/>
                </a:cubicBezTo>
                <a:cubicBezTo>
                  <a:pt x="20074" y="10549"/>
                  <a:pt x="20153" y="10495"/>
                  <a:pt x="20191" y="10418"/>
                </a:cubicBezTo>
                <a:cubicBezTo>
                  <a:pt x="20191" y="10401"/>
                  <a:pt x="20191" y="10385"/>
                  <a:pt x="20191" y="10368"/>
                </a:cubicBezTo>
                <a:cubicBezTo>
                  <a:pt x="20111" y="10384"/>
                  <a:pt x="20079" y="10413"/>
                  <a:pt x="20067" y="10492"/>
                </a:cubicBezTo>
                <a:cubicBezTo>
                  <a:pt x="20067" y="10500"/>
                  <a:pt x="20067" y="10509"/>
                  <a:pt x="20067" y="10517"/>
                </a:cubicBezTo>
              </a:path>
              <a:path w="5284" h="11213">
                <a:moveTo>
                  <a:pt x="19348" y="10815"/>
                </a:moveTo>
                <a:cubicBezTo>
                  <a:pt x="19519" y="10765"/>
                  <a:pt x="19689" y="10705"/>
                  <a:pt x="19869" y="10666"/>
                </a:cubicBezTo>
                <a:cubicBezTo>
                  <a:pt x="20062" y="10624"/>
                  <a:pt x="20273" y="10547"/>
                  <a:pt x="20464" y="10517"/>
                </a:cubicBezTo>
                <a:cubicBezTo>
                  <a:pt x="20472" y="10517"/>
                  <a:pt x="20481" y="10517"/>
                  <a:pt x="20489" y="10517"/>
                </a:cubicBezTo>
              </a:path>
              <a:path w="5284" h="11213">
                <a:moveTo>
                  <a:pt x="20811" y="7541"/>
                </a:moveTo>
                <a:cubicBezTo>
                  <a:pt x="20717" y="7564"/>
                  <a:pt x="20697" y="7705"/>
                  <a:pt x="20687" y="7789"/>
                </a:cubicBezTo>
                <a:cubicBezTo>
                  <a:pt x="20687" y="7890"/>
                  <a:pt x="20677" y="7911"/>
                  <a:pt x="20712" y="7962"/>
                </a:cubicBezTo>
                <a:cubicBezTo>
                  <a:pt x="20829" y="7953"/>
                  <a:pt x="20956" y="7942"/>
                  <a:pt x="20960" y="7789"/>
                </a:cubicBezTo>
                <a:cubicBezTo>
                  <a:pt x="20961" y="7740"/>
                  <a:pt x="20904" y="7587"/>
                  <a:pt x="20836" y="7615"/>
                </a:cubicBezTo>
                <a:cubicBezTo>
                  <a:pt x="20836" y="7623"/>
                  <a:pt x="20836" y="7632"/>
                  <a:pt x="20836" y="7640"/>
                </a:cubicBezTo>
              </a:path>
              <a:path w="5284" h="11213">
                <a:moveTo>
                  <a:pt x="20836" y="8161"/>
                </a:moveTo>
                <a:cubicBezTo>
                  <a:pt x="20831" y="8183"/>
                  <a:pt x="20811" y="8249"/>
                  <a:pt x="20811" y="8310"/>
                </a:cubicBezTo>
                <a:cubicBezTo>
                  <a:pt x="20811" y="8425"/>
                  <a:pt x="20817" y="8544"/>
                  <a:pt x="20836" y="8657"/>
                </a:cubicBezTo>
                <a:cubicBezTo>
                  <a:pt x="20854" y="8763"/>
                  <a:pt x="20864" y="8875"/>
                  <a:pt x="20886" y="8979"/>
                </a:cubicBezTo>
                <a:cubicBezTo>
                  <a:pt x="20909" y="9087"/>
                  <a:pt x="20934" y="9193"/>
                  <a:pt x="20960" y="9302"/>
                </a:cubicBezTo>
                <a:cubicBezTo>
                  <a:pt x="20999" y="9464"/>
                  <a:pt x="21002" y="9633"/>
                  <a:pt x="21034" y="9798"/>
                </a:cubicBezTo>
                <a:cubicBezTo>
                  <a:pt x="21058" y="9922"/>
                  <a:pt x="21073" y="10051"/>
                  <a:pt x="21109" y="10170"/>
                </a:cubicBezTo>
                <a:cubicBezTo>
                  <a:pt x="21141" y="10277"/>
                  <a:pt x="21154" y="10406"/>
                  <a:pt x="21158" y="10517"/>
                </a:cubicBezTo>
                <a:cubicBezTo>
                  <a:pt x="21161" y="10590"/>
                  <a:pt x="21170" y="10665"/>
                  <a:pt x="21183" y="10740"/>
                </a:cubicBezTo>
                <a:cubicBezTo>
                  <a:pt x="21198" y="10825"/>
                  <a:pt x="21224" y="10902"/>
                  <a:pt x="21233" y="10988"/>
                </a:cubicBezTo>
                <a:cubicBezTo>
                  <a:pt x="21242" y="11079"/>
                  <a:pt x="21248" y="11172"/>
                  <a:pt x="21258" y="11261"/>
                </a:cubicBezTo>
                <a:cubicBezTo>
                  <a:pt x="21258" y="11319"/>
                  <a:pt x="21258" y="11328"/>
                  <a:pt x="21258" y="11361"/>
                </a:cubicBezTo>
              </a:path>
              <a:path w="5284" h="11213">
                <a:moveTo>
                  <a:pt x="21382" y="11410"/>
                </a:moveTo>
                <a:cubicBezTo>
                  <a:pt x="21321" y="11507"/>
                  <a:pt x="21288" y="11567"/>
                  <a:pt x="21258" y="11683"/>
                </a:cubicBezTo>
                <a:cubicBezTo>
                  <a:pt x="21247" y="11726"/>
                  <a:pt x="21196" y="11850"/>
                  <a:pt x="21282" y="11857"/>
                </a:cubicBezTo>
                <a:cubicBezTo>
                  <a:pt x="21362" y="11864"/>
                  <a:pt x="21479" y="11849"/>
                  <a:pt x="21506" y="11757"/>
                </a:cubicBezTo>
                <a:cubicBezTo>
                  <a:pt x="21529" y="11681"/>
                  <a:pt x="21539" y="11608"/>
                  <a:pt x="21506" y="11534"/>
                </a:cubicBezTo>
                <a:cubicBezTo>
                  <a:pt x="21473" y="11461"/>
                  <a:pt x="21406" y="11447"/>
                  <a:pt x="21382" y="11410"/>
                </a:cubicBezTo>
              </a:path>
              <a:path w="5284" h="11213">
                <a:moveTo>
                  <a:pt x="20365" y="6623"/>
                </a:moveTo>
                <a:cubicBezTo>
                  <a:pt x="20365" y="6556"/>
                  <a:pt x="20369" y="6708"/>
                  <a:pt x="20389" y="6772"/>
                </a:cubicBezTo>
                <a:cubicBezTo>
                  <a:pt x="20418" y="6863"/>
                  <a:pt x="20471" y="6953"/>
                  <a:pt x="20489" y="7045"/>
                </a:cubicBezTo>
              </a:path>
              <a:path w="5284" h="11213">
                <a:moveTo>
                  <a:pt x="20191" y="6375"/>
                </a:moveTo>
                <a:cubicBezTo>
                  <a:pt x="20246" y="6342"/>
                  <a:pt x="20295" y="6350"/>
                  <a:pt x="20365" y="6350"/>
                </a:cubicBezTo>
                <a:cubicBezTo>
                  <a:pt x="20408" y="6350"/>
                  <a:pt x="20284" y="6375"/>
                  <a:pt x="20241" y="6375"/>
                </a:cubicBezTo>
                <a:cubicBezTo>
                  <a:pt x="20288" y="6375"/>
                  <a:pt x="20338" y="6309"/>
                  <a:pt x="20365" y="6325"/>
                </a:cubicBezTo>
                <a:cubicBezTo>
                  <a:pt x="20365" y="6333"/>
                  <a:pt x="20365" y="6342"/>
                  <a:pt x="20365" y="6350"/>
                </a:cubicBezTo>
              </a:path>
              <a:path w="5284" h="11213">
                <a:moveTo>
                  <a:pt x="21580" y="12105"/>
                </a:moveTo>
                <a:cubicBezTo>
                  <a:pt x="21580" y="12006"/>
                  <a:pt x="21499" y="12064"/>
                  <a:pt x="21456" y="12129"/>
                </a:cubicBezTo>
                <a:cubicBezTo>
                  <a:pt x="21433" y="12197"/>
                  <a:pt x="21422" y="12215"/>
                  <a:pt x="21456" y="12254"/>
                </a:cubicBezTo>
                <a:cubicBezTo>
                  <a:pt x="21543" y="12210"/>
                  <a:pt x="21609" y="12184"/>
                  <a:pt x="21630" y="12080"/>
                </a:cubicBezTo>
                <a:cubicBezTo>
                  <a:pt x="21646" y="12146"/>
                  <a:pt x="21711" y="12207"/>
                  <a:pt x="21729" y="12278"/>
                </a:cubicBezTo>
                <a:cubicBezTo>
                  <a:pt x="21729" y="12328"/>
                  <a:pt x="21729" y="12345"/>
                  <a:pt x="21729" y="12378"/>
                </a:cubicBezTo>
              </a:path>
              <a:path w="5284" h="11213">
                <a:moveTo>
                  <a:pt x="21109" y="12675"/>
                </a:moveTo>
                <a:cubicBezTo>
                  <a:pt x="21289" y="12621"/>
                  <a:pt x="21468" y="12548"/>
                  <a:pt x="21654" y="12502"/>
                </a:cubicBezTo>
                <a:cubicBezTo>
                  <a:pt x="21745" y="12484"/>
                  <a:pt x="21752" y="12475"/>
                  <a:pt x="21803" y="12477"/>
                </a:cubicBezTo>
              </a:path>
              <a:path w="5284" h="11213">
                <a:moveTo>
                  <a:pt x="21878" y="12774"/>
                </a:moveTo>
                <a:cubicBezTo>
                  <a:pt x="21909" y="12856"/>
                  <a:pt x="21915" y="12975"/>
                  <a:pt x="21927" y="13072"/>
                </a:cubicBezTo>
              </a:path>
              <a:path w="5284" h="11213">
                <a:moveTo>
                  <a:pt x="20216" y="6400"/>
                </a:moveTo>
                <a:cubicBezTo>
                  <a:pt x="20233" y="6349"/>
                  <a:pt x="20306" y="6354"/>
                  <a:pt x="20365" y="6350"/>
                </a:cubicBezTo>
                <a:cubicBezTo>
                  <a:pt x="20398" y="6348"/>
                  <a:pt x="20431" y="6350"/>
                  <a:pt x="20464" y="6350"/>
                </a:cubicBezTo>
                <a:cubicBezTo>
                  <a:pt x="20464" y="6350"/>
                  <a:pt x="20365" y="6350"/>
                  <a:pt x="20290" y="6350"/>
                </a:cubicBezTo>
                <a:cubicBezTo>
                  <a:pt x="20226" y="6350"/>
                  <a:pt x="20386" y="6350"/>
                  <a:pt x="20414" y="6350"/>
                </a:cubicBezTo>
                <a:cubicBezTo>
                  <a:pt x="20472" y="6350"/>
                  <a:pt x="20321" y="6328"/>
                  <a:pt x="20290" y="6375"/>
                </a:cubicBezTo>
                <a:cubicBezTo>
                  <a:pt x="20251" y="6435"/>
                  <a:pt x="20419" y="6339"/>
                  <a:pt x="20489" y="6325"/>
                </a:cubicBezTo>
                <a:cubicBezTo>
                  <a:pt x="20497" y="6325"/>
                  <a:pt x="20505" y="6325"/>
                  <a:pt x="20513" y="6325"/>
                </a:cubicBezTo>
              </a:path>
              <a:path w="5284" h="11213">
                <a:moveTo>
                  <a:pt x="17711" y="7466"/>
                </a:moveTo>
                <a:cubicBezTo>
                  <a:pt x="17718" y="7466"/>
                  <a:pt x="17853" y="7477"/>
                  <a:pt x="17909" y="7491"/>
                </a:cubicBezTo>
                <a:cubicBezTo>
                  <a:pt x="18076" y="7534"/>
                  <a:pt x="18233" y="7562"/>
                  <a:pt x="18405" y="7565"/>
                </a:cubicBezTo>
                <a:cubicBezTo>
                  <a:pt x="18540" y="7568"/>
                  <a:pt x="18676" y="7548"/>
                  <a:pt x="18802" y="7541"/>
                </a:cubicBezTo>
                <a:cubicBezTo>
                  <a:pt x="18926" y="7534"/>
                  <a:pt x="19028" y="7505"/>
                  <a:pt x="19149" y="7491"/>
                </a:cubicBezTo>
                <a:cubicBezTo>
                  <a:pt x="19263" y="7478"/>
                  <a:pt x="19384" y="7466"/>
                  <a:pt x="19496" y="7441"/>
                </a:cubicBezTo>
                <a:cubicBezTo>
                  <a:pt x="19612" y="7415"/>
                  <a:pt x="19727" y="7397"/>
                  <a:pt x="19844" y="7367"/>
                </a:cubicBezTo>
                <a:cubicBezTo>
                  <a:pt x="20061" y="7312"/>
                  <a:pt x="20262" y="7259"/>
                  <a:pt x="20464" y="7169"/>
                </a:cubicBezTo>
                <a:cubicBezTo>
                  <a:pt x="20562" y="7126"/>
                  <a:pt x="20668" y="7095"/>
                  <a:pt x="20762" y="7045"/>
                </a:cubicBezTo>
                <a:cubicBezTo>
                  <a:pt x="20834" y="7007"/>
                  <a:pt x="20864" y="6962"/>
                  <a:pt x="20910" y="6896"/>
                </a:cubicBezTo>
                <a:cubicBezTo>
                  <a:pt x="20971" y="6808"/>
                  <a:pt x="21037" y="6690"/>
                  <a:pt x="21034" y="6573"/>
                </a:cubicBezTo>
                <a:cubicBezTo>
                  <a:pt x="21030" y="6432"/>
                  <a:pt x="20958" y="6253"/>
                  <a:pt x="20861" y="6152"/>
                </a:cubicBezTo>
                <a:cubicBezTo>
                  <a:pt x="20808" y="6097"/>
                  <a:pt x="20684" y="6024"/>
                  <a:pt x="20613" y="6003"/>
                </a:cubicBezTo>
                <a:cubicBezTo>
                  <a:pt x="20538" y="5981"/>
                  <a:pt x="20445" y="5971"/>
                  <a:pt x="20365" y="5978"/>
                </a:cubicBezTo>
                <a:cubicBezTo>
                  <a:pt x="20248" y="5988"/>
                  <a:pt x="20171" y="6010"/>
                  <a:pt x="20067" y="6052"/>
                </a:cubicBezTo>
                <a:cubicBezTo>
                  <a:pt x="19929" y="6107"/>
                  <a:pt x="19785" y="6156"/>
                  <a:pt x="19645" y="6201"/>
                </a:cubicBezTo>
                <a:cubicBezTo>
                  <a:pt x="19498" y="6249"/>
                  <a:pt x="19347" y="6281"/>
                  <a:pt x="19199" y="6325"/>
                </a:cubicBezTo>
                <a:cubicBezTo>
                  <a:pt x="19090" y="6358"/>
                  <a:pt x="18984" y="6400"/>
                  <a:pt x="18876" y="6424"/>
                </a:cubicBezTo>
                <a:cubicBezTo>
                  <a:pt x="18778" y="6446"/>
                  <a:pt x="18679" y="6473"/>
                  <a:pt x="18579" y="6499"/>
                </a:cubicBezTo>
                <a:cubicBezTo>
                  <a:pt x="18461" y="6529"/>
                  <a:pt x="18347" y="6541"/>
                  <a:pt x="18231" y="6573"/>
                </a:cubicBezTo>
                <a:cubicBezTo>
                  <a:pt x="18130" y="6601"/>
                  <a:pt x="18035" y="6614"/>
                  <a:pt x="17934" y="6648"/>
                </a:cubicBezTo>
                <a:cubicBezTo>
                  <a:pt x="17827" y="6684"/>
                  <a:pt x="17689" y="6724"/>
                  <a:pt x="17611" y="6821"/>
                </a:cubicBezTo>
                <a:cubicBezTo>
                  <a:pt x="17564" y="6880"/>
                  <a:pt x="17547" y="6972"/>
                  <a:pt x="17562" y="7045"/>
                </a:cubicBezTo>
                <a:cubicBezTo>
                  <a:pt x="17580" y="7132"/>
                  <a:pt x="17652" y="7181"/>
                  <a:pt x="17711" y="7243"/>
                </a:cubicBezTo>
                <a:cubicBezTo>
                  <a:pt x="17724" y="7257"/>
                  <a:pt x="17815" y="7358"/>
                  <a:pt x="17835" y="7367"/>
                </a:cubicBezTo>
                <a:cubicBezTo>
                  <a:pt x="17964" y="7424"/>
                  <a:pt x="17950" y="7387"/>
                  <a:pt x="18033" y="7516"/>
                </a:cubicBezTo>
              </a:path>
              <a:path w="5284" h="11213">
                <a:moveTo>
                  <a:pt x="17239" y="11063"/>
                </a:moveTo>
                <a:cubicBezTo>
                  <a:pt x="17172" y="11050"/>
                  <a:pt x="17109" y="11023"/>
                  <a:pt x="17066" y="11112"/>
                </a:cubicBezTo>
                <a:cubicBezTo>
                  <a:pt x="16995" y="11259"/>
                  <a:pt x="17027" y="11495"/>
                  <a:pt x="17090" y="11633"/>
                </a:cubicBezTo>
                <a:cubicBezTo>
                  <a:pt x="17098" y="11641"/>
                  <a:pt x="17107" y="11650"/>
                  <a:pt x="17115" y="11658"/>
                </a:cubicBezTo>
                <a:cubicBezTo>
                  <a:pt x="17277" y="11618"/>
                  <a:pt x="17338" y="11493"/>
                  <a:pt x="17338" y="11311"/>
                </a:cubicBezTo>
                <a:cubicBezTo>
                  <a:pt x="17338" y="11189"/>
                  <a:pt x="17292" y="11117"/>
                  <a:pt x="17214" y="11038"/>
                </a:cubicBezTo>
                <a:cubicBezTo>
                  <a:pt x="17192" y="11015"/>
                  <a:pt x="17187" y="11007"/>
                  <a:pt x="17165" y="11013"/>
                </a:cubicBezTo>
              </a:path>
              <a:path w="5284" h="11213">
                <a:moveTo>
                  <a:pt x="17636" y="10988"/>
                </a:moveTo>
                <a:cubicBezTo>
                  <a:pt x="17661" y="10988"/>
                  <a:pt x="17669" y="10988"/>
                  <a:pt x="17686" y="10988"/>
                </a:cubicBezTo>
                <a:cubicBezTo>
                  <a:pt x="17696" y="11106"/>
                  <a:pt x="17699" y="11198"/>
                  <a:pt x="17686" y="11311"/>
                </a:cubicBezTo>
                <a:cubicBezTo>
                  <a:pt x="17760" y="11292"/>
                  <a:pt x="17834" y="11241"/>
                  <a:pt x="17909" y="11212"/>
                </a:cubicBezTo>
                <a:cubicBezTo>
                  <a:pt x="17917" y="11212"/>
                  <a:pt x="17926" y="11212"/>
                  <a:pt x="17934" y="11212"/>
                </a:cubicBezTo>
              </a:path>
              <a:path w="5284" h="11213">
                <a:moveTo>
                  <a:pt x="17909" y="10864"/>
                </a:moveTo>
                <a:cubicBezTo>
                  <a:pt x="17856" y="10882"/>
                  <a:pt x="17930" y="11155"/>
                  <a:pt x="17934" y="11187"/>
                </a:cubicBezTo>
                <a:cubicBezTo>
                  <a:pt x="17954" y="11347"/>
                  <a:pt x="17959" y="11498"/>
                  <a:pt x="17959" y="11658"/>
                </a:cubicBezTo>
                <a:cubicBezTo>
                  <a:pt x="17959" y="11666"/>
                  <a:pt x="17959" y="11675"/>
                  <a:pt x="17959" y="11683"/>
                </a:cubicBezTo>
              </a:path>
              <a:path w="5284" h="11213">
                <a:moveTo>
                  <a:pt x="17214" y="13320"/>
                </a:moveTo>
                <a:cubicBezTo>
                  <a:pt x="17214" y="13249"/>
                  <a:pt x="17175" y="13560"/>
                  <a:pt x="17165" y="13593"/>
                </a:cubicBezTo>
                <a:cubicBezTo>
                  <a:pt x="17157" y="13610"/>
                  <a:pt x="17148" y="13626"/>
                  <a:pt x="17140" y="13643"/>
                </a:cubicBezTo>
                <a:cubicBezTo>
                  <a:pt x="17215" y="13624"/>
                  <a:pt x="17258" y="13558"/>
                  <a:pt x="17338" y="13543"/>
                </a:cubicBezTo>
                <a:cubicBezTo>
                  <a:pt x="17346" y="13543"/>
                  <a:pt x="17355" y="13543"/>
                  <a:pt x="17363" y="13543"/>
                </a:cubicBezTo>
              </a:path>
              <a:path w="5284" h="11213">
                <a:moveTo>
                  <a:pt x="17314" y="13246"/>
                </a:moveTo>
                <a:cubicBezTo>
                  <a:pt x="17342" y="13427"/>
                  <a:pt x="17338" y="13606"/>
                  <a:pt x="17338" y="13791"/>
                </a:cubicBezTo>
              </a:path>
              <a:path w="5284" h="11213">
                <a:moveTo>
                  <a:pt x="17810" y="13196"/>
                </a:moveTo>
                <a:cubicBezTo>
                  <a:pt x="17712" y="13235"/>
                  <a:pt x="17669" y="13354"/>
                  <a:pt x="17611" y="13444"/>
                </a:cubicBezTo>
                <a:cubicBezTo>
                  <a:pt x="17687" y="13545"/>
                  <a:pt x="17755" y="13587"/>
                  <a:pt x="17785" y="13717"/>
                </a:cubicBezTo>
                <a:cubicBezTo>
                  <a:pt x="17653" y="13664"/>
                  <a:pt x="17700" y="13578"/>
                  <a:pt x="17735" y="13469"/>
                </a:cubicBezTo>
                <a:cubicBezTo>
                  <a:pt x="17752" y="13416"/>
                  <a:pt x="17774" y="13390"/>
                  <a:pt x="17785" y="13345"/>
                </a:cubicBezTo>
              </a:path>
              <a:path w="5284" h="11213">
                <a:moveTo>
                  <a:pt x="16966" y="13990"/>
                </a:moveTo>
                <a:cubicBezTo>
                  <a:pt x="17264" y="13932"/>
                  <a:pt x="17561" y="13836"/>
                  <a:pt x="17859" y="13791"/>
                </a:cubicBezTo>
                <a:cubicBezTo>
                  <a:pt x="17884" y="13791"/>
                  <a:pt x="17909" y="13791"/>
                  <a:pt x="17934" y="13791"/>
                </a:cubicBezTo>
              </a:path>
              <a:path w="5284" h="11213">
                <a:moveTo>
                  <a:pt x="16743" y="13618"/>
                </a:moveTo>
                <a:cubicBezTo>
                  <a:pt x="16825" y="13606"/>
                  <a:pt x="16910" y="13585"/>
                  <a:pt x="16991" y="13568"/>
                </a:cubicBezTo>
              </a:path>
              <a:path w="5284" h="11213">
                <a:moveTo>
                  <a:pt x="17884" y="14238"/>
                </a:moveTo>
                <a:cubicBezTo>
                  <a:pt x="17842" y="14238"/>
                  <a:pt x="17822" y="14520"/>
                  <a:pt x="17859" y="14610"/>
                </a:cubicBezTo>
                <a:cubicBezTo>
                  <a:pt x="17884" y="14635"/>
                  <a:pt x="17909" y="14659"/>
                  <a:pt x="17934" y="14684"/>
                </a:cubicBezTo>
                <a:cubicBezTo>
                  <a:pt x="18130" y="14580"/>
                  <a:pt x="18159" y="14435"/>
                  <a:pt x="18058" y="14213"/>
                </a:cubicBezTo>
                <a:cubicBezTo>
                  <a:pt x="18010" y="14108"/>
                  <a:pt x="17923" y="14197"/>
                  <a:pt x="17859" y="14213"/>
                </a:cubicBezTo>
              </a:path>
              <a:path w="5284" h="11213">
                <a:moveTo>
                  <a:pt x="18504" y="13221"/>
                </a:moveTo>
                <a:cubicBezTo>
                  <a:pt x="18600" y="13253"/>
                  <a:pt x="18624" y="13611"/>
                  <a:pt x="18628" y="13643"/>
                </a:cubicBezTo>
                <a:cubicBezTo>
                  <a:pt x="18653" y="13824"/>
                  <a:pt x="18678" y="14272"/>
                  <a:pt x="18678" y="14089"/>
                </a:cubicBezTo>
              </a:path>
              <a:path w="5284" h="11213">
                <a:moveTo>
                  <a:pt x="18529" y="14263"/>
                </a:moveTo>
                <a:cubicBezTo>
                  <a:pt x="18573" y="14260"/>
                  <a:pt x="18825" y="14204"/>
                  <a:pt x="18852" y="14238"/>
                </a:cubicBezTo>
                <a:cubicBezTo>
                  <a:pt x="18943" y="14353"/>
                  <a:pt x="18843" y="14563"/>
                  <a:pt x="18827" y="14684"/>
                </a:cubicBezTo>
              </a:path>
              <a:path w="5284" h="11213">
                <a:moveTo>
                  <a:pt x="18728" y="10964"/>
                </a:moveTo>
                <a:cubicBezTo>
                  <a:pt x="18728" y="10898"/>
                  <a:pt x="18679" y="11057"/>
                  <a:pt x="18678" y="11063"/>
                </a:cubicBezTo>
                <a:cubicBezTo>
                  <a:pt x="18663" y="11175"/>
                  <a:pt x="18686" y="11277"/>
                  <a:pt x="18703" y="11385"/>
                </a:cubicBezTo>
                <a:cubicBezTo>
                  <a:pt x="18709" y="11425"/>
                  <a:pt x="18681" y="11486"/>
                  <a:pt x="18728" y="11509"/>
                </a:cubicBezTo>
                <a:cubicBezTo>
                  <a:pt x="18790" y="11540"/>
                  <a:pt x="18825" y="11533"/>
                  <a:pt x="18876" y="11485"/>
                </a:cubicBezTo>
                <a:cubicBezTo>
                  <a:pt x="18953" y="11413"/>
                  <a:pt x="18984" y="11316"/>
                  <a:pt x="19000" y="11212"/>
                </a:cubicBezTo>
                <a:cubicBezTo>
                  <a:pt x="19015" y="11117"/>
                  <a:pt x="18966" y="11067"/>
                  <a:pt x="18926" y="11013"/>
                </a:cubicBezTo>
                <a:cubicBezTo>
                  <a:pt x="18882" y="10954"/>
                  <a:pt x="18880" y="10930"/>
                  <a:pt x="18802" y="10914"/>
                </a:cubicBezTo>
              </a:path>
              <a:path w="5284" h="11213">
                <a:moveTo>
                  <a:pt x="18033" y="14957"/>
                </a:moveTo>
                <a:cubicBezTo>
                  <a:pt x="17950" y="14957"/>
                  <a:pt x="18149" y="14945"/>
                  <a:pt x="18231" y="14932"/>
                </a:cubicBezTo>
                <a:cubicBezTo>
                  <a:pt x="18380" y="14908"/>
                  <a:pt x="18430" y="14900"/>
                  <a:pt x="18529" y="14883"/>
                </a:cubicBezTo>
              </a:path>
              <a:path w="5284" h="11213">
                <a:moveTo>
                  <a:pt x="18802" y="14784"/>
                </a:moveTo>
                <a:cubicBezTo>
                  <a:pt x="18670" y="14784"/>
                  <a:pt x="18645" y="14778"/>
                  <a:pt x="18628" y="14932"/>
                </a:cubicBezTo>
                <a:cubicBezTo>
                  <a:pt x="18628" y="15061"/>
                  <a:pt x="18617" y="15095"/>
                  <a:pt x="18678" y="15156"/>
                </a:cubicBezTo>
                <a:cubicBezTo>
                  <a:pt x="18767" y="15096"/>
                  <a:pt x="18938" y="14927"/>
                  <a:pt x="18752" y="14833"/>
                </a:cubicBezTo>
                <a:cubicBezTo>
                  <a:pt x="18727" y="14833"/>
                  <a:pt x="18703" y="14833"/>
                  <a:pt x="18678" y="14833"/>
                </a:cubicBezTo>
              </a:path>
              <a:path w="5284" h="11213">
                <a:moveTo>
                  <a:pt x="18058" y="15354"/>
                </a:moveTo>
                <a:cubicBezTo>
                  <a:pt x="18322" y="15307"/>
                  <a:pt x="18585" y="15235"/>
                  <a:pt x="18852" y="15205"/>
                </a:cubicBezTo>
                <a:cubicBezTo>
                  <a:pt x="18877" y="15205"/>
                  <a:pt x="18901" y="15205"/>
                  <a:pt x="18926" y="15205"/>
                </a:cubicBezTo>
              </a:path>
              <a:path w="5284" h="11213">
                <a:moveTo>
                  <a:pt x="18653" y="15404"/>
                </a:moveTo>
                <a:cubicBezTo>
                  <a:pt x="18784" y="15382"/>
                  <a:pt x="18902" y="15335"/>
                  <a:pt x="19025" y="15280"/>
                </a:cubicBezTo>
                <a:cubicBezTo>
                  <a:pt x="19058" y="15410"/>
                  <a:pt x="19037" y="15518"/>
                  <a:pt x="19025" y="15652"/>
                </a:cubicBezTo>
              </a:path>
              <a:path w="5284" h="11213">
                <a:moveTo>
                  <a:pt x="19199" y="13519"/>
                </a:moveTo>
                <a:cubicBezTo>
                  <a:pt x="19199" y="13333"/>
                  <a:pt x="19285" y="13729"/>
                  <a:pt x="19298" y="13915"/>
                </a:cubicBezTo>
                <a:cubicBezTo>
                  <a:pt x="19314" y="14159"/>
                  <a:pt x="19298" y="14414"/>
                  <a:pt x="19298" y="14660"/>
                </a:cubicBezTo>
              </a:path>
              <a:path w="5284" h="11213">
                <a:moveTo>
                  <a:pt x="19323" y="15379"/>
                </a:moveTo>
                <a:cubicBezTo>
                  <a:pt x="19339" y="15332"/>
                  <a:pt x="19465" y="15277"/>
                  <a:pt x="19521" y="15255"/>
                </a:cubicBezTo>
                <a:cubicBezTo>
                  <a:pt x="19529" y="15255"/>
                  <a:pt x="19538" y="15255"/>
                  <a:pt x="19546" y="15255"/>
                </a:cubicBezTo>
                <a:cubicBezTo>
                  <a:pt x="19557" y="15459"/>
                  <a:pt x="19449" y="15521"/>
                  <a:pt x="19397" y="15701"/>
                </a:cubicBezTo>
                <a:cubicBezTo>
                  <a:pt x="19405" y="15701"/>
                  <a:pt x="19414" y="15701"/>
                  <a:pt x="19422" y="15701"/>
                </a:cubicBezTo>
                <a:cubicBezTo>
                  <a:pt x="19535" y="15681"/>
                  <a:pt x="19635" y="15624"/>
                  <a:pt x="19745" y="15602"/>
                </a:cubicBezTo>
              </a:path>
              <a:path w="5284" h="11213">
                <a:moveTo>
                  <a:pt x="19199" y="11137"/>
                </a:moveTo>
                <a:cubicBezTo>
                  <a:pt x="19199" y="11129"/>
                  <a:pt x="19199" y="11120"/>
                  <a:pt x="19199" y="11112"/>
                </a:cubicBezTo>
                <a:cubicBezTo>
                  <a:pt x="19216" y="11064"/>
                  <a:pt x="19203" y="11136"/>
                  <a:pt x="19199" y="11187"/>
                </a:cubicBezTo>
                <a:cubicBezTo>
                  <a:pt x="19191" y="11294"/>
                  <a:pt x="19188" y="11536"/>
                  <a:pt x="19248" y="11633"/>
                </a:cubicBezTo>
                <a:cubicBezTo>
                  <a:pt x="19292" y="11704"/>
                  <a:pt x="19453" y="11640"/>
                  <a:pt x="19496" y="11609"/>
                </a:cubicBezTo>
                <a:cubicBezTo>
                  <a:pt x="19561" y="11562"/>
                  <a:pt x="19592" y="11485"/>
                  <a:pt x="19596" y="11410"/>
                </a:cubicBezTo>
                <a:cubicBezTo>
                  <a:pt x="19599" y="11357"/>
                  <a:pt x="19522" y="11280"/>
                  <a:pt x="19472" y="11336"/>
                </a:cubicBezTo>
                <a:cubicBezTo>
                  <a:pt x="19390" y="11427"/>
                  <a:pt x="19387" y="11555"/>
                  <a:pt x="19422" y="11658"/>
                </a:cubicBezTo>
              </a:path>
              <a:path w="5284" h="11213">
                <a:moveTo>
                  <a:pt x="18455" y="16098"/>
                </a:moveTo>
                <a:cubicBezTo>
                  <a:pt x="18521" y="16115"/>
                  <a:pt x="18559" y="16123"/>
                  <a:pt x="18628" y="16123"/>
                </a:cubicBezTo>
              </a:path>
              <a:path w="5284" h="11213">
                <a:moveTo>
                  <a:pt x="18951" y="15974"/>
                </a:moveTo>
                <a:cubicBezTo>
                  <a:pt x="19014" y="15946"/>
                  <a:pt x="19110" y="15894"/>
                  <a:pt x="19149" y="15875"/>
                </a:cubicBezTo>
                <a:cubicBezTo>
                  <a:pt x="19157" y="15875"/>
                  <a:pt x="19166" y="15875"/>
                  <a:pt x="19174" y="15875"/>
                </a:cubicBezTo>
                <a:cubicBezTo>
                  <a:pt x="19174" y="16000"/>
                  <a:pt x="19157" y="16127"/>
                  <a:pt x="19124" y="16247"/>
                </a:cubicBezTo>
                <a:cubicBezTo>
                  <a:pt x="19109" y="16302"/>
                  <a:pt x="19076" y="16305"/>
                  <a:pt x="19124" y="16321"/>
                </a:cubicBezTo>
              </a:path>
              <a:path w="5284" h="11213">
                <a:moveTo>
                  <a:pt x="19447" y="15949"/>
                </a:moveTo>
                <a:cubicBezTo>
                  <a:pt x="19520" y="15925"/>
                  <a:pt x="19544" y="15917"/>
                  <a:pt x="19596" y="15925"/>
                </a:cubicBezTo>
                <a:cubicBezTo>
                  <a:pt x="19656" y="16063"/>
                  <a:pt x="19568" y="16120"/>
                  <a:pt x="19472" y="16222"/>
                </a:cubicBezTo>
                <a:cubicBezTo>
                  <a:pt x="19464" y="16230"/>
                  <a:pt x="19455" y="16239"/>
                  <a:pt x="19447" y="16247"/>
                </a:cubicBezTo>
                <a:cubicBezTo>
                  <a:pt x="19564" y="16232"/>
                  <a:pt x="19652" y="16155"/>
                  <a:pt x="19769" y="16123"/>
                </a:cubicBezTo>
                <a:cubicBezTo>
                  <a:pt x="19794" y="16123"/>
                  <a:pt x="19802" y="16123"/>
                  <a:pt x="19769" y="16123"/>
                </a:cubicBezTo>
              </a:path>
              <a:path w="5284" h="11213">
                <a:moveTo>
                  <a:pt x="18777" y="16594"/>
                </a:moveTo>
                <a:cubicBezTo>
                  <a:pt x="19033" y="16505"/>
                  <a:pt x="19277" y="16409"/>
                  <a:pt x="19546" y="16346"/>
                </a:cubicBezTo>
                <a:cubicBezTo>
                  <a:pt x="19640" y="16327"/>
                  <a:pt x="19659" y="16340"/>
                  <a:pt x="19695" y="16297"/>
                </a:cubicBezTo>
              </a:path>
              <a:path w="5284" h="11213">
                <a:moveTo>
                  <a:pt x="19645" y="16594"/>
                </a:moveTo>
                <a:cubicBezTo>
                  <a:pt x="19617" y="16537"/>
                  <a:pt x="19551" y="16751"/>
                  <a:pt x="19546" y="16768"/>
                </a:cubicBezTo>
                <a:cubicBezTo>
                  <a:pt x="19483" y="16976"/>
                  <a:pt x="19473" y="17027"/>
                  <a:pt x="19571" y="17190"/>
                </a:cubicBezTo>
                <a:cubicBezTo>
                  <a:pt x="19739" y="17063"/>
                  <a:pt x="19877" y="16900"/>
                  <a:pt x="19695" y="16694"/>
                </a:cubicBezTo>
                <a:cubicBezTo>
                  <a:pt x="19613" y="16666"/>
                  <a:pt x="19580" y="16660"/>
                  <a:pt x="19521" y="16694"/>
                </a:cubicBezTo>
              </a:path>
              <a:path w="5284" h="11213">
                <a:moveTo>
                  <a:pt x="18281" y="11435"/>
                </a:moveTo>
                <a:cubicBezTo>
                  <a:pt x="18281" y="11499"/>
                  <a:pt x="18262" y="11536"/>
                  <a:pt x="18281" y="11584"/>
                </a:cubicBezTo>
                <a:cubicBezTo>
                  <a:pt x="18300" y="11534"/>
                  <a:pt x="18322" y="11424"/>
                  <a:pt x="18281" y="11534"/>
                </a:cubicBezTo>
                <a:cubicBezTo>
                  <a:pt x="18256" y="11584"/>
                  <a:pt x="18248" y="11600"/>
                  <a:pt x="18281" y="11633"/>
                </a:cubicBezTo>
                <a:cubicBezTo>
                  <a:pt x="18295" y="11579"/>
                  <a:pt x="18321" y="11400"/>
                  <a:pt x="18281" y="11559"/>
                </a:cubicBezTo>
                <a:cubicBezTo>
                  <a:pt x="18273" y="11589"/>
                  <a:pt x="18337" y="11496"/>
                  <a:pt x="18281" y="11609"/>
                </a:cubicBezTo>
                <a:cubicBezTo>
                  <a:pt x="18281" y="11601"/>
                  <a:pt x="18281" y="11592"/>
                  <a:pt x="18281" y="11584"/>
                </a:cubicBezTo>
              </a:path>
              <a:path w="5284" h="11213">
                <a:moveTo>
                  <a:pt x="19695" y="11708"/>
                </a:moveTo>
                <a:cubicBezTo>
                  <a:pt x="19735" y="11684"/>
                  <a:pt x="19806" y="11680"/>
                  <a:pt x="19844" y="11633"/>
                </a:cubicBezTo>
                <a:cubicBezTo>
                  <a:pt x="19888" y="11579"/>
                  <a:pt x="19909" y="11476"/>
                  <a:pt x="19918" y="11410"/>
                </a:cubicBezTo>
                <a:cubicBezTo>
                  <a:pt x="19928" y="11339"/>
                  <a:pt x="19913" y="11215"/>
                  <a:pt x="19869" y="11162"/>
                </a:cubicBezTo>
                <a:cubicBezTo>
                  <a:pt x="19836" y="11122"/>
                  <a:pt x="19773" y="11090"/>
                  <a:pt x="19745" y="11063"/>
                </a:cubicBezTo>
                <a:cubicBezTo>
                  <a:pt x="19673" y="10995"/>
                  <a:pt x="19611" y="10950"/>
                  <a:pt x="19521" y="10914"/>
                </a:cubicBezTo>
                <a:cubicBezTo>
                  <a:pt x="19483" y="10899"/>
                  <a:pt x="19464" y="10900"/>
                  <a:pt x="19422" y="10889"/>
                </a:cubicBezTo>
                <a:cubicBezTo>
                  <a:pt x="19314" y="10862"/>
                  <a:pt x="19208" y="10817"/>
                  <a:pt x="19100" y="10790"/>
                </a:cubicBezTo>
                <a:cubicBezTo>
                  <a:pt x="19019" y="10770"/>
                  <a:pt x="18955" y="10756"/>
                  <a:pt x="18876" y="10740"/>
                </a:cubicBezTo>
                <a:cubicBezTo>
                  <a:pt x="18768" y="10717"/>
                  <a:pt x="18662" y="10710"/>
                  <a:pt x="18554" y="10691"/>
                </a:cubicBezTo>
                <a:cubicBezTo>
                  <a:pt x="18400" y="10664"/>
                  <a:pt x="18239" y="10646"/>
                  <a:pt x="18083" y="10641"/>
                </a:cubicBezTo>
                <a:cubicBezTo>
                  <a:pt x="17889" y="10635"/>
                  <a:pt x="17700" y="10649"/>
                  <a:pt x="17512" y="10666"/>
                </a:cubicBezTo>
                <a:cubicBezTo>
                  <a:pt x="17393" y="10677"/>
                  <a:pt x="17305" y="10708"/>
                  <a:pt x="17190" y="10740"/>
                </a:cubicBezTo>
                <a:cubicBezTo>
                  <a:pt x="17040" y="10782"/>
                  <a:pt x="16912" y="10835"/>
                  <a:pt x="16793" y="10939"/>
                </a:cubicBezTo>
                <a:cubicBezTo>
                  <a:pt x="16688" y="11031"/>
                  <a:pt x="16698" y="11079"/>
                  <a:pt x="16669" y="11212"/>
                </a:cubicBezTo>
                <a:cubicBezTo>
                  <a:pt x="16646" y="11319"/>
                  <a:pt x="16656" y="11414"/>
                  <a:pt x="16718" y="11509"/>
                </a:cubicBezTo>
                <a:cubicBezTo>
                  <a:pt x="16766" y="11584"/>
                  <a:pt x="16839" y="11608"/>
                  <a:pt x="16917" y="11658"/>
                </a:cubicBezTo>
                <a:cubicBezTo>
                  <a:pt x="16994" y="11708"/>
                  <a:pt x="17079" y="11748"/>
                  <a:pt x="17165" y="11782"/>
                </a:cubicBezTo>
                <a:cubicBezTo>
                  <a:pt x="17227" y="11807"/>
                  <a:pt x="17277" y="11839"/>
                  <a:pt x="17338" y="11857"/>
                </a:cubicBezTo>
                <a:cubicBezTo>
                  <a:pt x="17388" y="11872"/>
                  <a:pt x="17431" y="11870"/>
                  <a:pt x="17487" y="11881"/>
                </a:cubicBezTo>
                <a:cubicBezTo>
                  <a:pt x="17578" y="11899"/>
                  <a:pt x="17687" y="11896"/>
                  <a:pt x="17785" y="11881"/>
                </a:cubicBezTo>
                <a:cubicBezTo>
                  <a:pt x="17854" y="11871"/>
                  <a:pt x="17911" y="11859"/>
                  <a:pt x="17983" y="11857"/>
                </a:cubicBezTo>
                <a:cubicBezTo>
                  <a:pt x="18086" y="11854"/>
                  <a:pt x="18204" y="11848"/>
                  <a:pt x="18306" y="11832"/>
                </a:cubicBezTo>
                <a:cubicBezTo>
                  <a:pt x="18403" y="11817"/>
                  <a:pt x="18480" y="11809"/>
                  <a:pt x="18579" y="11807"/>
                </a:cubicBezTo>
                <a:cubicBezTo>
                  <a:pt x="18912" y="11799"/>
                  <a:pt x="19335" y="11874"/>
                  <a:pt x="19645" y="11782"/>
                </a:cubicBezTo>
                <a:cubicBezTo>
                  <a:pt x="19707" y="11764"/>
                  <a:pt x="19754" y="11739"/>
                  <a:pt x="19819" y="11708"/>
                </a:cubicBezTo>
                <a:cubicBezTo>
                  <a:pt x="19850" y="11693"/>
                  <a:pt x="19856" y="11687"/>
                  <a:pt x="19893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89880" y="440208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21084" y="12229"/>
                </a:moveTo>
                <a:cubicBezTo>
                  <a:pt x="21129" y="12275"/>
                  <a:pt x="21176" y="12245"/>
                  <a:pt x="21258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15120" y="2367000"/>
            <a:ext cx="384120" cy="1928880"/>
          </a:xfrm>
          <a:custGeom>
            <a:avLst/>
            <a:gdLst/>
            <a:ahLst/>
            <a:rect l="l" t="t" r="r" b="b"/>
            <a:pathLst>
              <a:path w="1068" h="5359">
                <a:moveTo>
                  <a:pt x="20315" y="10740"/>
                </a:moveTo>
                <a:cubicBezTo>
                  <a:pt x="20272" y="10754"/>
                  <a:pt x="20254" y="10832"/>
                  <a:pt x="20265" y="10889"/>
                </a:cubicBezTo>
                <a:cubicBezTo>
                  <a:pt x="20273" y="10931"/>
                  <a:pt x="20296" y="10997"/>
                  <a:pt x="20315" y="10939"/>
                </a:cubicBezTo>
              </a:path>
              <a:path w="1068" h="5359">
                <a:moveTo>
                  <a:pt x="20365" y="7541"/>
                </a:moveTo>
                <a:cubicBezTo>
                  <a:pt x="20282" y="7590"/>
                  <a:pt x="20252" y="7710"/>
                  <a:pt x="20241" y="7813"/>
                </a:cubicBezTo>
                <a:cubicBezTo>
                  <a:pt x="20234" y="7877"/>
                  <a:pt x="20242" y="7979"/>
                  <a:pt x="20315" y="8012"/>
                </a:cubicBezTo>
                <a:cubicBezTo>
                  <a:pt x="20386" y="8043"/>
                  <a:pt x="20428" y="8000"/>
                  <a:pt x="20464" y="7962"/>
                </a:cubicBezTo>
                <a:cubicBezTo>
                  <a:pt x="20512" y="7911"/>
                  <a:pt x="20561" y="7841"/>
                  <a:pt x="20538" y="7764"/>
                </a:cubicBezTo>
                <a:cubicBezTo>
                  <a:pt x="20526" y="7724"/>
                  <a:pt x="20504" y="7637"/>
                  <a:pt x="20464" y="7615"/>
                </a:cubicBezTo>
                <a:cubicBezTo>
                  <a:pt x="20442" y="7603"/>
                  <a:pt x="20396" y="7568"/>
                  <a:pt x="20389" y="7565"/>
                </a:cubicBezTo>
                <a:cubicBezTo>
                  <a:pt x="20349" y="7544"/>
                  <a:pt x="20357" y="7589"/>
                  <a:pt x="20340" y="7541"/>
                </a:cubicBezTo>
              </a:path>
              <a:path w="1068" h="5359">
                <a:moveTo>
                  <a:pt x="20389" y="8161"/>
                </a:moveTo>
                <a:cubicBezTo>
                  <a:pt x="20378" y="8180"/>
                  <a:pt x="20378" y="8197"/>
                  <a:pt x="20365" y="8235"/>
                </a:cubicBezTo>
                <a:cubicBezTo>
                  <a:pt x="20332" y="8329"/>
                  <a:pt x="20350" y="8369"/>
                  <a:pt x="20365" y="8458"/>
                </a:cubicBezTo>
                <a:cubicBezTo>
                  <a:pt x="20392" y="8619"/>
                  <a:pt x="20365" y="8796"/>
                  <a:pt x="20389" y="8954"/>
                </a:cubicBezTo>
                <a:cubicBezTo>
                  <a:pt x="20404" y="9049"/>
                  <a:pt x="20402" y="9167"/>
                  <a:pt x="20414" y="9252"/>
                </a:cubicBezTo>
                <a:cubicBezTo>
                  <a:pt x="20426" y="9335"/>
                  <a:pt x="20426" y="9421"/>
                  <a:pt x="20439" y="9500"/>
                </a:cubicBezTo>
                <a:cubicBezTo>
                  <a:pt x="20455" y="9603"/>
                  <a:pt x="20424" y="9703"/>
                  <a:pt x="20414" y="9798"/>
                </a:cubicBezTo>
                <a:cubicBezTo>
                  <a:pt x="20404" y="9889"/>
                  <a:pt x="20427" y="9972"/>
                  <a:pt x="20439" y="10046"/>
                </a:cubicBezTo>
                <a:cubicBezTo>
                  <a:pt x="20449" y="10104"/>
                  <a:pt x="20455" y="10165"/>
                  <a:pt x="20464" y="10220"/>
                </a:cubicBezTo>
                <a:cubicBezTo>
                  <a:pt x="20474" y="10278"/>
                  <a:pt x="20496" y="10316"/>
                  <a:pt x="20513" y="10368"/>
                </a:cubicBezTo>
              </a:path>
              <a:path w="1068" h="5359">
                <a:moveTo>
                  <a:pt x="20638" y="10567"/>
                </a:moveTo>
                <a:cubicBezTo>
                  <a:pt x="20598" y="10665"/>
                  <a:pt x="20554" y="10806"/>
                  <a:pt x="20588" y="10914"/>
                </a:cubicBezTo>
                <a:cubicBezTo>
                  <a:pt x="20596" y="10914"/>
                  <a:pt x="20605" y="10914"/>
                  <a:pt x="20613" y="10914"/>
                </a:cubicBezTo>
                <a:cubicBezTo>
                  <a:pt x="20704" y="10893"/>
                  <a:pt x="20811" y="10834"/>
                  <a:pt x="20811" y="10716"/>
                </a:cubicBezTo>
                <a:cubicBezTo>
                  <a:pt x="20811" y="10662"/>
                  <a:pt x="20714" y="10632"/>
                  <a:pt x="20687" y="10592"/>
                </a:cubicBezTo>
              </a:path>
              <a:path w="1068" h="5359">
                <a:moveTo>
                  <a:pt x="20067" y="6623"/>
                </a:moveTo>
                <a:cubicBezTo>
                  <a:pt x="20067" y="6606"/>
                  <a:pt x="20067" y="6590"/>
                  <a:pt x="20067" y="6573"/>
                </a:cubicBezTo>
                <a:cubicBezTo>
                  <a:pt x="20039" y="6615"/>
                  <a:pt x="20092" y="6833"/>
                  <a:pt x="20117" y="6921"/>
                </a:cubicBezTo>
                <a:cubicBezTo>
                  <a:pt x="20137" y="6961"/>
                  <a:pt x="20145" y="6968"/>
                  <a:pt x="20141" y="6995"/>
                </a:cubicBezTo>
              </a:path>
              <a:path w="1068" h="5359">
                <a:moveTo>
                  <a:pt x="20836" y="11038"/>
                </a:moveTo>
                <a:cubicBezTo>
                  <a:pt x="20836" y="11079"/>
                  <a:pt x="20816" y="11018"/>
                  <a:pt x="20786" y="10988"/>
                </a:cubicBezTo>
                <a:cubicBezTo>
                  <a:pt x="20716" y="11042"/>
                  <a:pt x="20642" y="11105"/>
                  <a:pt x="20687" y="11212"/>
                </a:cubicBezTo>
                <a:cubicBezTo>
                  <a:pt x="20695" y="11220"/>
                  <a:pt x="20704" y="11229"/>
                  <a:pt x="20712" y="11237"/>
                </a:cubicBezTo>
                <a:cubicBezTo>
                  <a:pt x="20813" y="11191"/>
                  <a:pt x="20836" y="11161"/>
                  <a:pt x="20886" y="11063"/>
                </a:cubicBezTo>
                <a:cubicBezTo>
                  <a:pt x="20899" y="11156"/>
                  <a:pt x="20909" y="11249"/>
                  <a:pt x="20935" y="11336"/>
                </a:cubicBezTo>
              </a:path>
              <a:path w="1068" h="5359">
                <a:moveTo>
                  <a:pt x="20290" y="11261"/>
                </a:moveTo>
                <a:cubicBezTo>
                  <a:pt x="20330" y="11251"/>
                  <a:pt x="20351" y="11224"/>
                  <a:pt x="20389" y="11212"/>
                </a:cubicBezTo>
                <a:cubicBezTo>
                  <a:pt x="20414" y="11204"/>
                  <a:pt x="20439" y="11195"/>
                  <a:pt x="20464" y="11187"/>
                </a:cubicBezTo>
              </a:path>
              <a:path w="1068" h="5359">
                <a:moveTo>
                  <a:pt x="20389" y="11559"/>
                </a:moveTo>
                <a:cubicBezTo>
                  <a:pt x="20401" y="11522"/>
                  <a:pt x="20658" y="11445"/>
                  <a:pt x="20687" y="11435"/>
                </a:cubicBezTo>
                <a:cubicBezTo>
                  <a:pt x="20821" y="11390"/>
                  <a:pt x="20971" y="11334"/>
                  <a:pt x="21109" y="11311"/>
                </a:cubicBezTo>
              </a:path>
              <a:path w="1068" h="5359">
                <a:moveTo>
                  <a:pt x="20985" y="11559"/>
                </a:moveTo>
                <a:cubicBezTo>
                  <a:pt x="20960" y="11559"/>
                  <a:pt x="20952" y="11559"/>
                  <a:pt x="20960" y="11534"/>
                </a:cubicBezTo>
                <a:cubicBezTo>
                  <a:pt x="20960" y="11637"/>
                  <a:pt x="20964" y="11758"/>
                  <a:pt x="20985" y="11857"/>
                </a:cubicBezTo>
                <a:cubicBezTo>
                  <a:pt x="21005" y="11897"/>
                  <a:pt x="21014" y="11903"/>
                  <a:pt x="21010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92920" y="3813120"/>
            <a:ext cx="28440" cy="17640"/>
          </a:xfrm>
          <a:custGeom>
            <a:avLst/>
            <a:gdLst/>
            <a:ahLst/>
            <a:rect l="l" t="t" r="r" b="b"/>
            <a:pathLst>
              <a:path w="76" h="50">
                <a:moveTo>
                  <a:pt x="19149" y="10641"/>
                </a:moveTo>
                <a:cubicBezTo>
                  <a:pt x="19193" y="10619"/>
                  <a:pt x="19204" y="10616"/>
                  <a:pt x="19224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8120" y="1108080"/>
            <a:ext cx="1455840" cy="517680"/>
          </a:xfrm>
          <a:custGeom>
            <a:avLst/>
            <a:gdLst/>
            <a:ahLst/>
            <a:rect l="l" t="t" r="r" b="b"/>
            <a:pathLst>
              <a:path w="4044" h="1439">
                <a:moveTo>
                  <a:pt x="5606" y="3101"/>
                </a:moveTo>
                <a:cubicBezTo>
                  <a:pt x="5527" y="3090"/>
                  <a:pt x="5476" y="3087"/>
                  <a:pt x="5383" y="3101"/>
                </a:cubicBezTo>
                <a:cubicBezTo>
                  <a:pt x="5222" y="3125"/>
                  <a:pt x="5083" y="3181"/>
                  <a:pt x="4936" y="3249"/>
                </a:cubicBezTo>
                <a:cubicBezTo>
                  <a:pt x="4791" y="3316"/>
                  <a:pt x="4666" y="3396"/>
                  <a:pt x="4564" y="3522"/>
                </a:cubicBezTo>
                <a:cubicBezTo>
                  <a:pt x="4499" y="3602"/>
                  <a:pt x="4463" y="3744"/>
                  <a:pt x="4465" y="3845"/>
                </a:cubicBezTo>
                <a:cubicBezTo>
                  <a:pt x="4468" y="3978"/>
                  <a:pt x="4525" y="4106"/>
                  <a:pt x="4589" y="4217"/>
                </a:cubicBezTo>
                <a:cubicBezTo>
                  <a:pt x="4639" y="4304"/>
                  <a:pt x="4704" y="4361"/>
                  <a:pt x="4787" y="4415"/>
                </a:cubicBezTo>
                <a:cubicBezTo>
                  <a:pt x="4862" y="4463"/>
                  <a:pt x="4974" y="4504"/>
                  <a:pt x="5060" y="4514"/>
                </a:cubicBezTo>
                <a:cubicBezTo>
                  <a:pt x="5169" y="4526"/>
                  <a:pt x="5275" y="4493"/>
                  <a:pt x="5383" y="4490"/>
                </a:cubicBezTo>
                <a:cubicBezTo>
                  <a:pt x="5510" y="4487"/>
                  <a:pt x="5629" y="4473"/>
                  <a:pt x="5755" y="4465"/>
                </a:cubicBezTo>
                <a:cubicBezTo>
                  <a:pt x="5837" y="4460"/>
                  <a:pt x="5924" y="4444"/>
                  <a:pt x="6003" y="4440"/>
                </a:cubicBezTo>
                <a:cubicBezTo>
                  <a:pt x="6120" y="4433"/>
                  <a:pt x="6235" y="4424"/>
                  <a:pt x="6350" y="4415"/>
                </a:cubicBezTo>
                <a:cubicBezTo>
                  <a:pt x="6468" y="4406"/>
                  <a:pt x="6581" y="4405"/>
                  <a:pt x="6697" y="4390"/>
                </a:cubicBezTo>
                <a:cubicBezTo>
                  <a:pt x="6811" y="4376"/>
                  <a:pt x="6929" y="4379"/>
                  <a:pt x="7045" y="4366"/>
                </a:cubicBezTo>
                <a:cubicBezTo>
                  <a:pt x="7188" y="4350"/>
                  <a:pt x="7321" y="4320"/>
                  <a:pt x="7466" y="4316"/>
                </a:cubicBezTo>
                <a:cubicBezTo>
                  <a:pt x="7749" y="4309"/>
                  <a:pt x="8032" y="4310"/>
                  <a:pt x="8310" y="4291"/>
                </a:cubicBezTo>
                <a:cubicBezTo>
                  <a:pt x="8385" y="4286"/>
                  <a:pt x="8383" y="4300"/>
                  <a:pt x="8434" y="4242"/>
                </a:cubicBezTo>
                <a:cubicBezTo>
                  <a:pt x="8573" y="4085"/>
                  <a:pt x="8515" y="3788"/>
                  <a:pt x="8384" y="3646"/>
                </a:cubicBezTo>
                <a:cubicBezTo>
                  <a:pt x="8295" y="3549"/>
                  <a:pt x="8191" y="3507"/>
                  <a:pt x="8086" y="3448"/>
                </a:cubicBezTo>
                <a:cubicBezTo>
                  <a:pt x="7979" y="3388"/>
                  <a:pt x="7864" y="3376"/>
                  <a:pt x="7739" y="3373"/>
                </a:cubicBezTo>
                <a:cubicBezTo>
                  <a:pt x="7601" y="3370"/>
                  <a:pt x="7476" y="3388"/>
                  <a:pt x="7342" y="3398"/>
                </a:cubicBezTo>
                <a:cubicBezTo>
                  <a:pt x="7180" y="3410"/>
                  <a:pt x="7029" y="3429"/>
                  <a:pt x="6871" y="3448"/>
                </a:cubicBezTo>
                <a:cubicBezTo>
                  <a:pt x="6757" y="3462"/>
                  <a:pt x="6638" y="3457"/>
                  <a:pt x="6524" y="3473"/>
                </a:cubicBezTo>
                <a:cubicBezTo>
                  <a:pt x="6318" y="3502"/>
                  <a:pt x="6112" y="3495"/>
                  <a:pt x="5904" y="3522"/>
                </a:cubicBezTo>
                <a:cubicBezTo>
                  <a:pt x="5721" y="3546"/>
                  <a:pt x="5541" y="3553"/>
                  <a:pt x="5358" y="3572"/>
                </a:cubicBezTo>
                <a:cubicBezTo>
                  <a:pt x="5180" y="3591"/>
                  <a:pt x="5013" y="3610"/>
                  <a:pt x="4837" y="3646"/>
                </a:cubicBezTo>
                <a:cubicBezTo>
                  <a:pt x="4755" y="3663"/>
                  <a:pt x="4706" y="3681"/>
                  <a:pt x="4638" y="3721"/>
                </a:cubicBezTo>
                <a:cubicBezTo>
                  <a:pt x="4581" y="3754"/>
                  <a:pt x="4561" y="3784"/>
                  <a:pt x="4514" y="38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Extens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re may be times when you will need to annex, or add, additional zeros behind the dividend so that division can comple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809880" y="3733920"/>
          <a:ext cx="1447920" cy="13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1447920" cy="13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473720" y="3894120"/>
            <a:ext cx="992160" cy="2571840"/>
          </a:xfrm>
          <a:custGeom>
            <a:avLst/>
            <a:gdLst/>
            <a:ahLst/>
            <a:rect l="l" t="t" r="r" b="b"/>
            <a:pathLst>
              <a:path w="2754" h="7145">
                <a:moveTo>
                  <a:pt x="12427" y="15801"/>
                </a:moveTo>
                <a:cubicBezTo>
                  <a:pt x="12685" y="15769"/>
                  <a:pt x="12919" y="15649"/>
                  <a:pt x="13171" y="15577"/>
                </a:cubicBezTo>
                <a:cubicBezTo>
                  <a:pt x="13320" y="15534"/>
                  <a:pt x="13525" y="15466"/>
                  <a:pt x="13667" y="15528"/>
                </a:cubicBezTo>
              </a:path>
              <a:path w="2754" h="7145">
                <a:moveTo>
                  <a:pt x="13618" y="15825"/>
                </a:moveTo>
                <a:cubicBezTo>
                  <a:pt x="13604" y="15812"/>
                  <a:pt x="13754" y="15682"/>
                  <a:pt x="13841" y="15751"/>
                </a:cubicBezTo>
                <a:cubicBezTo>
                  <a:pt x="13922" y="15815"/>
                  <a:pt x="13816" y="15967"/>
                  <a:pt x="13791" y="16024"/>
                </a:cubicBezTo>
                <a:cubicBezTo>
                  <a:pt x="13793" y="15984"/>
                  <a:pt x="13967" y="15900"/>
                  <a:pt x="13990" y="16073"/>
                </a:cubicBezTo>
                <a:cubicBezTo>
                  <a:pt x="14012" y="16233"/>
                  <a:pt x="13840" y="16371"/>
                  <a:pt x="13692" y="16371"/>
                </a:cubicBezTo>
                <a:cubicBezTo>
                  <a:pt x="13669" y="16348"/>
                  <a:pt x="13661" y="16344"/>
                  <a:pt x="13667" y="16321"/>
                </a:cubicBezTo>
              </a:path>
              <a:path w="2754" h="7145">
                <a:moveTo>
                  <a:pt x="14511" y="12278"/>
                </a:moveTo>
                <a:cubicBezTo>
                  <a:pt x="14488" y="12370"/>
                  <a:pt x="14423" y="12441"/>
                  <a:pt x="14412" y="12551"/>
                </a:cubicBezTo>
                <a:cubicBezTo>
                  <a:pt x="14396" y="12713"/>
                  <a:pt x="14421" y="12870"/>
                  <a:pt x="14511" y="12998"/>
                </a:cubicBezTo>
                <a:cubicBezTo>
                  <a:pt x="14681" y="12912"/>
                  <a:pt x="14734" y="12776"/>
                  <a:pt x="14734" y="12576"/>
                </a:cubicBezTo>
                <a:cubicBezTo>
                  <a:pt x="14734" y="12450"/>
                  <a:pt x="14659" y="12333"/>
                  <a:pt x="14536" y="12303"/>
                </a:cubicBezTo>
                <a:cubicBezTo>
                  <a:pt x="14491" y="12303"/>
                  <a:pt x="14478" y="12300"/>
                  <a:pt x="14461" y="12328"/>
                </a:cubicBezTo>
              </a:path>
              <a:path w="2754" h="7145">
                <a:moveTo>
                  <a:pt x="14585" y="13295"/>
                </a:moveTo>
                <a:cubicBezTo>
                  <a:pt x="14585" y="13270"/>
                  <a:pt x="14585" y="13296"/>
                  <a:pt x="14585" y="13271"/>
                </a:cubicBezTo>
                <a:cubicBezTo>
                  <a:pt x="14585" y="13488"/>
                  <a:pt x="14596" y="13700"/>
                  <a:pt x="14610" y="13915"/>
                </a:cubicBezTo>
                <a:cubicBezTo>
                  <a:pt x="14621" y="14087"/>
                  <a:pt x="14585" y="14262"/>
                  <a:pt x="14585" y="14436"/>
                </a:cubicBezTo>
                <a:cubicBezTo>
                  <a:pt x="14585" y="14581"/>
                  <a:pt x="14606" y="14715"/>
                  <a:pt x="14610" y="14858"/>
                </a:cubicBezTo>
                <a:cubicBezTo>
                  <a:pt x="14613" y="14964"/>
                  <a:pt x="14647" y="15057"/>
                  <a:pt x="14660" y="15156"/>
                </a:cubicBezTo>
                <a:cubicBezTo>
                  <a:pt x="14671" y="15239"/>
                  <a:pt x="14673" y="15322"/>
                  <a:pt x="14684" y="15404"/>
                </a:cubicBezTo>
                <a:cubicBezTo>
                  <a:pt x="14684" y="15453"/>
                  <a:pt x="14684" y="15470"/>
                  <a:pt x="14684" y="15503"/>
                </a:cubicBezTo>
              </a:path>
              <a:path w="2754" h="7145">
                <a:moveTo>
                  <a:pt x="14660" y="15652"/>
                </a:moveTo>
                <a:cubicBezTo>
                  <a:pt x="14592" y="15635"/>
                  <a:pt x="14545" y="15621"/>
                  <a:pt x="14511" y="15726"/>
                </a:cubicBezTo>
                <a:cubicBezTo>
                  <a:pt x="14462" y="15877"/>
                  <a:pt x="14490" y="16023"/>
                  <a:pt x="14511" y="16173"/>
                </a:cubicBezTo>
                <a:cubicBezTo>
                  <a:pt x="14700" y="16199"/>
                  <a:pt x="14811" y="16054"/>
                  <a:pt x="14784" y="15825"/>
                </a:cubicBezTo>
                <a:cubicBezTo>
                  <a:pt x="14758" y="15609"/>
                  <a:pt x="14739" y="15630"/>
                  <a:pt x="14585" y="15652"/>
                </a:cubicBezTo>
              </a:path>
              <a:path w="2754" h="7145">
                <a:moveTo>
                  <a:pt x="14089" y="11857"/>
                </a:moveTo>
                <a:cubicBezTo>
                  <a:pt x="14081" y="11849"/>
                  <a:pt x="14072" y="11840"/>
                  <a:pt x="14064" y="11832"/>
                </a:cubicBezTo>
                <a:cubicBezTo>
                  <a:pt x="14327" y="11832"/>
                  <a:pt x="14602" y="11853"/>
                  <a:pt x="14858" y="11807"/>
                </a:cubicBezTo>
                <a:cubicBezTo>
                  <a:pt x="14924" y="11795"/>
                  <a:pt x="15167" y="11791"/>
                  <a:pt x="15180" y="11832"/>
                </a:cubicBezTo>
              </a:path>
              <a:path w="2754" h="7145">
                <a:moveTo>
                  <a:pt x="14684" y="10840"/>
                </a:moveTo>
                <a:cubicBezTo>
                  <a:pt x="14668" y="10790"/>
                  <a:pt x="14560" y="10849"/>
                  <a:pt x="14511" y="10864"/>
                </a:cubicBezTo>
                <a:cubicBezTo>
                  <a:pt x="14450" y="10883"/>
                  <a:pt x="14440" y="10889"/>
                  <a:pt x="14387" y="10889"/>
                </a:cubicBezTo>
                <a:cubicBezTo>
                  <a:pt x="14393" y="10978"/>
                  <a:pt x="14394" y="11064"/>
                  <a:pt x="14436" y="11137"/>
                </a:cubicBezTo>
                <a:cubicBezTo>
                  <a:pt x="14466" y="11107"/>
                  <a:pt x="14601" y="11088"/>
                  <a:pt x="14660" y="11137"/>
                </a:cubicBezTo>
                <a:cubicBezTo>
                  <a:pt x="14778" y="11235"/>
                  <a:pt x="14737" y="11420"/>
                  <a:pt x="14635" y="11509"/>
                </a:cubicBezTo>
                <a:cubicBezTo>
                  <a:pt x="14556" y="11578"/>
                  <a:pt x="14442" y="11574"/>
                  <a:pt x="14362" y="11534"/>
                </a:cubicBezTo>
              </a:path>
              <a:path w="2754" h="7145">
                <a:moveTo>
                  <a:pt x="13841" y="16644"/>
                </a:moveTo>
                <a:cubicBezTo>
                  <a:pt x="13789" y="16627"/>
                  <a:pt x="13848" y="16513"/>
                  <a:pt x="13891" y="16495"/>
                </a:cubicBezTo>
                <a:cubicBezTo>
                  <a:pt x="14071" y="16421"/>
                  <a:pt x="14093" y="16633"/>
                  <a:pt x="14039" y="16743"/>
                </a:cubicBezTo>
                <a:cubicBezTo>
                  <a:pt x="14001" y="16782"/>
                  <a:pt x="13999" y="16799"/>
                  <a:pt x="13965" y="16793"/>
                </a:cubicBezTo>
                <a:cubicBezTo>
                  <a:pt x="14057" y="16793"/>
                  <a:pt x="14114" y="16788"/>
                  <a:pt x="14139" y="16892"/>
                </a:cubicBezTo>
                <a:cubicBezTo>
                  <a:pt x="14178" y="17052"/>
                  <a:pt x="13992" y="17061"/>
                  <a:pt x="13891" y="17066"/>
                </a:cubicBezTo>
                <a:cubicBezTo>
                  <a:pt x="13840" y="17066"/>
                  <a:pt x="13838" y="17041"/>
                  <a:pt x="13891" y="16966"/>
                </a:cubicBezTo>
              </a:path>
              <a:path w="2754" h="7145">
                <a:moveTo>
                  <a:pt x="14461" y="16446"/>
                </a:moveTo>
                <a:cubicBezTo>
                  <a:pt x="14448" y="16582"/>
                  <a:pt x="14399" y="16734"/>
                  <a:pt x="14461" y="16867"/>
                </a:cubicBezTo>
                <a:cubicBezTo>
                  <a:pt x="14478" y="16884"/>
                  <a:pt x="14494" y="16900"/>
                  <a:pt x="14511" y="16917"/>
                </a:cubicBezTo>
                <a:cubicBezTo>
                  <a:pt x="14616" y="16854"/>
                  <a:pt x="14680" y="16723"/>
                  <a:pt x="14536" y="16619"/>
                </a:cubicBezTo>
                <a:cubicBezTo>
                  <a:pt x="14437" y="16594"/>
                  <a:pt x="14405" y="16586"/>
                  <a:pt x="14337" y="16594"/>
                </a:cubicBezTo>
              </a:path>
              <a:path w="2754" h="7145">
                <a:moveTo>
                  <a:pt x="13295" y="16892"/>
                </a:moveTo>
                <a:cubicBezTo>
                  <a:pt x="13386" y="16892"/>
                  <a:pt x="13411" y="16892"/>
                  <a:pt x="13469" y="16892"/>
                </a:cubicBezTo>
              </a:path>
              <a:path w="2754" h="7145">
                <a:moveTo>
                  <a:pt x="13345" y="17190"/>
                </a:moveTo>
                <a:cubicBezTo>
                  <a:pt x="13664" y="17179"/>
                  <a:pt x="13972" y="17115"/>
                  <a:pt x="14288" y="17090"/>
                </a:cubicBezTo>
                <a:cubicBezTo>
                  <a:pt x="14383" y="17082"/>
                  <a:pt x="14739" y="17156"/>
                  <a:pt x="14759" y="17041"/>
                </a:cubicBezTo>
              </a:path>
              <a:path w="2754" h="7145">
                <a:moveTo>
                  <a:pt x="14585" y="17363"/>
                </a:moveTo>
                <a:cubicBezTo>
                  <a:pt x="14463" y="17487"/>
                  <a:pt x="14466" y="17657"/>
                  <a:pt x="14486" y="17835"/>
                </a:cubicBezTo>
                <a:cubicBezTo>
                  <a:pt x="14511" y="17934"/>
                  <a:pt x="14519" y="17967"/>
                  <a:pt x="14610" y="17959"/>
                </a:cubicBezTo>
                <a:cubicBezTo>
                  <a:pt x="14745" y="17835"/>
                  <a:pt x="14833" y="17696"/>
                  <a:pt x="14709" y="17512"/>
                </a:cubicBezTo>
                <a:cubicBezTo>
                  <a:pt x="14661" y="17440"/>
                  <a:pt x="14581" y="17462"/>
                  <a:pt x="14511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87880" y="3697200"/>
            <a:ext cx="1438200" cy="642960"/>
          </a:xfrm>
          <a:custGeom>
            <a:avLst/>
            <a:gdLst/>
            <a:ahLst/>
            <a:rect l="l" t="t" r="r" b="b"/>
            <a:pathLst>
              <a:path w="3995" h="1787">
                <a:moveTo>
                  <a:pt x="12254" y="11286"/>
                </a:moveTo>
                <a:cubicBezTo>
                  <a:pt x="12254" y="11261"/>
                  <a:pt x="12254" y="11237"/>
                  <a:pt x="12254" y="11212"/>
                </a:cubicBezTo>
                <a:cubicBezTo>
                  <a:pt x="12195" y="11212"/>
                  <a:pt x="12202" y="11224"/>
                  <a:pt x="12179" y="11286"/>
                </a:cubicBezTo>
                <a:cubicBezTo>
                  <a:pt x="12145" y="11380"/>
                  <a:pt x="12129" y="11431"/>
                  <a:pt x="12129" y="11534"/>
                </a:cubicBezTo>
                <a:cubicBezTo>
                  <a:pt x="12129" y="11586"/>
                  <a:pt x="12128" y="11748"/>
                  <a:pt x="12229" y="11733"/>
                </a:cubicBezTo>
                <a:cubicBezTo>
                  <a:pt x="12350" y="11715"/>
                  <a:pt x="12354" y="11662"/>
                  <a:pt x="12402" y="11559"/>
                </a:cubicBezTo>
                <a:cubicBezTo>
                  <a:pt x="12443" y="11471"/>
                  <a:pt x="12501" y="11343"/>
                  <a:pt x="12402" y="11286"/>
                </a:cubicBezTo>
                <a:cubicBezTo>
                  <a:pt x="12303" y="11229"/>
                  <a:pt x="12312" y="11212"/>
                  <a:pt x="12204" y="11237"/>
                </a:cubicBezTo>
                <a:cubicBezTo>
                  <a:pt x="12156" y="11248"/>
                  <a:pt x="12183" y="11262"/>
                  <a:pt x="12204" y="11311"/>
                </a:cubicBezTo>
              </a:path>
              <a:path w="3995" h="1787">
                <a:moveTo>
                  <a:pt x="12874" y="11112"/>
                </a:moveTo>
                <a:cubicBezTo>
                  <a:pt x="12856" y="11240"/>
                  <a:pt x="12827" y="11354"/>
                  <a:pt x="12824" y="11485"/>
                </a:cubicBezTo>
                <a:cubicBezTo>
                  <a:pt x="12823" y="11526"/>
                  <a:pt x="12801" y="11696"/>
                  <a:pt x="12849" y="11708"/>
                </a:cubicBezTo>
                <a:cubicBezTo>
                  <a:pt x="12884" y="11717"/>
                  <a:pt x="12930" y="11755"/>
                  <a:pt x="12973" y="11733"/>
                </a:cubicBezTo>
                <a:cubicBezTo>
                  <a:pt x="13054" y="11692"/>
                  <a:pt x="13119" y="11649"/>
                  <a:pt x="13146" y="11559"/>
                </a:cubicBezTo>
                <a:cubicBezTo>
                  <a:pt x="13166" y="11491"/>
                  <a:pt x="13164" y="11490"/>
                  <a:pt x="13146" y="11435"/>
                </a:cubicBezTo>
                <a:cubicBezTo>
                  <a:pt x="13146" y="11427"/>
                  <a:pt x="13146" y="11418"/>
                  <a:pt x="13146" y="11410"/>
                </a:cubicBezTo>
                <a:cubicBezTo>
                  <a:pt x="13054" y="11410"/>
                  <a:pt x="13037" y="11471"/>
                  <a:pt x="13022" y="11559"/>
                </a:cubicBezTo>
                <a:cubicBezTo>
                  <a:pt x="13013" y="11613"/>
                  <a:pt x="13022" y="11678"/>
                  <a:pt x="13022" y="11733"/>
                </a:cubicBezTo>
              </a:path>
              <a:path w="3995" h="1787">
                <a:moveTo>
                  <a:pt x="13494" y="11683"/>
                </a:moveTo>
                <a:cubicBezTo>
                  <a:pt x="13427" y="11683"/>
                  <a:pt x="13394" y="11734"/>
                  <a:pt x="13419" y="11807"/>
                </a:cubicBezTo>
                <a:cubicBezTo>
                  <a:pt x="13427" y="11815"/>
                  <a:pt x="13436" y="11824"/>
                  <a:pt x="13444" y="11832"/>
                </a:cubicBezTo>
                <a:cubicBezTo>
                  <a:pt x="13467" y="11786"/>
                  <a:pt x="13502" y="11680"/>
                  <a:pt x="13444" y="11658"/>
                </a:cubicBezTo>
                <a:cubicBezTo>
                  <a:pt x="13378" y="11633"/>
                  <a:pt x="13378" y="11802"/>
                  <a:pt x="13395" y="11832"/>
                </a:cubicBezTo>
                <a:cubicBezTo>
                  <a:pt x="13403" y="11840"/>
                  <a:pt x="13411" y="11849"/>
                  <a:pt x="13419" y="11857"/>
                </a:cubicBezTo>
                <a:cubicBezTo>
                  <a:pt x="13445" y="11806"/>
                  <a:pt x="13469" y="11611"/>
                  <a:pt x="13444" y="11733"/>
                </a:cubicBezTo>
                <a:cubicBezTo>
                  <a:pt x="13425" y="11829"/>
                  <a:pt x="13504" y="11760"/>
                  <a:pt x="13469" y="11708"/>
                </a:cubicBezTo>
              </a:path>
              <a:path w="3995" h="1787">
                <a:moveTo>
                  <a:pt x="13791" y="11063"/>
                </a:moveTo>
                <a:cubicBezTo>
                  <a:pt x="13791" y="11147"/>
                  <a:pt x="13770" y="11226"/>
                  <a:pt x="13767" y="11311"/>
                </a:cubicBezTo>
                <a:cubicBezTo>
                  <a:pt x="13767" y="11328"/>
                  <a:pt x="13767" y="11344"/>
                  <a:pt x="13767" y="11361"/>
                </a:cubicBezTo>
                <a:cubicBezTo>
                  <a:pt x="13844" y="11361"/>
                  <a:pt x="13914" y="11341"/>
                  <a:pt x="13990" y="11336"/>
                </a:cubicBezTo>
                <a:cubicBezTo>
                  <a:pt x="13998" y="11336"/>
                  <a:pt x="14007" y="11336"/>
                  <a:pt x="14015" y="11336"/>
                </a:cubicBezTo>
              </a:path>
              <a:path w="3995" h="1787">
                <a:moveTo>
                  <a:pt x="13965" y="10889"/>
                </a:moveTo>
                <a:cubicBezTo>
                  <a:pt x="13965" y="11043"/>
                  <a:pt x="13881" y="11660"/>
                  <a:pt x="13990" y="11733"/>
                </a:cubicBezTo>
              </a:path>
              <a:path w="3995" h="1787">
                <a:moveTo>
                  <a:pt x="13841" y="11906"/>
                </a:moveTo>
                <a:cubicBezTo>
                  <a:pt x="13841" y="11898"/>
                  <a:pt x="13841" y="11889"/>
                  <a:pt x="13841" y="11881"/>
                </a:cubicBezTo>
                <a:cubicBezTo>
                  <a:pt x="13901" y="11881"/>
                  <a:pt x="13934" y="11897"/>
                  <a:pt x="13990" y="11906"/>
                </a:cubicBezTo>
                <a:cubicBezTo>
                  <a:pt x="14037" y="11914"/>
                  <a:pt x="14091" y="11906"/>
                  <a:pt x="14139" y="11906"/>
                </a:cubicBezTo>
                <a:cubicBezTo>
                  <a:pt x="14164" y="11891"/>
                  <a:pt x="14160" y="11884"/>
                  <a:pt x="14213" y="11881"/>
                </a:cubicBezTo>
                <a:cubicBezTo>
                  <a:pt x="14263" y="11878"/>
                  <a:pt x="14297" y="11865"/>
                  <a:pt x="14337" y="11857"/>
                </a:cubicBezTo>
                <a:cubicBezTo>
                  <a:pt x="14379" y="11849"/>
                  <a:pt x="14427" y="11839"/>
                  <a:pt x="14461" y="11832"/>
                </a:cubicBezTo>
                <a:cubicBezTo>
                  <a:pt x="14495" y="11825"/>
                  <a:pt x="14534" y="11812"/>
                  <a:pt x="14560" y="11807"/>
                </a:cubicBezTo>
                <a:cubicBezTo>
                  <a:pt x="14623" y="11794"/>
                  <a:pt x="14698" y="11792"/>
                  <a:pt x="14759" y="11782"/>
                </a:cubicBezTo>
                <a:cubicBezTo>
                  <a:pt x="14905" y="11757"/>
                  <a:pt x="15069" y="11784"/>
                  <a:pt x="15205" y="11757"/>
                </a:cubicBezTo>
                <a:cubicBezTo>
                  <a:pt x="15263" y="11745"/>
                  <a:pt x="15404" y="11729"/>
                  <a:pt x="15453" y="11733"/>
                </a:cubicBezTo>
                <a:cubicBezTo>
                  <a:pt x="15503" y="11737"/>
                  <a:pt x="15550" y="11754"/>
                  <a:pt x="15602" y="11757"/>
                </a:cubicBezTo>
                <a:cubicBezTo>
                  <a:pt x="15610" y="11757"/>
                  <a:pt x="15619" y="11757"/>
                  <a:pt x="15627" y="11757"/>
                </a:cubicBezTo>
              </a:path>
              <a:path w="3995" h="1787">
                <a:moveTo>
                  <a:pt x="12477" y="11906"/>
                </a:moveTo>
                <a:cubicBezTo>
                  <a:pt x="12528" y="11912"/>
                  <a:pt x="12525" y="11934"/>
                  <a:pt x="12576" y="11931"/>
                </a:cubicBezTo>
                <a:cubicBezTo>
                  <a:pt x="12708" y="11923"/>
                  <a:pt x="12837" y="11906"/>
                  <a:pt x="12973" y="11906"/>
                </a:cubicBezTo>
                <a:cubicBezTo>
                  <a:pt x="13068" y="11906"/>
                  <a:pt x="13160" y="11887"/>
                  <a:pt x="13246" y="11881"/>
                </a:cubicBezTo>
                <a:cubicBezTo>
                  <a:pt x="13369" y="11873"/>
                  <a:pt x="13496" y="11877"/>
                  <a:pt x="13618" y="11857"/>
                </a:cubicBezTo>
                <a:cubicBezTo>
                  <a:pt x="13744" y="11837"/>
                  <a:pt x="13862" y="11832"/>
                  <a:pt x="13990" y="11832"/>
                </a:cubicBezTo>
                <a:cubicBezTo>
                  <a:pt x="14093" y="11832"/>
                  <a:pt x="14187" y="11814"/>
                  <a:pt x="14288" y="11807"/>
                </a:cubicBezTo>
                <a:cubicBezTo>
                  <a:pt x="14407" y="11799"/>
                  <a:pt x="14514" y="11844"/>
                  <a:pt x="14635" y="11832"/>
                </a:cubicBezTo>
                <a:cubicBezTo>
                  <a:pt x="14720" y="11824"/>
                  <a:pt x="14798" y="11798"/>
                  <a:pt x="14883" y="11782"/>
                </a:cubicBezTo>
                <a:cubicBezTo>
                  <a:pt x="14953" y="11768"/>
                  <a:pt x="15048" y="11766"/>
                  <a:pt x="15106" y="11708"/>
                </a:cubicBezTo>
                <a:cubicBezTo>
                  <a:pt x="15168" y="11646"/>
                  <a:pt x="15233" y="11496"/>
                  <a:pt x="15255" y="11410"/>
                </a:cubicBezTo>
                <a:cubicBezTo>
                  <a:pt x="15291" y="11268"/>
                  <a:pt x="15301" y="11085"/>
                  <a:pt x="15280" y="10939"/>
                </a:cubicBezTo>
                <a:cubicBezTo>
                  <a:pt x="15261" y="10807"/>
                  <a:pt x="15173" y="10679"/>
                  <a:pt x="15106" y="10567"/>
                </a:cubicBezTo>
                <a:cubicBezTo>
                  <a:pt x="15007" y="10402"/>
                  <a:pt x="14879" y="10342"/>
                  <a:pt x="14709" y="10294"/>
                </a:cubicBezTo>
                <a:cubicBezTo>
                  <a:pt x="14564" y="10253"/>
                  <a:pt x="14411" y="10269"/>
                  <a:pt x="14263" y="10269"/>
                </a:cubicBezTo>
                <a:cubicBezTo>
                  <a:pt x="14052" y="10269"/>
                  <a:pt x="13853" y="10328"/>
                  <a:pt x="13643" y="10344"/>
                </a:cubicBezTo>
                <a:cubicBezTo>
                  <a:pt x="13482" y="10356"/>
                  <a:pt x="13331" y="10339"/>
                  <a:pt x="13171" y="10368"/>
                </a:cubicBezTo>
                <a:cubicBezTo>
                  <a:pt x="12969" y="10404"/>
                  <a:pt x="12772" y="10456"/>
                  <a:pt x="12576" y="10517"/>
                </a:cubicBezTo>
                <a:cubicBezTo>
                  <a:pt x="12357" y="10585"/>
                  <a:pt x="12192" y="10662"/>
                  <a:pt x="12005" y="10790"/>
                </a:cubicBezTo>
                <a:cubicBezTo>
                  <a:pt x="11896" y="10865"/>
                  <a:pt x="11796" y="10969"/>
                  <a:pt x="11733" y="11088"/>
                </a:cubicBezTo>
                <a:cubicBezTo>
                  <a:pt x="11680" y="11188"/>
                  <a:pt x="11630" y="11345"/>
                  <a:pt x="11633" y="11460"/>
                </a:cubicBezTo>
                <a:cubicBezTo>
                  <a:pt x="11634" y="11508"/>
                  <a:pt x="11674" y="11619"/>
                  <a:pt x="11708" y="11658"/>
                </a:cubicBezTo>
                <a:cubicBezTo>
                  <a:pt x="11780" y="11741"/>
                  <a:pt x="11886" y="11785"/>
                  <a:pt x="11981" y="11832"/>
                </a:cubicBezTo>
                <a:cubicBezTo>
                  <a:pt x="12073" y="11878"/>
                  <a:pt x="12160" y="11873"/>
                  <a:pt x="12254" y="11906"/>
                </a:cubicBezTo>
                <a:cubicBezTo>
                  <a:pt x="12341" y="11937"/>
                  <a:pt x="12412" y="11957"/>
                  <a:pt x="12502" y="11981"/>
                </a:cubicBezTo>
                <a:cubicBezTo>
                  <a:pt x="12562" y="11997"/>
                  <a:pt x="12610" y="11995"/>
                  <a:pt x="12675" y="12005"/>
                </a:cubicBezTo>
                <a:cubicBezTo>
                  <a:pt x="12740" y="12015"/>
                  <a:pt x="12810" y="12042"/>
                  <a:pt x="12874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76800" y="4786200"/>
            <a:ext cx="760320" cy="777960"/>
          </a:xfrm>
          <a:custGeom>
            <a:avLst/>
            <a:gdLst/>
            <a:ahLst/>
            <a:rect l="l" t="t" r="r" b="b"/>
            <a:pathLst>
              <a:path w="2110" h="2159">
                <a:moveTo>
                  <a:pt x="12080" y="13444"/>
                </a:moveTo>
                <a:cubicBezTo>
                  <a:pt x="12080" y="13484"/>
                  <a:pt x="12073" y="13396"/>
                  <a:pt x="12129" y="13370"/>
                </a:cubicBezTo>
                <a:cubicBezTo>
                  <a:pt x="12307" y="13288"/>
                  <a:pt x="12309" y="13440"/>
                  <a:pt x="12278" y="13568"/>
                </a:cubicBezTo>
                <a:cubicBezTo>
                  <a:pt x="12252" y="13622"/>
                  <a:pt x="12240" y="13642"/>
                  <a:pt x="12204" y="13667"/>
                </a:cubicBezTo>
                <a:cubicBezTo>
                  <a:pt x="12295" y="13638"/>
                  <a:pt x="12357" y="13700"/>
                  <a:pt x="12353" y="13816"/>
                </a:cubicBezTo>
                <a:cubicBezTo>
                  <a:pt x="12350" y="13890"/>
                  <a:pt x="12172" y="14010"/>
                  <a:pt x="12129" y="13940"/>
                </a:cubicBezTo>
                <a:cubicBezTo>
                  <a:pt x="12129" y="13924"/>
                  <a:pt x="12129" y="13907"/>
                  <a:pt x="12129" y="13891"/>
                </a:cubicBezTo>
              </a:path>
              <a:path w="2110" h="2159">
                <a:moveTo>
                  <a:pt x="12725" y="13295"/>
                </a:moveTo>
                <a:cubicBezTo>
                  <a:pt x="12725" y="13453"/>
                  <a:pt x="12694" y="13641"/>
                  <a:pt x="12750" y="13791"/>
                </a:cubicBezTo>
                <a:cubicBezTo>
                  <a:pt x="12786" y="13886"/>
                  <a:pt x="12923" y="13784"/>
                  <a:pt x="12948" y="13742"/>
                </a:cubicBezTo>
                <a:cubicBezTo>
                  <a:pt x="12972" y="13669"/>
                  <a:pt x="12981" y="13645"/>
                  <a:pt x="12973" y="13593"/>
                </a:cubicBezTo>
                <a:cubicBezTo>
                  <a:pt x="12917" y="13684"/>
                  <a:pt x="12890" y="13738"/>
                  <a:pt x="12874" y="13841"/>
                </a:cubicBezTo>
              </a:path>
              <a:path w="2110" h="2159">
                <a:moveTo>
                  <a:pt x="11881" y="13717"/>
                </a:moveTo>
                <a:cubicBezTo>
                  <a:pt x="11931" y="13717"/>
                  <a:pt x="11980" y="13717"/>
                  <a:pt x="12030" y="13717"/>
                </a:cubicBezTo>
              </a:path>
              <a:path w="2110" h="2159">
                <a:moveTo>
                  <a:pt x="11981" y="14213"/>
                </a:moveTo>
                <a:cubicBezTo>
                  <a:pt x="12196" y="14136"/>
                  <a:pt x="12425" y="14065"/>
                  <a:pt x="12650" y="14015"/>
                </a:cubicBezTo>
                <a:cubicBezTo>
                  <a:pt x="12784" y="13985"/>
                  <a:pt x="12803" y="13998"/>
                  <a:pt x="12923" y="14015"/>
                </a:cubicBezTo>
              </a:path>
              <a:path w="2110" h="2159">
                <a:moveTo>
                  <a:pt x="12750" y="14213"/>
                </a:moveTo>
                <a:cubicBezTo>
                  <a:pt x="12690" y="14293"/>
                  <a:pt x="12726" y="14218"/>
                  <a:pt x="12750" y="14213"/>
                </a:cubicBezTo>
                <a:cubicBezTo>
                  <a:pt x="12948" y="14169"/>
                  <a:pt x="12890" y="14526"/>
                  <a:pt x="12849" y="14610"/>
                </a:cubicBezTo>
                <a:cubicBezTo>
                  <a:pt x="12788" y="14734"/>
                  <a:pt x="12717" y="14760"/>
                  <a:pt x="12601" y="14784"/>
                </a:cubicBezTo>
                <a:cubicBezTo>
                  <a:pt x="12559" y="14659"/>
                  <a:pt x="12605" y="14593"/>
                  <a:pt x="12750" y="14560"/>
                </a:cubicBezTo>
                <a:cubicBezTo>
                  <a:pt x="12912" y="14523"/>
                  <a:pt x="12916" y="14613"/>
                  <a:pt x="12998" y="14684"/>
                </a:cubicBezTo>
                <a:cubicBezTo>
                  <a:pt x="13006" y="14684"/>
                  <a:pt x="13014" y="14684"/>
                  <a:pt x="13022" y="14684"/>
                </a:cubicBezTo>
              </a:path>
              <a:path w="2110" h="2159">
                <a:moveTo>
                  <a:pt x="13965" y="13345"/>
                </a:moveTo>
                <a:cubicBezTo>
                  <a:pt x="13907" y="13461"/>
                  <a:pt x="13979" y="13589"/>
                  <a:pt x="13990" y="13717"/>
                </a:cubicBezTo>
                <a:cubicBezTo>
                  <a:pt x="13990" y="13816"/>
                  <a:pt x="13990" y="13833"/>
                  <a:pt x="13990" y="13891"/>
                </a:cubicBezTo>
              </a:path>
              <a:path w="2110" h="2159">
                <a:moveTo>
                  <a:pt x="13643" y="14213"/>
                </a:moveTo>
                <a:cubicBezTo>
                  <a:pt x="13635" y="14213"/>
                  <a:pt x="13551" y="14213"/>
                  <a:pt x="13618" y="14213"/>
                </a:cubicBezTo>
                <a:cubicBezTo>
                  <a:pt x="13736" y="14205"/>
                  <a:pt x="13849" y="14173"/>
                  <a:pt x="13965" y="14163"/>
                </a:cubicBezTo>
                <a:cubicBezTo>
                  <a:pt x="13973" y="14163"/>
                  <a:pt x="13982" y="14163"/>
                  <a:pt x="13990" y="14163"/>
                </a:cubicBezTo>
                <a:cubicBezTo>
                  <a:pt x="13975" y="14325"/>
                  <a:pt x="13916" y="14474"/>
                  <a:pt x="13891" y="14635"/>
                </a:cubicBezTo>
                <a:cubicBezTo>
                  <a:pt x="13891" y="14676"/>
                  <a:pt x="13883" y="14692"/>
                  <a:pt x="13915" y="14684"/>
                </a:cubicBezTo>
              </a:path>
              <a:path w="2110" h="2159">
                <a:moveTo>
                  <a:pt x="12874" y="14932"/>
                </a:moveTo>
                <a:cubicBezTo>
                  <a:pt x="12865" y="14976"/>
                  <a:pt x="12855" y="15010"/>
                  <a:pt x="12849" y="15056"/>
                </a:cubicBezTo>
                <a:cubicBezTo>
                  <a:pt x="12849" y="15032"/>
                  <a:pt x="12857" y="14921"/>
                  <a:pt x="12923" y="14957"/>
                </a:cubicBezTo>
                <a:cubicBezTo>
                  <a:pt x="13057" y="15030"/>
                  <a:pt x="13059" y="15309"/>
                  <a:pt x="12948" y="15404"/>
                </a:cubicBezTo>
                <a:cubicBezTo>
                  <a:pt x="12863" y="15477"/>
                  <a:pt x="12798" y="15428"/>
                  <a:pt x="12774" y="15379"/>
                </a:cubicBezTo>
                <a:cubicBezTo>
                  <a:pt x="12914" y="15359"/>
                  <a:pt x="12983" y="15453"/>
                  <a:pt x="13097" y="15453"/>
                </a:cubicBezTo>
                <a:cubicBezTo>
                  <a:pt x="13113" y="15445"/>
                  <a:pt x="13130" y="15437"/>
                  <a:pt x="13146" y="15429"/>
                </a:cubicBezTo>
              </a:path>
              <a:path w="2110" h="2159">
                <a:moveTo>
                  <a:pt x="13494" y="14932"/>
                </a:moveTo>
                <a:cubicBezTo>
                  <a:pt x="13494" y="14969"/>
                  <a:pt x="13477" y="15062"/>
                  <a:pt x="13519" y="15081"/>
                </a:cubicBezTo>
                <a:cubicBezTo>
                  <a:pt x="13624" y="15127"/>
                  <a:pt x="13659" y="15018"/>
                  <a:pt x="13692" y="14957"/>
                </a:cubicBezTo>
              </a:path>
              <a:path w="2110" h="2159">
                <a:moveTo>
                  <a:pt x="13667" y="14734"/>
                </a:moveTo>
                <a:cubicBezTo>
                  <a:pt x="13645" y="14911"/>
                  <a:pt x="13663" y="15096"/>
                  <a:pt x="13643" y="15280"/>
                </a:cubicBezTo>
                <a:cubicBezTo>
                  <a:pt x="13643" y="15288"/>
                  <a:pt x="13643" y="15296"/>
                  <a:pt x="13643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9080" y="5527800"/>
            <a:ext cx="9864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2303" y="15379"/>
                </a:moveTo>
                <a:cubicBezTo>
                  <a:pt x="12398" y="15367"/>
                  <a:pt x="12480" y="15359"/>
                  <a:pt x="12576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kill Pract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)  291.7 ÷ 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and round to the nearest tenth if necessary. (How many digits are needed to be able to do thi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)  8.014 ÷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295280" y="5029200"/>
          <a:ext cx="144792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029200"/>
                    <a:ext cx="14479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410080" y="1523880"/>
          <a:ext cx="160020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523880"/>
                    <a:ext cx="16002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54040" y="4232160"/>
            <a:ext cx="4473720" cy="117720"/>
          </a:xfrm>
          <a:custGeom>
            <a:avLst/>
            <a:gdLst/>
            <a:ahLst/>
            <a:rect l="l" t="t" r="r" b="b"/>
            <a:pathLst>
              <a:path w="12428" h="324">
                <a:moveTo>
                  <a:pt x="1538" y="12005"/>
                </a:moveTo>
                <a:cubicBezTo>
                  <a:pt x="1585" y="11978"/>
                  <a:pt x="1651" y="11970"/>
                  <a:pt x="1712" y="11981"/>
                </a:cubicBezTo>
                <a:cubicBezTo>
                  <a:pt x="1821" y="12001"/>
                  <a:pt x="1921" y="12005"/>
                  <a:pt x="2034" y="12005"/>
                </a:cubicBezTo>
                <a:cubicBezTo>
                  <a:pt x="2267" y="12005"/>
                  <a:pt x="2528" y="12044"/>
                  <a:pt x="2753" y="12030"/>
                </a:cubicBezTo>
                <a:cubicBezTo>
                  <a:pt x="2851" y="12024"/>
                  <a:pt x="2948" y="12005"/>
                  <a:pt x="3051" y="12005"/>
                </a:cubicBezTo>
                <a:cubicBezTo>
                  <a:pt x="3196" y="12005"/>
                  <a:pt x="3331" y="11994"/>
                  <a:pt x="3473" y="11981"/>
                </a:cubicBezTo>
                <a:cubicBezTo>
                  <a:pt x="3554" y="11973"/>
                  <a:pt x="3639" y="11981"/>
                  <a:pt x="3721" y="11981"/>
                </a:cubicBezTo>
              </a:path>
              <a:path w="12428" h="324">
                <a:moveTo>
                  <a:pt x="5333" y="11956"/>
                </a:moveTo>
                <a:cubicBezTo>
                  <a:pt x="5368" y="11951"/>
                  <a:pt x="5409" y="11934"/>
                  <a:pt x="5457" y="11931"/>
                </a:cubicBezTo>
                <a:cubicBezTo>
                  <a:pt x="5614" y="11920"/>
                  <a:pt x="5752" y="11970"/>
                  <a:pt x="5904" y="11981"/>
                </a:cubicBezTo>
                <a:cubicBezTo>
                  <a:pt x="6022" y="11990"/>
                  <a:pt x="6135" y="11988"/>
                  <a:pt x="6251" y="12005"/>
                </a:cubicBezTo>
                <a:cubicBezTo>
                  <a:pt x="6351" y="12020"/>
                  <a:pt x="6447" y="12020"/>
                  <a:pt x="6548" y="12030"/>
                </a:cubicBezTo>
                <a:cubicBezTo>
                  <a:pt x="6636" y="12038"/>
                  <a:pt x="6731" y="12046"/>
                  <a:pt x="6821" y="12055"/>
                </a:cubicBezTo>
                <a:cubicBezTo>
                  <a:pt x="6915" y="12065"/>
                  <a:pt x="6999" y="12075"/>
                  <a:pt x="7094" y="12080"/>
                </a:cubicBezTo>
                <a:cubicBezTo>
                  <a:pt x="7279" y="12089"/>
                  <a:pt x="7461" y="12064"/>
                  <a:pt x="7640" y="12055"/>
                </a:cubicBezTo>
                <a:cubicBezTo>
                  <a:pt x="8143" y="12030"/>
                  <a:pt x="8653" y="12054"/>
                  <a:pt x="9153" y="12030"/>
                </a:cubicBezTo>
                <a:cubicBezTo>
                  <a:pt x="9365" y="12020"/>
                  <a:pt x="9602" y="12015"/>
                  <a:pt x="9798" y="12005"/>
                </a:cubicBezTo>
                <a:cubicBezTo>
                  <a:pt x="9956" y="11997"/>
                  <a:pt x="10114" y="11989"/>
                  <a:pt x="10269" y="11981"/>
                </a:cubicBezTo>
                <a:cubicBezTo>
                  <a:pt x="10394" y="11975"/>
                  <a:pt x="10521" y="11981"/>
                  <a:pt x="10641" y="11981"/>
                </a:cubicBezTo>
                <a:cubicBezTo>
                  <a:pt x="10753" y="11981"/>
                  <a:pt x="10850" y="11986"/>
                  <a:pt x="10964" y="11981"/>
                </a:cubicBezTo>
                <a:cubicBezTo>
                  <a:pt x="11236" y="11968"/>
                  <a:pt x="11515" y="11968"/>
                  <a:pt x="11782" y="11956"/>
                </a:cubicBezTo>
                <a:cubicBezTo>
                  <a:pt x="11957" y="11948"/>
                  <a:pt x="12129" y="11937"/>
                  <a:pt x="12303" y="11931"/>
                </a:cubicBezTo>
                <a:cubicBezTo>
                  <a:pt x="12855" y="11911"/>
                  <a:pt x="13412" y="11931"/>
                  <a:pt x="13965" y="11931"/>
                </a:cubicBezTo>
              </a:path>
              <a:path w="12428" h="324">
                <a:moveTo>
                  <a:pt x="9823" y="11906"/>
                </a:moveTo>
                <a:cubicBezTo>
                  <a:pt x="9897" y="11887"/>
                  <a:pt x="9965" y="11895"/>
                  <a:pt x="10046" y="11881"/>
                </a:cubicBezTo>
                <a:cubicBezTo>
                  <a:pt x="10169" y="11859"/>
                  <a:pt x="10278" y="11888"/>
                  <a:pt x="10393" y="11881"/>
                </a:cubicBezTo>
                <a:cubicBezTo>
                  <a:pt x="10569" y="11871"/>
                  <a:pt x="10764" y="11859"/>
                  <a:pt x="10939" y="11832"/>
                </a:cubicBezTo>
                <a:cubicBezTo>
                  <a:pt x="11040" y="11816"/>
                  <a:pt x="11136" y="11790"/>
                  <a:pt x="11237" y="11782"/>
                </a:cubicBezTo>
                <a:cubicBezTo>
                  <a:pt x="11354" y="11773"/>
                  <a:pt x="11465" y="11757"/>
                  <a:pt x="11584" y="11757"/>
                </a:cubicBezTo>
                <a:cubicBezTo>
                  <a:pt x="11689" y="11757"/>
                  <a:pt x="11780" y="11771"/>
                  <a:pt x="11881" y="11782"/>
                </a:cubicBezTo>
                <a:cubicBezTo>
                  <a:pt x="11988" y="11794"/>
                  <a:pt x="12097" y="11804"/>
                  <a:pt x="12204" y="11807"/>
                </a:cubicBezTo>
                <a:cubicBezTo>
                  <a:pt x="12329" y="11811"/>
                  <a:pt x="12477" y="11812"/>
                  <a:pt x="12601" y="11832"/>
                </a:cubicBezTo>
                <a:cubicBezTo>
                  <a:pt x="12731" y="11853"/>
                  <a:pt x="12817" y="11843"/>
                  <a:pt x="12948" y="11832"/>
                </a:cubicBezTo>
                <a:cubicBezTo>
                  <a:pt x="13071" y="11822"/>
                  <a:pt x="13197" y="11811"/>
                  <a:pt x="13320" y="11807"/>
                </a:cubicBezTo>
                <a:cubicBezTo>
                  <a:pt x="13435" y="11803"/>
                  <a:pt x="13552" y="11807"/>
                  <a:pt x="13667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11920" y="2340000"/>
            <a:ext cx="241200" cy="44280"/>
          </a:xfrm>
          <a:custGeom>
            <a:avLst/>
            <a:gdLst/>
            <a:ahLst/>
            <a:rect l="l" t="t" r="r" b="b"/>
            <a:pathLst>
              <a:path w="670" h="125">
                <a:moveTo>
                  <a:pt x="16421" y="6623"/>
                </a:moveTo>
                <a:cubicBezTo>
                  <a:pt x="16644" y="6573"/>
                  <a:pt x="16862" y="6517"/>
                  <a:pt x="17090" y="64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66960" y="2803680"/>
            <a:ext cx="1268280" cy="2295360"/>
          </a:xfrm>
          <a:custGeom>
            <a:avLst/>
            <a:gdLst/>
            <a:ahLst/>
            <a:rect l="l" t="t" r="r" b="b"/>
            <a:pathLst>
              <a:path w="3523" h="6375">
                <a:moveTo>
                  <a:pt x="5184" y="8483"/>
                </a:moveTo>
                <a:cubicBezTo>
                  <a:pt x="5184" y="8491"/>
                  <a:pt x="5184" y="8500"/>
                  <a:pt x="5184" y="8508"/>
                </a:cubicBezTo>
              </a:path>
              <a:path w="3523" h="6375">
                <a:moveTo>
                  <a:pt x="5184" y="8508"/>
                </a:moveTo>
                <a:lnTo>
                  <a:pt x="5184" y="8508"/>
                </a:lnTo>
              </a:path>
              <a:path w="3523" h="6375">
                <a:moveTo>
                  <a:pt x="5432" y="7813"/>
                </a:moveTo>
                <a:cubicBezTo>
                  <a:pt x="5424" y="7805"/>
                  <a:pt x="5415" y="7797"/>
                  <a:pt x="5407" y="7789"/>
                </a:cubicBezTo>
              </a:path>
              <a:path w="3523" h="6375">
                <a:moveTo>
                  <a:pt x="8706" y="14139"/>
                </a:moveTo>
                <a:cubicBezTo>
                  <a:pt x="8706" y="14147"/>
                  <a:pt x="8706" y="14155"/>
                  <a:pt x="8706" y="14163"/>
                </a:cubicBezTo>
              </a:path>
              <a:path w="3523" h="6375">
                <a:moveTo>
                  <a:pt x="8706" y="14163"/>
                </a:moveTo>
                <a:lnTo>
                  <a:pt x="8706" y="1416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93920" y="2544840"/>
            <a:ext cx="1714320" cy="1509480"/>
          </a:xfrm>
          <a:custGeom>
            <a:avLst/>
            <a:gdLst/>
            <a:ahLst/>
            <a:rect l="l" t="t" r="r" b="b"/>
            <a:pathLst>
              <a:path w="4763" h="4193">
                <a:moveTo>
                  <a:pt x="5011" y="7615"/>
                </a:moveTo>
                <a:cubicBezTo>
                  <a:pt x="5011" y="7564"/>
                  <a:pt x="5006" y="7563"/>
                  <a:pt x="5035" y="7541"/>
                </a:cubicBezTo>
                <a:cubicBezTo>
                  <a:pt x="5058" y="7518"/>
                  <a:pt x="5062" y="7510"/>
                  <a:pt x="5085" y="7516"/>
                </a:cubicBezTo>
                <a:cubicBezTo>
                  <a:pt x="5053" y="7610"/>
                  <a:pt x="4978" y="7696"/>
                  <a:pt x="4936" y="7789"/>
                </a:cubicBezTo>
                <a:cubicBezTo>
                  <a:pt x="4936" y="7797"/>
                  <a:pt x="4936" y="7805"/>
                  <a:pt x="4936" y="7813"/>
                </a:cubicBezTo>
                <a:cubicBezTo>
                  <a:pt x="4951" y="7844"/>
                  <a:pt x="5030" y="7793"/>
                  <a:pt x="5085" y="7764"/>
                </a:cubicBezTo>
                <a:cubicBezTo>
                  <a:pt x="5102" y="7756"/>
                  <a:pt x="5118" y="7747"/>
                  <a:pt x="5135" y="7739"/>
                </a:cubicBezTo>
              </a:path>
              <a:path w="4763" h="4193">
                <a:moveTo>
                  <a:pt x="6325" y="11187"/>
                </a:moveTo>
                <a:cubicBezTo>
                  <a:pt x="6283" y="11187"/>
                  <a:pt x="6389" y="11123"/>
                  <a:pt x="6424" y="11088"/>
                </a:cubicBezTo>
              </a:path>
              <a:path w="4763" h="4193">
                <a:moveTo>
                  <a:pt x="6697" y="10864"/>
                </a:moveTo>
                <a:cubicBezTo>
                  <a:pt x="6630" y="10887"/>
                  <a:pt x="6612" y="10892"/>
                  <a:pt x="6573" y="10914"/>
                </a:cubicBezTo>
                <a:cubicBezTo>
                  <a:pt x="6622" y="10947"/>
                  <a:pt x="6727" y="10979"/>
                  <a:pt x="6722" y="11063"/>
                </a:cubicBezTo>
                <a:cubicBezTo>
                  <a:pt x="6714" y="11079"/>
                  <a:pt x="6705" y="11096"/>
                  <a:pt x="6697" y="11112"/>
                </a:cubicBezTo>
                <a:cubicBezTo>
                  <a:pt x="6610" y="11170"/>
                  <a:pt x="6710" y="10993"/>
                  <a:pt x="6722" y="10964"/>
                </a:cubicBezTo>
                <a:cubicBezTo>
                  <a:pt x="6736" y="10930"/>
                  <a:pt x="6708" y="10890"/>
                  <a:pt x="6697" y="10864"/>
                </a:cubicBezTo>
              </a:path>
              <a:path w="4763" h="4193">
                <a:moveTo>
                  <a:pt x="6995" y="10691"/>
                </a:moveTo>
                <a:cubicBezTo>
                  <a:pt x="6961" y="10842"/>
                  <a:pt x="6896" y="11006"/>
                  <a:pt x="6846" y="11162"/>
                </a:cubicBezTo>
                <a:cubicBezTo>
                  <a:pt x="6827" y="11220"/>
                  <a:pt x="6818" y="11226"/>
                  <a:pt x="6821" y="11261"/>
                </a:cubicBezTo>
              </a:path>
              <a:path w="4763" h="4193">
                <a:moveTo>
                  <a:pt x="7045" y="10864"/>
                </a:moveTo>
                <a:cubicBezTo>
                  <a:pt x="7072" y="10842"/>
                  <a:pt x="7242" y="10730"/>
                  <a:pt x="7218" y="10864"/>
                </a:cubicBezTo>
                <a:cubicBezTo>
                  <a:pt x="7204" y="10941"/>
                  <a:pt x="7143" y="10978"/>
                  <a:pt x="7119" y="11038"/>
                </a:cubicBezTo>
                <a:cubicBezTo>
                  <a:pt x="7216" y="11030"/>
                  <a:pt x="7279" y="11007"/>
                  <a:pt x="7367" y="10964"/>
                </a:cubicBezTo>
              </a:path>
              <a:path w="4763" h="4193">
                <a:moveTo>
                  <a:pt x="6821" y="8483"/>
                </a:moveTo>
                <a:cubicBezTo>
                  <a:pt x="6718" y="8483"/>
                  <a:pt x="6704" y="8483"/>
                  <a:pt x="6648" y="8582"/>
                </a:cubicBezTo>
                <a:cubicBezTo>
                  <a:pt x="6604" y="8671"/>
                  <a:pt x="6587" y="8691"/>
                  <a:pt x="6598" y="8756"/>
                </a:cubicBezTo>
                <a:cubicBezTo>
                  <a:pt x="6697" y="8841"/>
                  <a:pt x="6837" y="8800"/>
                  <a:pt x="6846" y="8632"/>
                </a:cubicBezTo>
                <a:cubicBezTo>
                  <a:pt x="6853" y="8501"/>
                  <a:pt x="6786" y="8516"/>
                  <a:pt x="6697" y="8508"/>
                </a:cubicBezTo>
              </a:path>
              <a:path w="4763" h="4193">
                <a:moveTo>
                  <a:pt x="6772" y="8979"/>
                </a:moveTo>
                <a:cubicBezTo>
                  <a:pt x="6744" y="9062"/>
                  <a:pt x="6799" y="9179"/>
                  <a:pt x="6821" y="9277"/>
                </a:cubicBezTo>
                <a:cubicBezTo>
                  <a:pt x="6858" y="9446"/>
                  <a:pt x="6901" y="9608"/>
                  <a:pt x="6945" y="9773"/>
                </a:cubicBezTo>
                <a:cubicBezTo>
                  <a:pt x="6985" y="9923"/>
                  <a:pt x="6973" y="10031"/>
                  <a:pt x="7045" y="10170"/>
                </a:cubicBezTo>
                <a:cubicBezTo>
                  <a:pt x="7064" y="10208"/>
                  <a:pt x="7097" y="10265"/>
                  <a:pt x="7119" y="10294"/>
                </a:cubicBezTo>
                <a:cubicBezTo>
                  <a:pt x="7143" y="10326"/>
                  <a:pt x="7144" y="10337"/>
                  <a:pt x="7169" y="10368"/>
                </a:cubicBezTo>
              </a:path>
              <a:path w="4763" h="4193">
                <a:moveTo>
                  <a:pt x="7516" y="10393"/>
                </a:moveTo>
                <a:cubicBezTo>
                  <a:pt x="7407" y="10393"/>
                  <a:pt x="7384" y="10526"/>
                  <a:pt x="7367" y="10616"/>
                </a:cubicBezTo>
                <a:cubicBezTo>
                  <a:pt x="7367" y="10641"/>
                  <a:pt x="7367" y="10666"/>
                  <a:pt x="7367" y="10691"/>
                </a:cubicBezTo>
                <a:cubicBezTo>
                  <a:pt x="7485" y="10761"/>
                  <a:pt x="7568" y="10761"/>
                  <a:pt x="7590" y="10592"/>
                </a:cubicBezTo>
                <a:cubicBezTo>
                  <a:pt x="7610" y="10437"/>
                  <a:pt x="7585" y="10458"/>
                  <a:pt x="7466" y="10393"/>
                </a:cubicBezTo>
              </a:path>
              <a:path w="4763" h="4193">
                <a:moveTo>
                  <a:pt x="5879" y="8037"/>
                </a:moveTo>
                <a:cubicBezTo>
                  <a:pt x="6024" y="8037"/>
                  <a:pt x="6157" y="8043"/>
                  <a:pt x="6300" y="8062"/>
                </a:cubicBezTo>
                <a:cubicBezTo>
                  <a:pt x="6485" y="8087"/>
                  <a:pt x="6664" y="8142"/>
                  <a:pt x="6846" y="8161"/>
                </a:cubicBezTo>
                <a:cubicBezTo>
                  <a:pt x="6913" y="8168"/>
                  <a:pt x="6932" y="8177"/>
                  <a:pt x="6945" y="8136"/>
                </a:cubicBezTo>
              </a:path>
              <a:path w="4763" h="4193">
                <a:moveTo>
                  <a:pt x="6871" y="7615"/>
                </a:moveTo>
                <a:cubicBezTo>
                  <a:pt x="6830" y="7590"/>
                  <a:pt x="6718" y="7557"/>
                  <a:pt x="6672" y="7590"/>
                </a:cubicBezTo>
                <a:cubicBezTo>
                  <a:pt x="6631" y="7619"/>
                  <a:pt x="6631" y="7717"/>
                  <a:pt x="6623" y="7764"/>
                </a:cubicBezTo>
                <a:cubicBezTo>
                  <a:pt x="6700" y="7764"/>
                  <a:pt x="6744" y="7722"/>
                  <a:pt x="6821" y="7764"/>
                </a:cubicBezTo>
                <a:cubicBezTo>
                  <a:pt x="6941" y="7829"/>
                  <a:pt x="6886" y="7958"/>
                  <a:pt x="6772" y="7987"/>
                </a:cubicBezTo>
                <a:cubicBezTo>
                  <a:pt x="6739" y="7987"/>
                  <a:pt x="6705" y="7987"/>
                  <a:pt x="6672" y="7987"/>
                </a:cubicBezTo>
              </a:path>
              <a:path w="4763" h="4193">
                <a:moveTo>
                  <a:pt x="7367" y="11237"/>
                </a:moveTo>
                <a:cubicBezTo>
                  <a:pt x="7359" y="11237"/>
                  <a:pt x="7350" y="11237"/>
                  <a:pt x="7342" y="11237"/>
                </a:cubicBezTo>
                <a:cubicBezTo>
                  <a:pt x="7385" y="11226"/>
                  <a:pt x="7418" y="11197"/>
                  <a:pt x="7466" y="11187"/>
                </a:cubicBezTo>
              </a:path>
              <a:path w="4763" h="4193">
                <a:moveTo>
                  <a:pt x="7640" y="10988"/>
                </a:moveTo>
                <a:cubicBezTo>
                  <a:pt x="7677" y="10979"/>
                  <a:pt x="7701" y="10960"/>
                  <a:pt x="7739" y="10939"/>
                </a:cubicBezTo>
                <a:cubicBezTo>
                  <a:pt x="7748" y="11023"/>
                  <a:pt x="7698" y="11050"/>
                  <a:pt x="7689" y="11137"/>
                </a:cubicBezTo>
                <a:cubicBezTo>
                  <a:pt x="7689" y="11145"/>
                  <a:pt x="7689" y="11154"/>
                  <a:pt x="7689" y="11162"/>
                </a:cubicBezTo>
                <a:cubicBezTo>
                  <a:pt x="7790" y="11139"/>
                  <a:pt x="7839" y="11087"/>
                  <a:pt x="7913" y="11013"/>
                </a:cubicBezTo>
              </a:path>
              <a:path w="4763" h="4193">
                <a:moveTo>
                  <a:pt x="7938" y="10666"/>
                </a:moveTo>
                <a:cubicBezTo>
                  <a:pt x="7902" y="10765"/>
                  <a:pt x="7867" y="10847"/>
                  <a:pt x="7913" y="10939"/>
                </a:cubicBezTo>
                <a:cubicBezTo>
                  <a:pt x="7987" y="10908"/>
                  <a:pt x="8160" y="10847"/>
                  <a:pt x="8037" y="10740"/>
                </a:cubicBezTo>
                <a:cubicBezTo>
                  <a:pt x="8012" y="10740"/>
                  <a:pt x="8004" y="10740"/>
                  <a:pt x="8012" y="10716"/>
                </a:cubicBezTo>
              </a:path>
              <a:path w="4763" h="4193">
                <a:moveTo>
                  <a:pt x="8334" y="10641"/>
                </a:moveTo>
                <a:cubicBezTo>
                  <a:pt x="8254" y="10804"/>
                  <a:pt x="8141" y="10984"/>
                  <a:pt x="8037" y="11137"/>
                </a:cubicBezTo>
                <a:cubicBezTo>
                  <a:pt x="7998" y="11176"/>
                  <a:pt x="7966" y="11193"/>
                  <a:pt x="8012" y="11187"/>
                </a:cubicBezTo>
              </a:path>
              <a:path w="4763" h="4193">
                <a:moveTo>
                  <a:pt x="8483" y="10889"/>
                </a:moveTo>
                <a:cubicBezTo>
                  <a:pt x="8474" y="10922"/>
                  <a:pt x="8376" y="11085"/>
                  <a:pt x="8458" y="11112"/>
                </a:cubicBezTo>
                <a:cubicBezTo>
                  <a:pt x="8515" y="11131"/>
                  <a:pt x="8704" y="11031"/>
                  <a:pt x="8632" y="10964"/>
                </a:cubicBezTo>
                <a:cubicBezTo>
                  <a:pt x="8572" y="10944"/>
                  <a:pt x="8557" y="10945"/>
                  <a:pt x="8533" y="10914"/>
                </a:cubicBezTo>
              </a:path>
              <a:path w="4763" h="4193">
                <a:moveTo>
                  <a:pt x="4266" y="7938"/>
                </a:moveTo>
                <a:cubicBezTo>
                  <a:pt x="4335" y="7960"/>
                  <a:pt x="4414" y="7970"/>
                  <a:pt x="4490" y="7987"/>
                </a:cubicBezTo>
                <a:cubicBezTo>
                  <a:pt x="4592" y="8010"/>
                  <a:pt x="4710" y="8045"/>
                  <a:pt x="4812" y="8062"/>
                </a:cubicBezTo>
                <a:cubicBezTo>
                  <a:pt x="4892" y="8075"/>
                  <a:pt x="4958" y="8067"/>
                  <a:pt x="5035" y="8086"/>
                </a:cubicBezTo>
                <a:cubicBezTo>
                  <a:pt x="5073" y="8095"/>
                  <a:pt x="5099" y="8101"/>
                  <a:pt x="5135" y="8111"/>
                </a:cubicBezTo>
                <a:cubicBezTo>
                  <a:pt x="5184" y="8125"/>
                  <a:pt x="5229" y="8145"/>
                  <a:pt x="5283" y="8161"/>
                </a:cubicBezTo>
                <a:cubicBezTo>
                  <a:pt x="5348" y="8181"/>
                  <a:pt x="5390" y="8175"/>
                  <a:pt x="5457" y="8186"/>
                </a:cubicBezTo>
                <a:cubicBezTo>
                  <a:pt x="5517" y="8196"/>
                  <a:pt x="5568" y="8208"/>
                  <a:pt x="5631" y="8210"/>
                </a:cubicBezTo>
                <a:cubicBezTo>
                  <a:pt x="5714" y="8213"/>
                  <a:pt x="5757" y="8193"/>
                  <a:pt x="5829" y="8186"/>
                </a:cubicBezTo>
                <a:cubicBezTo>
                  <a:pt x="5892" y="8180"/>
                  <a:pt x="5988" y="8198"/>
                  <a:pt x="6052" y="8210"/>
                </a:cubicBezTo>
                <a:cubicBezTo>
                  <a:pt x="6181" y="8234"/>
                  <a:pt x="6318" y="8255"/>
                  <a:pt x="6449" y="8260"/>
                </a:cubicBezTo>
                <a:cubicBezTo>
                  <a:pt x="6560" y="8264"/>
                  <a:pt x="6664" y="8264"/>
                  <a:pt x="6772" y="8235"/>
                </a:cubicBezTo>
                <a:cubicBezTo>
                  <a:pt x="6905" y="8199"/>
                  <a:pt x="6934" y="8163"/>
                  <a:pt x="7020" y="8062"/>
                </a:cubicBezTo>
                <a:cubicBezTo>
                  <a:pt x="7094" y="7975"/>
                  <a:pt x="7075" y="7964"/>
                  <a:pt x="7069" y="7863"/>
                </a:cubicBezTo>
                <a:cubicBezTo>
                  <a:pt x="7062" y="7752"/>
                  <a:pt x="7052" y="7671"/>
                  <a:pt x="6970" y="7590"/>
                </a:cubicBezTo>
                <a:cubicBezTo>
                  <a:pt x="6893" y="7513"/>
                  <a:pt x="6775" y="7469"/>
                  <a:pt x="6672" y="7441"/>
                </a:cubicBezTo>
                <a:cubicBezTo>
                  <a:pt x="6592" y="7419"/>
                  <a:pt x="6530" y="7411"/>
                  <a:pt x="6449" y="7392"/>
                </a:cubicBezTo>
                <a:cubicBezTo>
                  <a:pt x="6378" y="7375"/>
                  <a:pt x="6288" y="7326"/>
                  <a:pt x="6226" y="7317"/>
                </a:cubicBezTo>
                <a:cubicBezTo>
                  <a:pt x="6174" y="7309"/>
                  <a:pt x="6122" y="7315"/>
                  <a:pt x="6077" y="7293"/>
                </a:cubicBezTo>
                <a:cubicBezTo>
                  <a:pt x="6009" y="7260"/>
                  <a:pt x="5951" y="7221"/>
                  <a:pt x="5879" y="7193"/>
                </a:cubicBezTo>
                <a:cubicBezTo>
                  <a:pt x="5828" y="7173"/>
                  <a:pt x="5738" y="7151"/>
                  <a:pt x="5680" y="7144"/>
                </a:cubicBezTo>
                <a:cubicBezTo>
                  <a:pt x="5582" y="7132"/>
                  <a:pt x="5482" y="7122"/>
                  <a:pt x="5383" y="7119"/>
                </a:cubicBezTo>
                <a:cubicBezTo>
                  <a:pt x="5290" y="7116"/>
                  <a:pt x="5204" y="7096"/>
                  <a:pt x="5110" y="7094"/>
                </a:cubicBezTo>
                <a:cubicBezTo>
                  <a:pt x="4965" y="7090"/>
                  <a:pt x="4828" y="7085"/>
                  <a:pt x="4688" y="7069"/>
                </a:cubicBezTo>
                <a:cubicBezTo>
                  <a:pt x="4599" y="7059"/>
                  <a:pt x="4455" y="7077"/>
                  <a:pt x="4366" y="7094"/>
                </a:cubicBezTo>
                <a:cubicBezTo>
                  <a:pt x="4274" y="7111"/>
                  <a:pt x="4205" y="7142"/>
                  <a:pt x="4118" y="7169"/>
                </a:cubicBezTo>
                <a:cubicBezTo>
                  <a:pt x="4018" y="7200"/>
                  <a:pt x="3945" y="7211"/>
                  <a:pt x="3894" y="7293"/>
                </a:cubicBezTo>
                <a:cubicBezTo>
                  <a:pt x="3832" y="7393"/>
                  <a:pt x="3889" y="7525"/>
                  <a:pt x="3944" y="7615"/>
                </a:cubicBezTo>
                <a:cubicBezTo>
                  <a:pt x="4024" y="7746"/>
                  <a:pt x="4072" y="7834"/>
                  <a:pt x="4217" y="7888"/>
                </a:cubicBezTo>
                <a:cubicBezTo>
                  <a:pt x="4294" y="7917"/>
                  <a:pt x="4361" y="7909"/>
                  <a:pt x="4440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4680000"/>
            <a:ext cx="704520" cy="623880"/>
          </a:xfrm>
          <a:custGeom>
            <a:avLst/>
            <a:gdLst/>
            <a:ahLst/>
            <a:rect l="l" t="t" r="r" b="b"/>
            <a:pathLst>
              <a:path w="1960" h="1737">
                <a:moveTo>
                  <a:pt x="8855" y="13568"/>
                </a:moveTo>
                <a:cubicBezTo>
                  <a:pt x="8895" y="13529"/>
                  <a:pt x="9057" y="13430"/>
                  <a:pt x="9029" y="13593"/>
                </a:cubicBezTo>
                <a:cubicBezTo>
                  <a:pt x="8982" y="13710"/>
                  <a:pt x="8969" y="13744"/>
                  <a:pt x="8930" y="13816"/>
                </a:cubicBezTo>
                <a:cubicBezTo>
                  <a:pt x="8899" y="13757"/>
                  <a:pt x="9064" y="13730"/>
                  <a:pt x="9103" y="13841"/>
                </a:cubicBezTo>
                <a:cubicBezTo>
                  <a:pt x="9162" y="14010"/>
                  <a:pt x="8988" y="14181"/>
                  <a:pt x="8830" y="14163"/>
                </a:cubicBezTo>
                <a:cubicBezTo>
                  <a:pt x="8830" y="14155"/>
                  <a:pt x="8830" y="14147"/>
                  <a:pt x="8830" y="14139"/>
                </a:cubicBezTo>
              </a:path>
              <a:path w="1960" h="1737">
                <a:moveTo>
                  <a:pt x="7962" y="14684"/>
                </a:moveTo>
                <a:cubicBezTo>
                  <a:pt x="8328" y="14735"/>
                  <a:pt x="8620" y="14718"/>
                  <a:pt x="8979" y="14610"/>
                </a:cubicBezTo>
                <a:cubicBezTo>
                  <a:pt x="9297" y="14515"/>
                  <a:pt x="9757" y="14160"/>
                  <a:pt x="9723" y="13767"/>
                </a:cubicBezTo>
                <a:cubicBezTo>
                  <a:pt x="9678" y="13255"/>
                  <a:pt x="9075" y="12988"/>
                  <a:pt x="8632" y="12998"/>
                </a:cubicBezTo>
                <a:cubicBezTo>
                  <a:pt x="8015" y="13012"/>
                  <a:pt x="7618" y="13713"/>
                  <a:pt x="7764" y="14288"/>
                </a:cubicBezTo>
                <a:cubicBezTo>
                  <a:pt x="7899" y="14822"/>
                  <a:pt x="8340" y="14610"/>
                  <a:pt x="8682" y="14536"/>
                </a:cubicBezTo>
              </a:path>
              <a:path w="1960" h="1737">
                <a:moveTo>
                  <a:pt x="8806" y="14213"/>
                </a:moveTo>
                <a:cubicBezTo>
                  <a:pt x="8787" y="14271"/>
                  <a:pt x="8778" y="14277"/>
                  <a:pt x="8781" y="14312"/>
                </a:cubicBezTo>
                <a:cubicBezTo>
                  <a:pt x="8793" y="14264"/>
                  <a:pt x="8870" y="14106"/>
                  <a:pt x="8756" y="14114"/>
                </a:cubicBezTo>
                <a:cubicBezTo>
                  <a:pt x="8648" y="14122"/>
                  <a:pt x="8622" y="14202"/>
                  <a:pt x="8632" y="14263"/>
                </a:cubicBezTo>
                <a:cubicBezTo>
                  <a:pt x="8715" y="14248"/>
                  <a:pt x="8723" y="14270"/>
                  <a:pt x="8756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54160" y="5705640"/>
            <a:ext cx="4464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5705" y="15850"/>
                </a:moveTo>
                <a:cubicBezTo>
                  <a:pt x="5756" y="15850"/>
                  <a:pt x="5789" y="15856"/>
                  <a:pt x="5829" y="158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68320" y="2670120"/>
            <a:ext cx="527040" cy="1357200"/>
          </a:xfrm>
          <a:custGeom>
            <a:avLst/>
            <a:gdLst/>
            <a:ahLst/>
            <a:rect l="l" t="t" r="r" b="b"/>
            <a:pathLst>
              <a:path w="1465" h="3771">
                <a:moveTo>
                  <a:pt x="5606" y="8682"/>
                </a:moveTo>
                <a:cubicBezTo>
                  <a:pt x="5592" y="8779"/>
                  <a:pt x="5564" y="8881"/>
                  <a:pt x="5556" y="8979"/>
                </a:cubicBezTo>
                <a:cubicBezTo>
                  <a:pt x="5545" y="9111"/>
                  <a:pt x="5535" y="9245"/>
                  <a:pt x="5531" y="9376"/>
                </a:cubicBezTo>
                <a:cubicBezTo>
                  <a:pt x="5528" y="9463"/>
                  <a:pt x="5510" y="9540"/>
                  <a:pt x="5507" y="9624"/>
                </a:cubicBezTo>
                <a:cubicBezTo>
                  <a:pt x="5504" y="9691"/>
                  <a:pt x="5500" y="9780"/>
                  <a:pt x="5482" y="9847"/>
                </a:cubicBezTo>
                <a:cubicBezTo>
                  <a:pt x="5468" y="9899"/>
                  <a:pt x="5443" y="9943"/>
                  <a:pt x="5432" y="9996"/>
                </a:cubicBezTo>
              </a:path>
              <a:path w="1465" h="3771">
                <a:moveTo>
                  <a:pt x="5432" y="10269"/>
                </a:moveTo>
                <a:cubicBezTo>
                  <a:pt x="5472" y="10229"/>
                  <a:pt x="5583" y="10203"/>
                  <a:pt x="5655" y="10170"/>
                </a:cubicBezTo>
                <a:cubicBezTo>
                  <a:pt x="5655" y="10263"/>
                  <a:pt x="5640" y="10332"/>
                  <a:pt x="5606" y="10418"/>
                </a:cubicBezTo>
              </a:path>
              <a:path w="1465" h="3771">
                <a:moveTo>
                  <a:pt x="5879" y="7491"/>
                </a:moveTo>
                <a:cubicBezTo>
                  <a:pt x="5817" y="7466"/>
                  <a:pt x="5801" y="7421"/>
                  <a:pt x="5730" y="7417"/>
                </a:cubicBezTo>
                <a:cubicBezTo>
                  <a:pt x="5644" y="7412"/>
                  <a:pt x="5623" y="7471"/>
                  <a:pt x="5606" y="7541"/>
                </a:cubicBezTo>
                <a:cubicBezTo>
                  <a:pt x="5667" y="7541"/>
                  <a:pt x="5719" y="7544"/>
                  <a:pt x="5755" y="7491"/>
                </a:cubicBezTo>
                <a:cubicBezTo>
                  <a:pt x="5755" y="7483"/>
                  <a:pt x="5755" y="7474"/>
                  <a:pt x="5755" y="7466"/>
                </a:cubicBezTo>
                <a:cubicBezTo>
                  <a:pt x="5794" y="7546"/>
                  <a:pt x="5779" y="7644"/>
                  <a:pt x="5779" y="7739"/>
                </a:cubicBezTo>
              </a:path>
              <a:path w="1465" h="3771">
                <a:moveTo>
                  <a:pt x="5035" y="10567"/>
                </a:moveTo>
                <a:cubicBezTo>
                  <a:pt x="5059" y="10591"/>
                  <a:pt x="5162" y="10547"/>
                  <a:pt x="5234" y="10542"/>
                </a:cubicBezTo>
                <a:cubicBezTo>
                  <a:pt x="5242" y="10542"/>
                  <a:pt x="5251" y="10542"/>
                  <a:pt x="5259" y="10542"/>
                </a:cubicBezTo>
                <a:cubicBezTo>
                  <a:pt x="5241" y="10641"/>
                  <a:pt x="5230" y="10638"/>
                  <a:pt x="5159" y="10691"/>
                </a:cubicBezTo>
                <a:cubicBezTo>
                  <a:pt x="5192" y="10691"/>
                  <a:pt x="5300" y="10669"/>
                  <a:pt x="5259" y="10740"/>
                </a:cubicBezTo>
                <a:cubicBezTo>
                  <a:pt x="5212" y="10823"/>
                  <a:pt x="5114" y="10886"/>
                  <a:pt x="5085" y="10815"/>
                </a:cubicBezTo>
              </a:path>
              <a:path w="1465" h="3771">
                <a:moveTo>
                  <a:pt x="5432" y="10517"/>
                </a:moveTo>
                <a:cubicBezTo>
                  <a:pt x="5445" y="10592"/>
                  <a:pt x="5453" y="10670"/>
                  <a:pt x="5482" y="10740"/>
                </a:cubicBezTo>
                <a:cubicBezTo>
                  <a:pt x="5539" y="10874"/>
                  <a:pt x="5654" y="10759"/>
                  <a:pt x="5705" y="10691"/>
                </a:cubicBezTo>
                <a:cubicBezTo>
                  <a:pt x="5677" y="10606"/>
                  <a:pt x="5584" y="10728"/>
                  <a:pt x="5556" y="10765"/>
                </a:cubicBezTo>
                <a:cubicBezTo>
                  <a:pt x="5540" y="10790"/>
                  <a:pt x="5523" y="10815"/>
                  <a:pt x="5507" y="10840"/>
                </a:cubicBezTo>
              </a:path>
              <a:path w="1465" h="3771">
                <a:moveTo>
                  <a:pt x="4911" y="10988"/>
                </a:moveTo>
                <a:cubicBezTo>
                  <a:pt x="5139" y="10909"/>
                  <a:pt x="5365" y="10860"/>
                  <a:pt x="5606" y="10840"/>
                </a:cubicBezTo>
                <a:cubicBezTo>
                  <a:pt x="5690" y="10840"/>
                  <a:pt x="5710" y="10834"/>
                  <a:pt x="5755" y="10864"/>
                </a:cubicBezTo>
              </a:path>
              <a:path w="1465" h="3771">
                <a:moveTo>
                  <a:pt x="5730" y="10988"/>
                </a:moveTo>
                <a:cubicBezTo>
                  <a:pt x="5730" y="11054"/>
                  <a:pt x="5675" y="11134"/>
                  <a:pt x="5680" y="11187"/>
                </a:cubicBezTo>
                <a:cubicBezTo>
                  <a:pt x="5688" y="11187"/>
                  <a:pt x="5697" y="11187"/>
                  <a:pt x="5705" y="11187"/>
                </a:cubicBezTo>
              </a:path>
              <a:path w="1465" h="3771">
                <a:moveTo>
                  <a:pt x="6276" y="8384"/>
                </a:moveTo>
                <a:cubicBezTo>
                  <a:pt x="6185" y="8329"/>
                  <a:pt x="6136" y="8354"/>
                  <a:pt x="6077" y="8458"/>
                </a:cubicBezTo>
                <a:cubicBezTo>
                  <a:pt x="6035" y="8565"/>
                  <a:pt x="6013" y="8589"/>
                  <a:pt x="6052" y="8657"/>
                </a:cubicBezTo>
                <a:cubicBezTo>
                  <a:pt x="6175" y="8682"/>
                  <a:pt x="6361" y="8580"/>
                  <a:pt x="6300" y="8409"/>
                </a:cubicBezTo>
                <a:cubicBezTo>
                  <a:pt x="6226" y="8384"/>
                  <a:pt x="6201" y="8376"/>
                  <a:pt x="6152" y="8409"/>
                </a:cubicBezTo>
              </a:path>
              <a:path w="1465" h="3771">
                <a:moveTo>
                  <a:pt x="6226" y="8855"/>
                </a:moveTo>
                <a:cubicBezTo>
                  <a:pt x="6149" y="9028"/>
                  <a:pt x="6149" y="9258"/>
                  <a:pt x="6127" y="9451"/>
                </a:cubicBezTo>
                <a:cubicBezTo>
                  <a:pt x="6101" y="9681"/>
                  <a:pt x="6110" y="9917"/>
                  <a:pt x="6077" y="10145"/>
                </a:cubicBezTo>
                <a:cubicBezTo>
                  <a:pt x="6063" y="10244"/>
                  <a:pt x="6027" y="10347"/>
                  <a:pt x="6003" y="10443"/>
                </a:cubicBezTo>
              </a:path>
              <a:path w="1465" h="3771">
                <a:moveTo>
                  <a:pt x="6102" y="10815"/>
                </a:moveTo>
                <a:cubicBezTo>
                  <a:pt x="6053" y="10894"/>
                  <a:pt x="5996" y="10972"/>
                  <a:pt x="5978" y="11063"/>
                </a:cubicBezTo>
                <a:cubicBezTo>
                  <a:pt x="6113" y="11052"/>
                  <a:pt x="6182" y="11031"/>
                  <a:pt x="6176" y="10864"/>
                </a:cubicBezTo>
                <a:cubicBezTo>
                  <a:pt x="6174" y="10808"/>
                  <a:pt x="6114" y="10786"/>
                  <a:pt x="6077" y="10765"/>
                </a:cubicBezTo>
              </a:path>
              <a:path w="1465" h="3771">
                <a:moveTo>
                  <a:pt x="6102" y="7615"/>
                </a:moveTo>
                <a:cubicBezTo>
                  <a:pt x="6133" y="7605"/>
                  <a:pt x="6136" y="7582"/>
                  <a:pt x="6176" y="7565"/>
                </a:cubicBezTo>
                <a:cubicBezTo>
                  <a:pt x="6225" y="7545"/>
                  <a:pt x="6229" y="7541"/>
                  <a:pt x="6276" y="7541"/>
                </a:cubicBezTo>
                <a:cubicBezTo>
                  <a:pt x="6264" y="7674"/>
                  <a:pt x="6224" y="7648"/>
                  <a:pt x="6152" y="7739"/>
                </a:cubicBezTo>
                <a:cubicBezTo>
                  <a:pt x="6136" y="7759"/>
                  <a:pt x="6136" y="7763"/>
                  <a:pt x="6127" y="7789"/>
                </a:cubicBezTo>
                <a:cubicBezTo>
                  <a:pt x="6188" y="7789"/>
                  <a:pt x="6243" y="7763"/>
                  <a:pt x="6300" y="7739"/>
                </a:cubicBezTo>
                <a:cubicBezTo>
                  <a:pt x="6354" y="7716"/>
                  <a:pt x="6360" y="7694"/>
                  <a:pt x="6375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76240" y="4626000"/>
            <a:ext cx="590760" cy="534960"/>
          </a:xfrm>
          <a:custGeom>
            <a:avLst/>
            <a:gdLst/>
            <a:ahLst/>
            <a:rect l="l" t="t" r="r" b="b"/>
            <a:pathLst>
              <a:path w="1638" h="1489">
                <a:moveTo>
                  <a:pt x="5085" y="13295"/>
                </a:moveTo>
                <a:cubicBezTo>
                  <a:pt x="4927" y="13295"/>
                  <a:pt x="4936" y="13521"/>
                  <a:pt x="4936" y="13643"/>
                </a:cubicBezTo>
                <a:cubicBezTo>
                  <a:pt x="4960" y="13830"/>
                  <a:pt x="4963" y="13886"/>
                  <a:pt x="5035" y="13990"/>
                </a:cubicBezTo>
                <a:cubicBezTo>
                  <a:pt x="5274" y="13918"/>
                  <a:pt x="5419" y="13740"/>
                  <a:pt x="5259" y="13469"/>
                </a:cubicBezTo>
                <a:cubicBezTo>
                  <a:pt x="5185" y="13343"/>
                  <a:pt x="5099" y="13309"/>
                  <a:pt x="4986" y="13320"/>
                </a:cubicBezTo>
              </a:path>
              <a:path w="1638" h="1489">
                <a:moveTo>
                  <a:pt x="5755" y="14064"/>
                </a:moveTo>
                <a:cubicBezTo>
                  <a:pt x="5723" y="14075"/>
                  <a:pt x="5715" y="14098"/>
                  <a:pt x="5705" y="14139"/>
                </a:cubicBezTo>
                <a:cubicBezTo>
                  <a:pt x="5766" y="14124"/>
                  <a:pt x="5840" y="13977"/>
                  <a:pt x="5779" y="13990"/>
                </a:cubicBezTo>
                <a:cubicBezTo>
                  <a:pt x="5771" y="13992"/>
                  <a:pt x="5539" y="14147"/>
                  <a:pt x="5755" y="14039"/>
                </a:cubicBezTo>
              </a:path>
              <a:path w="1638" h="1489">
                <a:moveTo>
                  <a:pt x="6028" y="13444"/>
                </a:moveTo>
                <a:cubicBezTo>
                  <a:pt x="6075" y="13372"/>
                  <a:pt x="6100" y="13346"/>
                  <a:pt x="6176" y="13320"/>
                </a:cubicBezTo>
                <a:cubicBezTo>
                  <a:pt x="6269" y="13540"/>
                  <a:pt x="6244" y="13728"/>
                  <a:pt x="6028" y="13891"/>
                </a:cubicBezTo>
                <a:cubicBezTo>
                  <a:pt x="6003" y="13899"/>
                  <a:pt x="5978" y="13907"/>
                  <a:pt x="5953" y="13915"/>
                </a:cubicBezTo>
                <a:cubicBezTo>
                  <a:pt x="5972" y="13830"/>
                  <a:pt x="6048" y="13640"/>
                  <a:pt x="6176" y="13742"/>
                </a:cubicBezTo>
                <a:cubicBezTo>
                  <a:pt x="6225" y="13838"/>
                  <a:pt x="6241" y="13869"/>
                  <a:pt x="6251" y="13940"/>
                </a:cubicBezTo>
              </a:path>
              <a:path w="1638" h="1489">
                <a:moveTo>
                  <a:pt x="6052" y="14238"/>
                </a:moveTo>
                <a:cubicBezTo>
                  <a:pt x="5834" y="14238"/>
                  <a:pt x="6225" y="14213"/>
                  <a:pt x="6226" y="14213"/>
                </a:cubicBezTo>
                <a:cubicBezTo>
                  <a:pt x="6455" y="14208"/>
                  <a:pt x="6349" y="14224"/>
                  <a:pt x="6226" y="14263"/>
                </a:cubicBezTo>
                <a:cubicBezTo>
                  <a:pt x="6176" y="14279"/>
                  <a:pt x="6127" y="14296"/>
                  <a:pt x="6077" y="14312"/>
                </a:cubicBezTo>
                <a:cubicBezTo>
                  <a:pt x="6021" y="14397"/>
                  <a:pt x="6261" y="14269"/>
                  <a:pt x="6276" y="14263"/>
                </a:cubicBezTo>
              </a:path>
              <a:path w="1638" h="1489">
                <a:moveTo>
                  <a:pt x="6052" y="13047"/>
                </a:moveTo>
                <a:cubicBezTo>
                  <a:pt x="6098" y="12956"/>
                  <a:pt x="6198" y="12927"/>
                  <a:pt x="6300" y="12898"/>
                </a:cubicBezTo>
                <a:cubicBezTo>
                  <a:pt x="6446" y="12856"/>
                  <a:pt x="6434" y="12925"/>
                  <a:pt x="6548" y="12948"/>
                </a:cubicBezTo>
                <a:cubicBezTo>
                  <a:pt x="6590" y="12957"/>
                  <a:pt x="6573" y="12903"/>
                  <a:pt x="6573" y="12874"/>
                </a:cubicBezTo>
                <a:cubicBezTo>
                  <a:pt x="6573" y="12811"/>
                  <a:pt x="6573" y="12928"/>
                  <a:pt x="6573" y="12948"/>
                </a:cubicBezTo>
                <a:cubicBezTo>
                  <a:pt x="6573" y="13011"/>
                  <a:pt x="6443" y="12983"/>
                  <a:pt x="6400" y="12998"/>
                </a:cubicBezTo>
                <a:cubicBezTo>
                  <a:pt x="6392" y="13006"/>
                  <a:pt x="6383" y="13014"/>
                  <a:pt x="6375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62080" y="5626080"/>
            <a:ext cx="438120" cy="795240"/>
          </a:xfrm>
          <a:custGeom>
            <a:avLst/>
            <a:gdLst/>
            <a:ahLst/>
            <a:rect l="l" t="t" r="r" b="b"/>
            <a:pathLst>
              <a:path w="1216" h="2209">
                <a:moveTo>
                  <a:pt x="6127" y="15652"/>
                </a:moveTo>
                <a:cubicBezTo>
                  <a:pt x="6110" y="15769"/>
                  <a:pt x="6028" y="15882"/>
                  <a:pt x="6028" y="15999"/>
                </a:cubicBezTo>
                <a:cubicBezTo>
                  <a:pt x="6036" y="16007"/>
                  <a:pt x="6044" y="16016"/>
                  <a:pt x="6052" y="16024"/>
                </a:cubicBezTo>
                <a:cubicBezTo>
                  <a:pt x="6143" y="15992"/>
                  <a:pt x="6361" y="15776"/>
                  <a:pt x="6251" y="15825"/>
                </a:cubicBezTo>
                <a:cubicBezTo>
                  <a:pt x="6161" y="15893"/>
                  <a:pt x="6135" y="15908"/>
                  <a:pt x="6102" y="15974"/>
                </a:cubicBezTo>
              </a:path>
              <a:path w="1216" h="2209">
                <a:moveTo>
                  <a:pt x="5730" y="16098"/>
                </a:moveTo>
                <a:cubicBezTo>
                  <a:pt x="5936" y="16070"/>
                  <a:pt x="6143" y="16070"/>
                  <a:pt x="6350" y="16049"/>
                </a:cubicBezTo>
                <a:cubicBezTo>
                  <a:pt x="6358" y="16049"/>
                  <a:pt x="6367" y="16049"/>
                  <a:pt x="6375" y="16049"/>
                </a:cubicBezTo>
              </a:path>
              <a:path w="1216" h="2209">
                <a:moveTo>
                  <a:pt x="6127" y="16148"/>
                </a:moveTo>
                <a:cubicBezTo>
                  <a:pt x="6160" y="16148"/>
                  <a:pt x="6193" y="16148"/>
                  <a:pt x="6226" y="16148"/>
                </a:cubicBezTo>
                <a:cubicBezTo>
                  <a:pt x="6235" y="16232"/>
                  <a:pt x="6283" y="16331"/>
                  <a:pt x="6201" y="16396"/>
                </a:cubicBezTo>
                <a:cubicBezTo>
                  <a:pt x="6157" y="16431"/>
                  <a:pt x="6089" y="16396"/>
                  <a:pt x="6028" y="16396"/>
                </a:cubicBezTo>
                <a:cubicBezTo>
                  <a:pt x="6003" y="16396"/>
                  <a:pt x="5995" y="16396"/>
                  <a:pt x="6003" y="16371"/>
                </a:cubicBezTo>
                <a:cubicBezTo>
                  <a:pt x="6060" y="16305"/>
                  <a:pt x="6133" y="16252"/>
                  <a:pt x="6226" y="16297"/>
                </a:cubicBezTo>
                <a:cubicBezTo>
                  <a:pt x="6297" y="16331"/>
                  <a:pt x="6282" y="16417"/>
                  <a:pt x="6400" y="16371"/>
                </a:cubicBezTo>
                <a:cubicBezTo>
                  <a:pt x="6425" y="16354"/>
                  <a:pt x="6449" y="16338"/>
                  <a:pt x="6474" y="16321"/>
                </a:cubicBezTo>
              </a:path>
              <a:path w="1216" h="2209">
                <a:moveTo>
                  <a:pt x="6697" y="15627"/>
                </a:moveTo>
                <a:cubicBezTo>
                  <a:pt x="6697" y="15737"/>
                  <a:pt x="6715" y="15841"/>
                  <a:pt x="6722" y="15949"/>
                </a:cubicBezTo>
                <a:cubicBezTo>
                  <a:pt x="6722" y="15990"/>
                  <a:pt x="6722" y="16032"/>
                  <a:pt x="6722" y="16073"/>
                </a:cubicBezTo>
              </a:path>
              <a:path w="1216" h="2209">
                <a:moveTo>
                  <a:pt x="6747" y="16024"/>
                </a:moveTo>
                <a:cubicBezTo>
                  <a:pt x="6733" y="16158"/>
                  <a:pt x="6657" y="16149"/>
                  <a:pt x="6573" y="16247"/>
                </a:cubicBezTo>
                <a:cubicBezTo>
                  <a:pt x="6573" y="16255"/>
                  <a:pt x="6573" y="16264"/>
                  <a:pt x="6573" y="16272"/>
                </a:cubicBezTo>
                <a:cubicBezTo>
                  <a:pt x="6600" y="16280"/>
                  <a:pt x="6848" y="16329"/>
                  <a:pt x="6796" y="16396"/>
                </a:cubicBezTo>
                <a:cubicBezTo>
                  <a:pt x="6780" y="16404"/>
                  <a:pt x="6763" y="16413"/>
                  <a:pt x="6747" y="16421"/>
                </a:cubicBezTo>
                <a:cubicBezTo>
                  <a:pt x="6665" y="16401"/>
                  <a:pt x="6690" y="16313"/>
                  <a:pt x="6722" y="16247"/>
                </a:cubicBezTo>
                <a:cubicBezTo>
                  <a:pt x="6747" y="16196"/>
                  <a:pt x="6843" y="16136"/>
                  <a:pt x="6772" y="16073"/>
                </a:cubicBezTo>
                <a:cubicBezTo>
                  <a:pt x="6764" y="16073"/>
                  <a:pt x="6755" y="16073"/>
                  <a:pt x="6747" y="16073"/>
                </a:cubicBezTo>
              </a:path>
              <a:path w="1216" h="2209">
                <a:moveTo>
                  <a:pt x="6176" y="16669"/>
                </a:moveTo>
                <a:cubicBezTo>
                  <a:pt x="6197" y="16607"/>
                  <a:pt x="6309" y="16646"/>
                  <a:pt x="6350" y="16694"/>
                </a:cubicBezTo>
                <a:cubicBezTo>
                  <a:pt x="6505" y="16877"/>
                  <a:pt x="6291" y="16989"/>
                  <a:pt x="6152" y="17041"/>
                </a:cubicBezTo>
                <a:cubicBezTo>
                  <a:pt x="6152" y="16919"/>
                  <a:pt x="6118" y="16844"/>
                  <a:pt x="6276" y="16867"/>
                </a:cubicBezTo>
                <a:cubicBezTo>
                  <a:pt x="6438" y="16890"/>
                  <a:pt x="6353" y="16977"/>
                  <a:pt x="6499" y="16818"/>
                </a:cubicBezTo>
              </a:path>
              <a:path w="1216" h="2209">
                <a:moveTo>
                  <a:pt x="6548" y="16619"/>
                </a:moveTo>
                <a:cubicBezTo>
                  <a:pt x="6616" y="16636"/>
                  <a:pt x="6717" y="16642"/>
                  <a:pt x="6796" y="16619"/>
                </a:cubicBezTo>
                <a:cubicBezTo>
                  <a:pt x="6891" y="16592"/>
                  <a:pt x="6868" y="16732"/>
                  <a:pt x="6871" y="16818"/>
                </a:cubicBezTo>
                <a:cubicBezTo>
                  <a:pt x="6873" y="16883"/>
                  <a:pt x="6884" y="16917"/>
                  <a:pt x="6846" y="16942"/>
                </a:cubicBezTo>
              </a:path>
              <a:path w="1216" h="2209">
                <a:moveTo>
                  <a:pt x="5755" y="16842"/>
                </a:moveTo>
                <a:cubicBezTo>
                  <a:pt x="5845" y="16820"/>
                  <a:pt x="5909" y="16818"/>
                  <a:pt x="6003" y="16818"/>
                </a:cubicBezTo>
              </a:path>
              <a:path w="1216" h="2209">
                <a:moveTo>
                  <a:pt x="5978" y="17264"/>
                </a:moveTo>
                <a:cubicBezTo>
                  <a:pt x="6240" y="17218"/>
                  <a:pt x="6505" y="17153"/>
                  <a:pt x="6772" y="17165"/>
                </a:cubicBezTo>
                <a:cubicBezTo>
                  <a:pt x="6889" y="17185"/>
                  <a:pt x="6925" y="17164"/>
                  <a:pt x="6945" y="17239"/>
                </a:cubicBezTo>
              </a:path>
              <a:path w="1216" h="2209">
                <a:moveTo>
                  <a:pt x="6747" y="17363"/>
                </a:moveTo>
                <a:cubicBezTo>
                  <a:pt x="6747" y="17520"/>
                  <a:pt x="6747" y="17678"/>
                  <a:pt x="6747" y="178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2678040"/>
            <a:ext cx="955800" cy="1100160"/>
          </a:xfrm>
          <a:custGeom>
            <a:avLst/>
            <a:gdLst/>
            <a:ahLst/>
            <a:rect l="l" t="t" r="r" b="b"/>
            <a:pathLst>
              <a:path w="2655" h="3052">
                <a:moveTo>
                  <a:pt x="4093" y="8210"/>
                </a:moveTo>
                <a:cubicBezTo>
                  <a:pt x="4111" y="8106"/>
                  <a:pt x="4110" y="8136"/>
                  <a:pt x="4192" y="8086"/>
                </a:cubicBezTo>
                <a:cubicBezTo>
                  <a:pt x="4366" y="8213"/>
                  <a:pt x="4361" y="8369"/>
                  <a:pt x="4192" y="8533"/>
                </a:cubicBezTo>
                <a:cubicBezTo>
                  <a:pt x="4088" y="8634"/>
                  <a:pt x="4045" y="8614"/>
                  <a:pt x="3944" y="8558"/>
                </a:cubicBezTo>
                <a:cubicBezTo>
                  <a:pt x="4023" y="8398"/>
                  <a:pt x="4114" y="8462"/>
                  <a:pt x="4242" y="8558"/>
                </a:cubicBezTo>
                <a:cubicBezTo>
                  <a:pt x="4250" y="8566"/>
                  <a:pt x="4258" y="8574"/>
                  <a:pt x="4266" y="8582"/>
                </a:cubicBezTo>
              </a:path>
              <a:path w="2655" h="3052">
                <a:moveTo>
                  <a:pt x="4738" y="8186"/>
                </a:moveTo>
                <a:cubicBezTo>
                  <a:pt x="4674" y="8058"/>
                  <a:pt x="4601" y="8047"/>
                  <a:pt x="4490" y="8161"/>
                </a:cubicBezTo>
                <a:cubicBezTo>
                  <a:pt x="4425" y="8247"/>
                  <a:pt x="4400" y="8263"/>
                  <a:pt x="4415" y="8334"/>
                </a:cubicBezTo>
                <a:cubicBezTo>
                  <a:pt x="4552" y="8359"/>
                  <a:pt x="4603" y="8329"/>
                  <a:pt x="4713" y="8235"/>
                </a:cubicBezTo>
                <a:cubicBezTo>
                  <a:pt x="4750" y="8384"/>
                  <a:pt x="4764" y="8454"/>
                  <a:pt x="4738" y="8607"/>
                </a:cubicBezTo>
              </a:path>
              <a:path w="2655" h="3052">
                <a:moveTo>
                  <a:pt x="5060" y="8111"/>
                </a:moveTo>
                <a:cubicBezTo>
                  <a:pt x="5060" y="8268"/>
                  <a:pt x="5060" y="8425"/>
                  <a:pt x="5060" y="8582"/>
                </a:cubicBezTo>
              </a:path>
              <a:path w="2655" h="3052">
                <a:moveTo>
                  <a:pt x="5407" y="8111"/>
                </a:moveTo>
                <a:cubicBezTo>
                  <a:pt x="5496" y="8101"/>
                  <a:pt x="5572" y="8074"/>
                  <a:pt x="5655" y="8037"/>
                </a:cubicBezTo>
                <a:cubicBezTo>
                  <a:pt x="5723" y="8184"/>
                  <a:pt x="5753" y="8318"/>
                  <a:pt x="5730" y="8483"/>
                </a:cubicBezTo>
                <a:cubicBezTo>
                  <a:pt x="5722" y="8508"/>
                  <a:pt x="5713" y="8533"/>
                  <a:pt x="5705" y="8558"/>
                </a:cubicBezTo>
              </a:path>
              <a:path w="2655" h="3052">
                <a:moveTo>
                  <a:pt x="3994" y="8731"/>
                </a:moveTo>
                <a:cubicBezTo>
                  <a:pt x="3955" y="8556"/>
                  <a:pt x="3925" y="8389"/>
                  <a:pt x="3919" y="8210"/>
                </a:cubicBezTo>
                <a:cubicBezTo>
                  <a:pt x="3915" y="8086"/>
                  <a:pt x="4003" y="8082"/>
                  <a:pt x="4118" y="8062"/>
                </a:cubicBezTo>
                <a:cubicBezTo>
                  <a:pt x="4408" y="8012"/>
                  <a:pt x="4693" y="8012"/>
                  <a:pt x="4986" y="8012"/>
                </a:cubicBezTo>
                <a:cubicBezTo>
                  <a:pt x="5274" y="8012"/>
                  <a:pt x="5595" y="7981"/>
                  <a:pt x="5879" y="8012"/>
                </a:cubicBezTo>
                <a:cubicBezTo>
                  <a:pt x="5919" y="8032"/>
                  <a:pt x="5925" y="8041"/>
                  <a:pt x="5953" y="8037"/>
                </a:cubicBezTo>
              </a:path>
              <a:path w="2655" h="3052">
                <a:moveTo>
                  <a:pt x="3373" y="8210"/>
                </a:moveTo>
                <a:cubicBezTo>
                  <a:pt x="3347" y="8265"/>
                  <a:pt x="3335" y="8285"/>
                  <a:pt x="3299" y="8310"/>
                </a:cubicBezTo>
                <a:cubicBezTo>
                  <a:pt x="3388" y="8347"/>
                  <a:pt x="3477" y="8338"/>
                  <a:pt x="3572" y="8310"/>
                </a:cubicBezTo>
              </a:path>
              <a:path w="2655" h="3052">
                <a:moveTo>
                  <a:pt x="3547" y="8111"/>
                </a:moveTo>
                <a:cubicBezTo>
                  <a:pt x="3498" y="8269"/>
                  <a:pt x="3486" y="8441"/>
                  <a:pt x="3473" y="8607"/>
                </a:cubicBezTo>
                <a:cubicBezTo>
                  <a:pt x="3473" y="8632"/>
                  <a:pt x="3473" y="8657"/>
                  <a:pt x="3473" y="8682"/>
                </a:cubicBezTo>
              </a:path>
              <a:path w="2655" h="3052">
                <a:moveTo>
                  <a:pt x="4366" y="7466"/>
                </a:moveTo>
                <a:cubicBezTo>
                  <a:pt x="4434" y="7466"/>
                  <a:pt x="4495" y="7445"/>
                  <a:pt x="4564" y="7441"/>
                </a:cubicBezTo>
                <a:cubicBezTo>
                  <a:pt x="4572" y="7441"/>
                  <a:pt x="4581" y="7441"/>
                  <a:pt x="4589" y="7441"/>
                </a:cubicBezTo>
                <a:cubicBezTo>
                  <a:pt x="4589" y="7556"/>
                  <a:pt x="4541" y="7634"/>
                  <a:pt x="4514" y="7739"/>
                </a:cubicBezTo>
                <a:cubicBezTo>
                  <a:pt x="4514" y="7756"/>
                  <a:pt x="4514" y="7772"/>
                  <a:pt x="4514" y="7789"/>
                </a:cubicBezTo>
              </a:path>
              <a:path w="2655" h="3052">
                <a:moveTo>
                  <a:pt x="4043" y="8731"/>
                </a:moveTo>
                <a:cubicBezTo>
                  <a:pt x="4015" y="8731"/>
                  <a:pt x="4004" y="8733"/>
                  <a:pt x="3994" y="8756"/>
                </a:cubicBezTo>
                <a:cubicBezTo>
                  <a:pt x="4027" y="8745"/>
                  <a:pt x="4167" y="8641"/>
                  <a:pt x="4167" y="8756"/>
                </a:cubicBezTo>
                <a:cubicBezTo>
                  <a:pt x="4167" y="8902"/>
                  <a:pt x="4038" y="9010"/>
                  <a:pt x="3944" y="9103"/>
                </a:cubicBezTo>
                <a:cubicBezTo>
                  <a:pt x="4054" y="9103"/>
                  <a:pt x="4156" y="9086"/>
                  <a:pt x="4266" y="9079"/>
                </a:cubicBezTo>
              </a:path>
              <a:path w="2655" h="3052">
                <a:moveTo>
                  <a:pt x="4638" y="8806"/>
                </a:moveTo>
                <a:cubicBezTo>
                  <a:pt x="4536" y="8780"/>
                  <a:pt x="4497" y="8832"/>
                  <a:pt x="4415" y="8905"/>
                </a:cubicBezTo>
                <a:cubicBezTo>
                  <a:pt x="4487" y="8935"/>
                  <a:pt x="4660" y="8992"/>
                  <a:pt x="4564" y="9103"/>
                </a:cubicBezTo>
                <a:cubicBezTo>
                  <a:pt x="4516" y="9127"/>
                  <a:pt x="4502" y="9135"/>
                  <a:pt x="4465" y="9128"/>
                </a:cubicBezTo>
                <a:cubicBezTo>
                  <a:pt x="4485" y="9028"/>
                  <a:pt x="4522" y="8959"/>
                  <a:pt x="4589" y="8880"/>
                </a:cubicBezTo>
              </a:path>
              <a:path w="2655" h="3052">
                <a:moveTo>
                  <a:pt x="3621" y="9004"/>
                </a:moveTo>
                <a:cubicBezTo>
                  <a:pt x="3692" y="8968"/>
                  <a:pt x="3732" y="8955"/>
                  <a:pt x="3795" y="8954"/>
                </a:cubicBezTo>
              </a:path>
              <a:path w="2655" h="3052">
                <a:moveTo>
                  <a:pt x="3746" y="9376"/>
                </a:moveTo>
                <a:cubicBezTo>
                  <a:pt x="3984" y="9348"/>
                  <a:pt x="4223" y="9296"/>
                  <a:pt x="4465" y="9277"/>
                </a:cubicBezTo>
                <a:cubicBezTo>
                  <a:pt x="4638" y="9264"/>
                  <a:pt x="4517" y="9278"/>
                  <a:pt x="4589" y="9302"/>
                </a:cubicBezTo>
              </a:path>
              <a:path w="2655" h="3052">
                <a:moveTo>
                  <a:pt x="4539" y="9451"/>
                </a:moveTo>
                <a:cubicBezTo>
                  <a:pt x="4539" y="9543"/>
                  <a:pt x="4433" y="9681"/>
                  <a:pt x="4514" y="9723"/>
                </a:cubicBezTo>
                <a:cubicBezTo>
                  <a:pt x="4522" y="9715"/>
                  <a:pt x="4531" y="9707"/>
                  <a:pt x="4539" y="9699"/>
                </a:cubicBezTo>
              </a:path>
              <a:path w="2655" h="3052">
                <a:moveTo>
                  <a:pt x="4986" y="9029"/>
                </a:moveTo>
                <a:cubicBezTo>
                  <a:pt x="4986" y="9150"/>
                  <a:pt x="4988" y="9260"/>
                  <a:pt x="4961" y="9376"/>
                </a:cubicBezTo>
              </a:path>
              <a:path w="2655" h="3052">
                <a:moveTo>
                  <a:pt x="4862" y="9376"/>
                </a:moveTo>
                <a:cubicBezTo>
                  <a:pt x="4915" y="9456"/>
                  <a:pt x="4946" y="9332"/>
                  <a:pt x="4986" y="9302"/>
                </a:cubicBezTo>
                <a:cubicBezTo>
                  <a:pt x="5014" y="9302"/>
                  <a:pt x="5025" y="9300"/>
                  <a:pt x="5035" y="9277"/>
                </a:cubicBezTo>
              </a:path>
              <a:path w="2655" h="3052">
                <a:moveTo>
                  <a:pt x="4936" y="9525"/>
                </a:moveTo>
                <a:cubicBezTo>
                  <a:pt x="4926" y="9593"/>
                  <a:pt x="4911" y="9654"/>
                  <a:pt x="4911" y="9723"/>
                </a:cubicBezTo>
              </a:path>
              <a:path w="2655" h="3052">
                <a:moveTo>
                  <a:pt x="5035" y="9823"/>
                </a:moveTo>
                <a:cubicBezTo>
                  <a:pt x="4954" y="9832"/>
                  <a:pt x="4858" y="9851"/>
                  <a:pt x="4812" y="9897"/>
                </a:cubicBezTo>
                <a:cubicBezTo>
                  <a:pt x="4873" y="9927"/>
                  <a:pt x="5032" y="9960"/>
                  <a:pt x="5011" y="10046"/>
                </a:cubicBezTo>
                <a:cubicBezTo>
                  <a:pt x="5003" y="10054"/>
                  <a:pt x="4994" y="10063"/>
                  <a:pt x="4986" y="10071"/>
                </a:cubicBezTo>
                <a:cubicBezTo>
                  <a:pt x="4863" y="10051"/>
                  <a:pt x="4969" y="9964"/>
                  <a:pt x="5011" y="9897"/>
                </a:cubicBezTo>
                <a:cubicBezTo>
                  <a:pt x="5030" y="9856"/>
                  <a:pt x="5038" y="9850"/>
                  <a:pt x="5035" y="9823"/>
                </a:cubicBezTo>
              </a:path>
              <a:path w="2655" h="3052">
                <a:moveTo>
                  <a:pt x="4440" y="10145"/>
                </a:moveTo>
                <a:cubicBezTo>
                  <a:pt x="4663" y="10123"/>
                  <a:pt x="4885" y="10074"/>
                  <a:pt x="5110" y="10046"/>
                </a:cubicBezTo>
                <a:cubicBezTo>
                  <a:pt x="5135" y="10046"/>
                  <a:pt x="5143" y="10046"/>
                  <a:pt x="5159" y="10046"/>
                </a:cubicBezTo>
              </a:path>
              <a:path w="2655" h="3052">
                <a:moveTo>
                  <a:pt x="4986" y="10269"/>
                </a:moveTo>
                <a:cubicBezTo>
                  <a:pt x="4994" y="10263"/>
                  <a:pt x="5077" y="10203"/>
                  <a:pt x="5085" y="10220"/>
                </a:cubicBezTo>
                <a:cubicBezTo>
                  <a:pt x="5107" y="10269"/>
                  <a:pt x="5061" y="10312"/>
                  <a:pt x="5035" y="10344"/>
                </a:cubicBezTo>
                <a:cubicBezTo>
                  <a:pt x="5100" y="10328"/>
                  <a:pt x="5117" y="10324"/>
                  <a:pt x="5184" y="10368"/>
                </a:cubicBezTo>
                <a:cubicBezTo>
                  <a:pt x="5162" y="10416"/>
                  <a:pt x="5071" y="10583"/>
                  <a:pt x="4986" y="10492"/>
                </a:cubicBezTo>
                <a:cubicBezTo>
                  <a:pt x="4978" y="10467"/>
                  <a:pt x="4969" y="10443"/>
                  <a:pt x="4961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9840" y="5205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43" y="14461"/>
                </a:moveTo>
                <a:lnTo>
                  <a:pt x="943" y="1446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6840" y="1303200"/>
            <a:ext cx="2662200" cy="4537080"/>
          </a:xfrm>
          <a:custGeom>
            <a:avLst/>
            <a:gdLst/>
            <a:ahLst/>
            <a:rect l="l" t="t" r="r" b="b"/>
            <a:pathLst>
              <a:path w="7393" h="12602">
                <a:moveTo>
                  <a:pt x="16520" y="3621"/>
                </a:moveTo>
                <a:cubicBezTo>
                  <a:pt x="16585" y="3792"/>
                  <a:pt x="16608" y="3963"/>
                  <a:pt x="16644" y="4142"/>
                </a:cubicBezTo>
              </a:path>
              <a:path w="7393" h="12602">
                <a:moveTo>
                  <a:pt x="16942" y="7665"/>
                </a:moveTo>
                <a:cubicBezTo>
                  <a:pt x="17031" y="7642"/>
                  <a:pt x="17123" y="7613"/>
                  <a:pt x="17214" y="7590"/>
                </a:cubicBezTo>
              </a:path>
              <a:path w="7393" h="12602">
                <a:moveTo>
                  <a:pt x="18926" y="9500"/>
                </a:moveTo>
                <a:cubicBezTo>
                  <a:pt x="18908" y="9590"/>
                  <a:pt x="18887" y="9682"/>
                  <a:pt x="18876" y="9773"/>
                </a:cubicBezTo>
              </a:path>
              <a:path w="7393" h="12602">
                <a:moveTo>
                  <a:pt x="18752" y="10046"/>
                </a:moveTo>
                <a:cubicBezTo>
                  <a:pt x="18793" y="10117"/>
                  <a:pt x="18798" y="10193"/>
                  <a:pt x="18827" y="10269"/>
                </a:cubicBezTo>
              </a:path>
              <a:path w="7393" h="12602">
                <a:moveTo>
                  <a:pt x="18703" y="10641"/>
                </a:moveTo>
                <a:cubicBezTo>
                  <a:pt x="18779" y="10628"/>
                  <a:pt x="18829" y="10601"/>
                  <a:pt x="18901" y="10567"/>
                </a:cubicBezTo>
              </a:path>
              <a:path w="7393" h="12602">
                <a:moveTo>
                  <a:pt x="19174" y="10468"/>
                </a:moveTo>
                <a:cubicBezTo>
                  <a:pt x="19217" y="10575"/>
                  <a:pt x="19228" y="10598"/>
                  <a:pt x="19248" y="10666"/>
                </a:cubicBezTo>
              </a:path>
              <a:path w="7393" h="12602">
                <a:moveTo>
                  <a:pt x="21927" y="14163"/>
                </a:moveTo>
                <a:cubicBezTo>
                  <a:pt x="21927" y="14180"/>
                  <a:pt x="21927" y="14196"/>
                  <a:pt x="21927" y="14213"/>
                </a:cubicBezTo>
              </a:path>
              <a:path w="7393" h="12602">
                <a:moveTo>
                  <a:pt x="21258" y="15081"/>
                </a:moveTo>
                <a:cubicBezTo>
                  <a:pt x="21450" y="15037"/>
                  <a:pt x="21640" y="14979"/>
                  <a:pt x="21828" y="14932"/>
                </a:cubicBezTo>
              </a:path>
              <a:path w="7393" h="12602">
                <a:moveTo>
                  <a:pt x="21506" y="16222"/>
                </a:moveTo>
                <a:cubicBezTo>
                  <a:pt x="21739" y="16180"/>
                  <a:pt x="21969" y="16145"/>
                  <a:pt x="22200" y="16098"/>
                </a:cubicBezTo>
              </a:path>
              <a:path w="7393" h="12602">
                <a:moveTo>
                  <a:pt x="23887" y="12601"/>
                </a:moveTo>
                <a:cubicBezTo>
                  <a:pt x="23895" y="12617"/>
                  <a:pt x="23904" y="12634"/>
                  <a:pt x="23912" y="126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76920" y="1098720"/>
            <a:ext cx="1509840" cy="2901960"/>
          </a:xfrm>
          <a:custGeom>
            <a:avLst/>
            <a:gdLst/>
            <a:ahLst/>
            <a:rect l="l" t="t" r="r" b="b"/>
            <a:pathLst>
              <a:path w="4193" h="8062">
                <a:moveTo>
                  <a:pt x="16148" y="6350"/>
                </a:moveTo>
                <a:cubicBezTo>
                  <a:pt x="16208" y="6350"/>
                  <a:pt x="16226" y="6341"/>
                  <a:pt x="16297" y="6325"/>
                </a:cubicBezTo>
              </a:path>
              <a:path w="4193" h="8062">
                <a:moveTo>
                  <a:pt x="16619" y="6722"/>
                </a:moveTo>
                <a:cubicBezTo>
                  <a:pt x="16581" y="6875"/>
                  <a:pt x="16552" y="7008"/>
                  <a:pt x="16545" y="7169"/>
                </a:cubicBezTo>
                <a:cubicBezTo>
                  <a:pt x="16709" y="7145"/>
                  <a:pt x="16851" y="7101"/>
                  <a:pt x="16818" y="6896"/>
                </a:cubicBezTo>
                <a:cubicBezTo>
                  <a:pt x="16782" y="6806"/>
                  <a:pt x="16801" y="6764"/>
                  <a:pt x="16743" y="6772"/>
                </a:cubicBezTo>
              </a:path>
              <a:path w="4193" h="8062">
                <a:moveTo>
                  <a:pt x="17066" y="4192"/>
                </a:moveTo>
                <a:cubicBezTo>
                  <a:pt x="17066" y="4121"/>
                  <a:pt x="17034" y="4287"/>
                  <a:pt x="17041" y="4291"/>
                </a:cubicBezTo>
                <a:cubicBezTo>
                  <a:pt x="17126" y="4349"/>
                  <a:pt x="17075" y="4233"/>
                  <a:pt x="17066" y="4217"/>
                </a:cubicBezTo>
                <a:cubicBezTo>
                  <a:pt x="17071" y="4236"/>
                  <a:pt x="17090" y="4322"/>
                  <a:pt x="17090" y="4266"/>
                </a:cubicBezTo>
              </a:path>
              <a:path w="4193" h="8062">
                <a:moveTo>
                  <a:pt x="17587" y="5928"/>
                </a:moveTo>
                <a:cubicBezTo>
                  <a:pt x="17587" y="5899"/>
                  <a:pt x="17608" y="6241"/>
                  <a:pt x="17611" y="6300"/>
                </a:cubicBezTo>
                <a:cubicBezTo>
                  <a:pt x="17611" y="6416"/>
                  <a:pt x="17611" y="6433"/>
                  <a:pt x="17611" y="6499"/>
                </a:cubicBezTo>
              </a:path>
              <a:path w="4193" h="8062">
                <a:moveTo>
                  <a:pt x="17413" y="6796"/>
                </a:moveTo>
                <a:cubicBezTo>
                  <a:pt x="17434" y="6713"/>
                  <a:pt x="17537" y="6701"/>
                  <a:pt x="17611" y="6672"/>
                </a:cubicBezTo>
                <a:cubicBezTo>
                  <a:pt x="17692" y="6807"/>
                  <a:pt x="17667" y="6882"/>
                  <a:pt x="17562" y="6995"/>
                </a:cubicBezTo>
                <a:cubicBezTo>
                  <a:pt x="17554" y="7003"/>
                  <a:pt x="17545" y="7012"/>
                  <a:pt x="17537" y="7020"/>
                </a:cubicBezTo>
                <a:cubicBezTo>
                  <a:pt x="17564" y="6967"/>
                  <a:pt x="17678" y="6924"/>
                  <a:pt x="17711" y="7020"/>
                </a:cubicBezTo>
                <a:cubicBezTo>
                  <a:pt x="17766" y="7179"/>
                  <a:pt x="17550" y="7246"/>
                  <a:pt x="17438" y="7268"/>
                </a:cubicBezTo>
                <a:cubicBezTo>
                  <a:pt x="17396" y="7268"/>
                  <a:pt x="17380" y="7276"/>
                  <a:pt x="17388" y="7243"/>
                </a:cubicBezTo>
              </a:path>
              <a:path w="4193" h="8062">
                <a:moveTo>
                  <a:pt x="17438" y="3696"/>
                </a:moveTo>
                <a:cubicBezTo>
                  <a:pt x="17497" y="3919"/>
                  <a:pt x="17533" y="4113"/>
                  <a:pt x="17512" y="4341"/>
                </a:cubicBezTo>
              </a:path>
              <a:path w="4193" h="8062">
                <a:moveTo>
                  <a:pt x="17413" y="7590"/>
                </a:moveTo>
                <a:cubicBezTo>
                  <a:pt x="17438" y="7468"/>
                  <a:pt x="17532" y="7455"/>
                  <a:pt x="17636" y="7417"/>
                </a:cubicBezTo>
                <a:cubicBezTo>
                  <a:pt x="17695" y="7591"/>
                  <a:pt x="17665" y="7817"/>
                  <a:pt x="17438" y="7888"/>
                </a:cubicBezTo>
                <a:cubicBezTo>
                  <a:pt x="17353" y="7867"/>
                  <a:pt x="17327" y="7873"/>
                  <a:pt x="17314" y="7813"/>
                </a:cubicBezTo>
                <a:cubicBezTo>
                  <a:pt x="17435" y="7714"/>
                  <a:pt x="17501" y="7731"/>
                  <a:pt x="17661" y="7789"/>
                </a:cubicBezTo>
              </a:path>
              <a:path w="4193" h="8062">
                <a:moveTo>
                  <a:pt x="16966" y="7962"/>
                </a:moveTo>
                <a:cubicBezTo>
                  <a:pt x="17247" y="7944"/>
                  <a:pt x="17530" y="7838"/>
                  <a:pt x="17810" y="7838"/>
                </a:cubicBezTo>
                <a:cubicBezTo>
                  <a:pt x="17884" y="7857"/>
                  <a:pt x="17891" y="7865"/>
                  <a:pt x="17934" y="7863"/>
                </a:cubicBezTo>
              </a:path>
              <a:path w="4193" h="8062">
                <a:moveTo>
                  <a:pt x="17661" y="8062"/>
                </a:moveTo>
                <a:cubicBezTo>
                  <a:pt x="17649" y="8129"/>
                  <a:pt x="17636" y="8356"/>
                  <a:pt x="17636" y="8334"/>
                </a:cubicBezTo>
              </a:path>
              <a:path w="4193" h="8062">
                <a:moveTo>
                  <a:pt x="17959" y="6028"/>
                </a:moveTo>
                <a:cubicBezTo>
                  <a:pt x="18048" y="6050"/>
                  <a:pt x="18031" y="6149"/>
                  <a:pt x="18033" y="6226"/>
                </a:cubicBezTo>
                <a:cubicBezTo>
                  <a:pt x="18038" y="6383"/>
                  <a:pt x="18041" y="6519"/>
                  <a:pt x="18083" y="6672"/>
                </a:cubicBezTo>
                <a:cubicBezTo>
                  <a:pt x="18112" y="6779"/>
                  <a:pt x="18130" y="6892"/>
                  <a:pt x="18157" y="6995"/>
                </a:cubicBezTo>
                <a:cubicBezTo>
                  <a:pt x="18181" y="7043"/>
                  <a:pt x="18189" y="7057"/>
                  <a:pt x="18182" y="7094"/>
                </a:cubicBezTo>
              </a:path>
              <a:path w="4193" h="8062">
                <a:moveTo>
                  <a:pt x="18058" y="7962"/>
                </a:moveTo>
                <a:cubicBezTo>
                  <a:pt x="18092" y="8014"/>
                  <a:pt x="18183" y="7969"/>
                  <a:pt x="18256" y="7962"/>
                </a:cubicBezTo>
                <a:cubicBezTo>
                  <a:pt x="18256" y="8049"/>
                  <a:pt x="18234" y="8123"/>
                  <a:pt x="18231" y="8210"/>
                </a:cubicBezTo>
                <a:cubicBezTo>
                  <a:pt x="18231" y="8235"/>
                  <a:pt x="18231" y="8260"/>
                  <a:pt x="18231" y="8285"/>
                </a:cubicBezTo>
              </a:path>
              <a:path w="4193" h="8062">
                <a:moveTo>
                  <a:pt x="18058" y="3696"/>
                </a:moveTo>
                <a:cubicBezTo>
                  <a:pt x="18041" y="3834"/>
                  <a:pt x="18007" y="3931"/>
                  <a:pt x="18033" y="4068"/>
                </a:cubicBezTo>
                <a:cubicBezTo>
                  <a:pt x="18052" y="4142"/>
                  <a:pt x="18060" y="4149"/>
                  <a:pt x="18058" y="4192"/>
                </a:cubicBezTo>
                <a:cubicBezTo>
                  <a:pt x="18108" y="4192"/>
                  <a:pt x="18157" y="4192"/>
                  <a:pt x="18207" y="4192"/>
                </a:cubicBezTo>
              </a:path>
              <a:path w="4193" h="8062">
                <a:moveTo>
                  <a:pt x="18157" y="3671"/>
                </a:moveTo>
                <a:cubicBezTo>
                  <a:pt x="18165" y="3671"/>
                  <a:pt x="18174" y="3671"/>
                  <a:pt x="18182" y="3671"/>
                </a:cubicBezTo>
                <a:cubicBezTo>
                  <a:pt x="18182" y="3607"/>
                  <a:pt x="18174" y="3621"/>
                  <a:pt x="18107" y="3621"/>
                </a:cubicBezTo>
                <a:cubicBezTo>
                  <a:pt x="18030" y="3621"/>
                  <a:pt x="17997" y="3677"/>
                  <a:pt x="17983" y="3746"/>
                </a:cubicBezTo>
                <a:cubicBezTo>
                  <a:pt x="17967" y="3826"/>
                  <a:pt x="17999" y="3833"/>
                  <a:pt x="18058" y="3870"/>
                </a:cubicBezTo>
                <a:cubicBezTo>
                  <a:pt x="18128" y="3915"/>
                  <a:pt x="18249" y="3958"/>
                  <a:pt x="18306" y="4018"/>
                </a:cubicBezTo>
                <a:cubicBezTo>
                  <a:pt x="18373" y="4088"/>
                  <a:pt x="18329" y="4183"/>
                  <a:pt x="18256" y="4217"/>
                </a:cubicBezTo>
                <a:cubicBezTo>
                  <a:pt x="18151" y="4265"/>
                  <a:pt x="18139" y="4235"/>
                  <a:pt x="18083" y="4142"/>
                </a:cubicBezTo>
                <a:cubicBezTo>
                  <a:pt x="18037" y="4066"/>
                  <a:pt x="18061" y="4012"/>
                  <a:pt x="18107" y="3944"/>
                </a:cubicBezTo>
                <a:cubicBezTo>
                  <a:pt x="18152" y="3877"/>
                  <a:pt x="18180" y="3839"/>
                  <a:pt x="18207" y="3770"/>
                </a:cubicBezTo>
                <a:cubicBezTo>
                  <a:pt x="18234" y="3701"/>
                  <a:pt x="18243" y="3675"/>
                  <a:pt x="18157" y="3646"/>
                </a:cubicBezTo>
                <a:cubicBezTo>
                  <a:pt x="18089" y="3623"/>
                  <a:pt x="18056" y="3664"/>
                  <a:pt x="18033" y="3721"/>
                </a:cubicBezTo>
                <a:cubicBezTo>
                  <a:pt x="18025" y="3746"/>
                  <a:pt x="18016" y="3770"/>
                  <a:pt x="18008" y="3795"/>
                </a:cubicBezTo>
              </a:path>
              <a:path w="4193" h="8062">
                <a:moveTo>
                  <a:pt x="17785" y="8533"/>
                </a:moveTo>
                <a:cubicBezTo>
                  <a:pt x="17739" y="8563"/>
                  <a:pt x="17760" y="8659"/>
                  <a:pt x="17760" y="8731"/>
                </a:cubicBezTo>
                <a:cubicBezTo>
                  <a:pt x="17760" y="8739"/>
                  <a:pt x="17760" y="8748"/>
                  <a:pt x="17760" y="8756"/>
                </a:cubicBezTo>
              </a:path>
              <a:path w="4193" h="8062">
                <a:moveTo>
                  <a:pt x="18058" y="8434"/>
                </a:moveTo>
                <a:cubicBezTo>
                  <a:pt x="18071" y="8499"/>
                  <a:pt x="18080" y="8675"/>
                  <a:pt x="18157" y="8706"/>
                </a:cubicBezTo>
                <a:cubicBezTo>
                  <a:pt x="18286" y="8757"/>
                  <a:pt x="18339" y="8611"/>
                  <a:pt x="18331" y="8533"/>
                </a:cubicBezTo>
                <a:cubicBezTo>
                  <a:pt x="18232" y="8557"/>
                  <a:pt x="18208" y="8614"/>
                  <a:pt x="18157" y="8706"/>
                </a:cubicBezTo>
              </a:path>
              <a:path w="4193" h="8062">
                <a:moveTo>
                  <a:pt x="17314" y="8607"/>
                </a:moveTo>
                <a:cubicBezTo>
                  <a:pt x="17440" y="8582"/>
                  <a:pt x="17555" y="8582"/>
                  <a:pt x="17686" y="8582"/>
                </a:cubicBezTo>
              </a:path>
              <a:path w="4193" h="8062">
                <a:moveTo>
                  <a:pt x="17512" y="8954"/>
                </a:moveTo>
                <a:cubicBezTo>
                  <a:pt x="17737" y="8954"/>
                  <a:pt x="17935" y="8900"/>
                  <a:pt x="18157" y="8880"/>
                </a:cubicBezTo>
                <a:cubicBezTo>
                  <a:pt x="18248" y="8880"/>
                  <a:pt x="18256" y="8880"/>
                  <a:pt x="18306" y="8880"/>
                </a:cubicBezTo>
              </a:path>
              <a:path w="4193" h="8062">
                <a:moveTo>
                  <a:pt x="18281" y="8979"/>
                </a:moveTo>
                <a:cubicBezTo>
                  <a:pt x="18281" y="9120"/>
                  <a:pt x="18281" y="9260"/>
                  <a:pt x="18281" y="9401"/>
                </a:cubicBezTo>
              </a:path>
              <a:path w="4193" h="8062">
                <a:moveTo>
                  <a:pt x="18728" y="6276"/>
                </a:moveTo>
                <a:cubicBezTo>
                  <a:pt x="18728" y="6268"/>
                  <a:pt x="18728" y="6259"/>
                  <a:pt x="18728" y="6251"/>
                </a:cubicBezTo>
                <a:cubicBezTo>
                  <a:pt x="18728" y="6343"/>
                  <a:pt x="18741" y="6383"/>
                  <a:pt x="18752" y="6474"/>
                </a:cubicBezTo>
                <a:cubicBezTo>
                  <a:pt x="18787" y="6748"/>
                  <a:pt x="18823" y="7017"/>
                  <a:pt x="18827" y="7293"/>
                </a:cubicBezTo>
                <a:cubicBezTo>
                  <a:pt x="18829" y="7443"/>
                  <a:pt x="18828" y="7592"/>
                  <a:pt x="18852" y="7739"/>
                </a:cubicBezTo>
                <a:cubicBezTo>
                  <a:pt x="18876" y="7888"/>
                  <a:pt x="18892" y="8037"/>
                  <a:pt x="18926" y="8186"/>
                </a:cubicBezTo>
                <a:cubicBezTo>
                  <a:pt x="18948" y="8283"/>
                  <a:pt x="18972" y="8387"/>
                  <a:pt x="18976" y="8483"/>
                </a:cubicBezTo>
                <a:cubicBezTo>
                  <a:pt x="18979" y="8551"/>
                  <a:pt x="18987" y="8579"/>
                  <a:pt x="19000" y="8632"/>
                </a:cubicBezTo>
              </a:path>
              <a:path w="4193" h="8062">
                <a:moveTo>
                  <a:pt x="19100" y="8930"/>
                </a:moveTo>
                <a:cubicBezTo>
                  <a:pt x="19020" y="8930"/>
                  <a:pt x="18953" y="8966"/>
                  <a:pt x="18876" y="8979"/>
                </a:cubicBezTo>
                <a:cubicBezTo>
                  <a:pt x="18801" y="8992"/>
                  <a:pt x="18827" y="9016"/>
                  <a:pt x="18827" y="9103"/>
                </a:cubicBezTo>
                <a:cubicBezTo>
                  <a:pt x="18827" y="9111"/>
                  <a:pt x="18827" y="9120"/>
                  <a:pt x="18827" y="9128"/>
                </a:cubicBezTo>
                <a:cubicBezTo>
                  <a:pt x="18906" y="9117"/>
                  <a:pt x="19039" y="9047"/>
                  <a:pt x="19075" y="9153"/>
                </a:cubicBezTo>
                <a:cubicBezTo>
                  <a:pt x="19145" y="9363"/>
                  <a:pt x="18914" y="9338"/>
                  <a:pt x="18802" y="9327"/>
                </a:cubicBezTo>
              </a:path>
              <a:path w="4193" h="8062">
                <a:moveTo>
                  <a:pt x="18604" y="3770"/>
                </a:moveTo>
                <a:cubicBezTo>
                  <a:pt x="18714" y="3755"/>
                  <a:pt x="18796" y="3701"/>
                  <a:pt x="18901" y="3671"/>
                </a:cubicBezTo>
                <a:cubicBezTo>
                  <a:pt x="18909" y="3671"/>
                  <a:pt x="18918" y="3671"/>
                  <a:pt x="18926" y="3671"/>
                </a:cubicBezTo>
                <a:cubicBezTo>
                  <a:pt x="18910" y="3829"/>
                  <a:pt x="18883" y="3983"/>
                  <a:pt x="18876" y="4142"/>
                </a:cubicBezTo>
                <a:cubicBezTo>
                  <a:pt x="18876" y="4150"/>
                  <a:pt x="18876" y="4159"/>
                  <a:pt x="18876" y="4167"/>
                </a:cubicBezTo>
              </a:path>
              <a:path w="4193" h="8062">
                <a:moveTo>
                  <a:pt x="18430" y="9575"/>
                </a:moveTo>
                <a:cubicBezTo>
                  <a:pt x="18430" y="9666"/>
                  <a:pt x="18430" y="9756"/>
                  <a:pt x="18430" y="9847"/>
                </a:cubicBezTo>
              </a:path>
              <a:path w="4193" h="8062">
                <a:moveTo>
                  <a:pt x="18678" y="9575"/>
                </a:moveTo>
                <a:cubicBezTo>
                  <a:pt x="18699" y="9623"/>
                  <a:pt x="18718" y="9719"/>
                  <a:pt x="18802" y="9699"/>
                </a:cubicBezTo>
                <a:cubicBezTo>
                  <a:pt x="18874" y="9682"/>
                  <a:pt x="18916" y="9605"/>
                  <a:pt x="18951" y="9550"/>
                </a:cubicBezTo>
              </a:path>
              <a:path w="4193" h="8062">
                <a:moveTo>
                  <a:pt x="18207" y="10046"/>
                </a:moveTo>
                <a:cubicBezTo>
                  <a:pt x="18463" y="10072"/>
                  <a:pt x="18698" y="10008"/>
                  <a:pt x="18951" y="9947"/>
                </a:cubicBezTo>
                <a:cubicBezTo>
                  <a:pt x="19025" y="9928"/>
                  <a:pt x="19058" y="9894"/>
                  <a:pt x="19050" y="9947"/>
                </a:cubicBezTo>
              </a:path>
              <a:path w="4193" h="8062">
                <a:moveTo>
                  <a:pt x="17859" y="9748"/>
                </a:moveTo>
                <a:cubicBezTo>
                  <a:pt x="17927" y="9748"/>
                  <a:pt x="17962" y="9738"/>
                  <a:pt x="18033" y="9723"/>
                </a:cubicBezTo>
              </a:path>
              <a:path w="4193" h="8062">
                <a:moveTo>
                  <a:pt x="19248" y="5531"/>
                </a:moveTo>
                <a:cubicBezTo>
                  <a:pt x="19248" y="5473"/>
                  <a:pt x="19235" y="5438"/>
                  <a:pt x="19224" y="5383"/>
                </a:cubicBezTo>
                <a:cubicBezTo>
                  <a:pt x="19131" y="5429"/>
                  <a:pt x="19162" y="5615"/>
                  <a:pt x="19199" y="5705"/>
                </a:cubicBezTo>
                <a:cubicBezTo>
                  <a:pt x="19215" y="5722"/>
                  <a:pt x="19232" y="5738"/>
                  <a:pt x="19248" y="5755"/>
                </a:cubicBezTo>
                <a:cubicBezTo>
                  <a:pt x="19432" y="5709"/>
                  <a:pt x="19541" y="5582"/>
                  <a:pt x="19521" y="5358"/>
                </a:cubicBezTo>
                <a:cubicBezTo>
                  <a:pt x="19506" y="5189"/>
                  <a:pt x="19320" y="5066"/>
                  <a:pt x="19174" y="5184"/>
                </a:cubicBezTo>
                <a:cubicBezTo>
                  <a:pt x="19104" y="5277"/>
                  <a:pt x="19078" y="5304"/>
                  <a:pt x="19124" y="5383"/>
                </a:cubicBezTo>
              </a:path>
              <a:path w="4193" h="8062">
                <a:moveTo>
                  <a:pt x="19323" y="5978"/>
                </a:moveTo>
                <a:cubicBezTo>
                  <a:pt x="19331" y="6103"/>
                  <a:pt x="19364" y="6225"/>
                  <a:pt x="19372" y="6350"/>
                </a:cubicBezTo>
                <a:cubicBezTo>
                  <a:pt x="19387" y="6581"/>
                  <a:pt x="19410" y="6814"/>
                  <a:pt x="19422" y="7045"/>
                </a:cubicBezTo>
                <a:cubicBezTo>
                  <a:pt x="19432" y="7237"/>
                  <a:pt x="19443" y="7425"/>
                  <a:pt x="19472" y="7615"/>
                </a:cubicBezTo>
                <a:cubicBezTo>
                  <a:pt x="19504" y="7821"/>
                  <a:pt x="19491" y="8030"/>
                  <a:pt x="19521" y="8235"/>
                </a:cubicBezTo>
                <a:cubicBezTo>
                  <a:pt x="19542" y="8382"/>
                  <a:pt x="19560" y="8535"/>
                  <a:pt x="19571" y="8682"/>
                </a:cubicBezTo>
                <a:cubicBezTo>
                  <a:pt x="19583" y="8840"/>
                  <a:pt x="19581" y="8997"/>
                  <a:pt x="19596" y="9153"/>
                </a:cubicBezTo>
                <a:cubicBezTo>
                  <a:pt x="19603" y="9232"/>
                  <a:pt x="19625" y="9326"/>
                  <a:pt x="19621" y="9401"/>
                </a:cubicBezTo>
                <a:cubicBezTo>
                  <a:pt x="19621" y="9460"/>
                  <a:pt x="19618" y="9486"/>
                  <a:pt x="19596" y="9525"/>
                </a:cubicBezTo>
              </a:path>
              <a:path w="4193" h="8062">
                <a:moveTo>
                  <a:pt x="19521" y="9971"/>
                </a:moveTo>
                <a:cubicBezTo>
                  <a:pt x="19415" y="9930"/>
                  <a:pt x="19372" y="10098"/>
                  <a:pt x="19372" y="10195"/>
                </a:cubicBezTo>
                <a:cubicBezTo>
                  <a:pt x="19380" y="10228"/>
                  <a:pt x="19389" y="10261"/>
                  <a:pt x="19397" y="10294"/>
                </a:cubicBezTo>
                <a:cubicBezTo>
                  <a:pt x="19577" y="10294"/>
                  <a:pt x="19791" y="10222"/>
                  <a:pt x="19720" y="9971"/>
                </a:cubicBezTo>
                <a:cubicBezTo>
                  <a:pt x="19654" y="9884"/>
                  <a:pt x="19644" y="9856"/>
                  <a:pt x="19571" y="9847"/>
                </a:cubicBezTo>
              </a:path>
              <a:path w="4193" h="8062">
                <a:moveTo>
                  <a:pt x="19372" y="3572"/>
                </a:moveTo>
                <a:cubicBezTo>
                  <a:pt x="19317" y="3586"/>
                  <a:pt x="19266" y="3616"/>
                  <a:pt x="19199" y="3621"/>
                </a:cubicBezTo>
                <a:cubicBezTo>
                  <a:pt x="19135" y="3626"/>
                  <a:pt x="19196" y="3785"/>
                  <a:pt x="19199" y="3845"/>
                </a:cubicBezTo>
                <a:cubicBezTo>
                  <a:pt x="19199" y="3853"/>
                  <a:pt x="19199" y="3862"/>
                  <a:pt x="19199" y="3870"/>
                </a:cubicBezTo>
                <a:cubicBezTo>
                  <a:pt x="19266" y="3840"/>
                  <a:pt x="19421" y="3760"/>
                  <a:pt x="19472" y="3870"/>
                </a:cubicBezTo>
                <a:cubicBezTo>
                  <a:pt x="19559" y="4059"/>
                  <a:pt x="19312" y="4122"/>
                  <a:pt x="19199" y="4142"/>
                </a:cubicBezTo>
              </a:path>
              <a:path w="4193" h="8062">
                <a:moveTo>
                  <a:pt x="19571" y="10393"/>
                </a:moveTo>
                <a:cubicBezTo>
                  <a:pt x="19546" y="10492"/>
                  <a:pt x="19538" y="10526"/>
                  <a:pt x="19521" y="10592"/>
                </a:cubicBezTo>
                <a:cubicBezTo>
                  <a:pt x="19645" y="10643"/>
                  <a:pt x="19753" y="10594"/>
                  <a:pt x="19769" y="10443"/>
                </a:cubicBezTo>
                <a:cubicBezTo>
                  <a:pt x="19730" y="10402"/>
                  <a:pt x="19700" y="10394"/>
                  <a:pt x="19645" y="10418"/>
                </a:cubicBezTo>
              </a:path>
              <a:path w="4193" h="8062">
                <a:moveTo>
                  <a:pt x="19174" y="10939"/>
                </a:moveTo>
                <a:cubicBezTo>
                  <a:pt x="19428" y="10852"/>
                  <a:pt x="19729" y="10664"/>
                  <a:pt x="19993" y="10641"/>
                </a:cubicBezTo>
                <a:cubicBezTo>
                  <a:pt x="19993" y="10649"/>
                  <a:pt x="19993" y="10658"/>
                  <a:pt x="19993" y="10666"/>
                </a:cubicBezTo>
              </a:path>
              <a:path w="4193" h="8062">
                <a:moveTo>
                  <a:pt x="19993" y="10840"/>
                </a:moveTo>
                <a:cubicBezTo>
                  <a:pt x="19987" y="10942"/>
                  <a:pt x="19978" y="11015"/>
                  <a:pt x="19993" y="11112"/>
                </a:cubicBezTo>
                <a:cubicBezTo>
                  <a:pt x="20117" y="11087"/>
                  <a:pt x="20317" y="11011"/>
                  <a:pt x="20216" y="10840"/>
                </a:cubicBezTo>
                <a:cubicBezTo>
                  <a:pt x="20135" y="10813"/>
                  <a:pt x="20103" y="10805"/>
                  <a:pt x="20042" y="10815"/>
                </a:cubicBezTo>
              </a:path>
              <a:path w="4193" h="8062">
                <a:moveTo>
                  <a:pt x="16049" y="4663"/>
                </a:moveTo>
                <a:cubicBezTo>
                  <a:pt x="16089" y="4645"/>
                  <a:pt x="16152" y="4604"/>
                  <a:pt x="16222" y="4589"/>
                </a:cubicBezTo>
                <a:cubicBezTo>
                  <a:pt x="16311" y="4570"/>
                  <a:pt x="16403" y="4566"/>
                  <a:pt x="16495" y="4564"/>
                </a:cubicBezTo>
                <a:cubicBezTo>
                  <a:pt x="16606" y="4562"/>
                  <a:pt x="16712" y="4545"/>
                  <a:pt x="16818" y="4539"/>
                </a:cubicBezTo>
                <a:cubicBezTo>
                  <a:pt x="16937" y="4532"/>
                  <a:pt x="17048" y="4532"/>
                  <a:pt x="17165" y="4514"/>
                </a:cubicBezTo>
                <a:cubicBezTo>
                  <a:pt x="17297" y="4494"/>
                  <a:pt x="17430" y="4471"/>
                  <a:pt x="17562" y="4440"/>
                </a:cubicBezTo>
                <a:cubicBezTo>
                  <a:pt x="17697" y="4408"/>
                  <a:pt x="17844" y="4393"/>
                  <a:pt x="17983" y="4390"/>
                </a:cubicBezTo>
                <a:cubicBezTo>
                  <a:pt x="18184" y="4386"/>
                  <a:pt x="18381" y="4381"/>
                  <a:pt x="18579" y="4366"/>
                </a:cubicBezTo>
                <a:cubicBezTo>
                  <a:pt x="18723" y="4355"/>
                  <a:pt x="18865" y="4382"/>
                  <a:pt x="19000" y="4390"/>
                </a:cubicBezTo>
                <a:cubicBezTo>
                  <a:pt x="19136" y="4398"/>
                  <a:pt x="19264" y="4386"/>
                  <a:pt x="19397" y="4366"/>
                </a:cubicBezTo>
                <a:cubicBezTo>
                  <a:pt x="19489" y="4352"/>
                  <a:pt x="19610" y="4352"/>
                  <a:pt x="19695" y="4316"/>
                </a:cubicBezTo>
                <a:cubicBezTo>
                  <a:pt x="19827" y="4261"/>
                  <a:pt x="19884" y="4064"/>
                  <a:pt x="19918" y="3944"/>
                </a:cubicBezTo>
                <a:cubicBezTo>
                  <a:pt x="19970" y="3759"/>
                  <a:pt x="19932" y="3544"/>
                  <a:pt x="19769" y="3423"/>
                </a:cubicBezTo>
                <a:cubicBezTo>
                  <a:pt x="19572" y="3276"/>
                  <a:pt x="19299" y="3128"/>
                  <a:pt x="19050" y="3101"/>
                </a:cubicBezTo>
                <a:cubicBezTo>
                  <a:pt x="18925" y="3087"/>
                  <a:pt x="18805" y="3079"/>
                  <a:pt x="18678" y="3076"/>
                </a:cubicBezTo>
                <a:cubicBezTo>
                  <a:pt x="18511" y="3072"/>
                  <a:pt x="18350" y="3051"/>
                  <a:pt x="18182" y="3051"/>
                </a:cubicBezTo>
                <a:cubicBezTo>
                  <a:pt x="17955" y="3051"/>
                  <a:pt x="17713" y="3058"/>
                  <a:pt x="17487" y="3076"/>
                </a:cubicBezTo>
                <a:cubicBezTo>
                  <a:pt x="17348" y="3087"/>
                  <a:pt x="17202" y="3116"/>
                  <a:pt x="17066" y="3125"/>
                </a:cubicBezTo>
                <a:cubicBezTo>
                  <a:pt x="16896" y="3136"/>
                  <a:pt x="16728" y="3205"/>
                  <a:pt x="16570" y="3274"/>
                </a:cubicBezTo>
                <a:cubicBezTo>
                  <a:pt x="16490" y="3309"/>
                  <a:pt x="16398" y="3394"/>
                  <a:pt x="16346" y="3473"/>
                </a:cubicBezTo>
                <a:cubicBezTo>
                  <a:pt x="16292" y="3556"/>
                  <a:pt x="16241" y="3624"/>
                  <a:pt x="16197" y="3721"/>
                </a:cubicBezTo>
                <a:cubicBezTo>
                  <a:pt x="16129" y="3871"/>
                  <a:pt x="16086" y="4090"/>
                  <a:pt x="16173" y="4242"/>
                </a:cubicBezTo>
                <a:cubicBezTo>
                  <a:pt x="16227" y="4335"/>
                  <a:pt x="16333" y="4339"/>
                  <a:pt x="16421" y="4366"/>
                </a:cubicBezTo>
                <a:cubicBezTo>
                  <a:pt x="16429" y="4366"/>
                  <a:pt x="16438" y="4366"/>
                  <a:pt x="16446" y="43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66040" y="4411800"/>
            <a:ext cx="1062000" cy="2027160"/>
          </a:xfrm>
          <a:custGeom>
            <a:avLst/>
            <a:gdLst/>
            <a:ahLst/>
            <a:rect l="l" t="t" r="r" b="b"/>
            <a:pathLst>
              <a:path w="2952" h="5631">
                <a:moveTo>
                  <a:pt x="21555" y="13816"/>
                </a:moveTo>
                <a:cubicBezTo>
                  <a:pt x="21577" y="13794"/>
                  <a:pt x="21586" y="13789"/>
                  <a:pt x="21580" y="13767"/>
                </a:cubicBezTo>
                <a:cubicBezTo>
                  <a:pt x="21544" y="13776"/>
                  <a:pt x="21433" y="13826"/>
                  <a:pt x="21431" y="13866"/>
                </a:cubicBezTo>
                <a:cubicBezTo>
                  <a:pt x="21424" y="14006"/>
                  <a:pt x="21618" y="14017"/>
                  <a:pt x="21605" y="14163"/>
                </a:cubicBezTo>
                <a:cubicBezTo>
                  <a:pt x="21597" y="14180"/>
                  <a:pt x="21588" y="14196"/>
                  <a:pt x="21580" y="14213"/>
                </a:cubicBezTo>
                <a:cubicBezTo>
                  <a:pt x="21472" y="14106"/>
                  <a:pt x="21587" y="13992"/>
                  <a:pt x="21654" y="13866"/>
                </a:cubicBezTo>
                <a:cubicBezTo>
                  <a:pt x="21674" y="13825"/>
                  <a:pt x="21683" y="13819"/>
                  <a:pt x="21679" y="13791"/>
                </a:cubicBezTo>
              </a:path>
              <a:path w="2952" h="5631">
                <a:moveTo>
                  <a:pt x="22200" y="13791"/>
                </a:moveTo>
                <a:cubicBezTo>
                  <a:pt x="22238" y="13848"/>
                  <a:pt x="22141" y="14030"/>
                  <a:pt x="22175" y="14139"/>
                </a:cubicBezTo>
                <a:cubicBezTo>
                  <a:pt x="22192" y="14155"/>
                  <a:pt x="22208" y="14172"/>
                  <a:pt x="22225" y="14188"/>
                </a:cubicBezTo>
                <a:cubicBezTo>
                  <a:pt x="22410" y="14165"/>
                  <a:pt x="22517" y="14098"/>
                  <a:pt x="22399" y="13891"/>
                </a:cubicBezTo>
                <a:cubicBezTo>
                  <a:pt x="22331" y="13823"/>
                  <a:pt x="22314" y="13795"/>
                  <a:pt x="22250" y="13841"/>
                </a:cubicBezTo>
              </a:path>
              <a:path w="2952" h="5631">
                <a:moveTo>
                  <a:pt x="22671" y="13742"/>
                </a:moveTo>
                <a:cubicBezTo>
                  <a:pt x="22689" y="13867"/>
                  <a:pt x="22696" y="13985"/>
                  <a:pt x="22696" y="14114"/>
                </a:cubicBezTo>
                <a:cubicBezTo>
                  <a:pt x="22696" y="14130"/>
                  <a:pt x="22696" y="14147"/>
                  <a:pt x="22696" y="14163"/>
                </a:cubicBezTo>
              </a:path>
              <a:path w="2952" h="5631">
                <a:moveTo>
                  <a:pt x="22920" y="13717"/>
                </a:moveTo>
                <a:cubicBezTo>
                  <a:pt x="22920" y="13767"/>
                  <a:pt x="22920" y="13816"/>
                  <a:pt x="22920" y="13866"/>
                </a:cubicBezTo>
                <a:cubicBezTo>
                  <a:pt x="23021" y="13851"/>
                  <a:pt x="23115" y="13824"/>
                  <a:pt x="23217" y="13816"/>
                </a:cubicBezTo>
              </a:path>
              <a:path w="2952" h="5631">
                <a:moveTo>
                  <a:pt x="23143" y="13519"/>
                </a:moveTo>
                <a:cubicBezTo>
                  <a:pt x="23143" y="13711"/>
                  <a:pt x="23123" y="13898"/>
                  <a:pt x="23118" y="14089"/>
                </a:cubicBezTo>
                <a:cubicBezTo>
                  <a:pt x="23118" y="14106"/>
                  <a:pt x="23118" y="14122"/>
                  <a:pt x="23118" y="14139"/>
                </a:cubicBezTo>
              </a:path>
              <a:path w="2952" h="5631">
                <a:moveTo>
                  <a:pt x="21332" y="14362"/>
                </a:moveTo>
                <a:cubicBezTo>
                  <a:pt x="21320" y="14332"/>
                  <a:pt x="21295" y="14285"/>
                  <a:pt x="21282" y="14213"/>
                </a:cubicBezTo>
                <a:cubicBezTo>
                  <a:pt x="21249" y="14031"/>
                  <a:pt x="21220" y="13848"/>
                  <a:pt x="21183" y="13667"/>
                </a:cubicBezTo>
                <a:cubicBezTo>
                  <a:pt x="21183" y="13659"/>
                  <a:pt x="21183" y="13651"/>
                  <a:pt x="21183" y="13643"/>
                </a:cubicBezTo>
                <a:cubicBezTo>
                  <a:pt x="21353" y="13629"/>
                  <a:pt x="21533" y="13595"/>
                  <a:pt x="21704" y="13568"/>
                </a:cubicBezTo>
                <a:cubicBezTo>
                  <a:pt x="22158" y="13496"/>
                  <a:pt x="22614" y="13441"/>
                  <a:pt x="23068" y="13370"/>
                </a:cubicBezTo>
                <a:cubicBezTo>
                  <a:pt x="23281" y="13337"/>
                  <a:pt x="23351" y="13331"/>
                  <a:pt x="23540" y="13320"/>
                </a:cubicBezTo>
              </a:path>
              <a:path w="2952" h="5631">
                <a:moveTo>
                  <a:pt x="20836" y="13791"/>
                </a:moveTo>
                <a:cubicBezTo>
                  <a:pt x="20801" y="13827"/>
                  <a:pt x="20748" y="14066"/>
                  <a:pt x="20737" y="14188"/>
                </a:cubicBezTo>
                <a:cubicBezTo>
                  <a:pt x="20737" y="14281"/>
                  <a:pt x="20730" y="14312"/>
                  <a:pt x="20811" y="14312"/>
                </a:cubicBezTo>
                <a:cubicBezTo>
                  <a:pt x="20953" y="14269"/>
                  <a:pt x="21000" y="14205"/>
                  <a:pt x="21059" y="14064"/>
                </a:cubicBezTo>
                <a:cubicBezTo>
                  <a:pt x="20933" y="14096"/>
                  <a:pt x="20830" y="14177"/>
                  <a:pt x="20861" y="14337"/>
                </a:cubicBezTo>
                <a:cubicBezTo>
                  <a:pt x="20869" y="14337"/>
                  <a:pt x="20878" y="14337"/>
                  <a:pt x="20886" y="14337"/>
                </a:cubicBezTo>
              </a:path>
              <a:path w="2952" h="5631">
                <a:moveTo>
                  <a:pt x="21481" y="13047"/>
                </a:moveTo>
                <a:cubicBezTo>
                  <a:pt x="21497" y="13206"/>
                  <a:pt x="21478" y="13388"/>
                  <a:pt x="21506" y="13543"/>
                </a:cubicBezTo>
                <a:cubicBezTo>
                  <a:pt x="21514" y="13551"/>
                  <a:pt x="21522" y="13560"/>
                  <a:pt x="21530" y="13568"/>
                </a:cubicBezTo>
              </a:path>
              <a:path w="2952" h="5631">
                <a:moveTo>
                  <a:pt x="21605" y="14436"/>
                </a:moveTo>
                <a:cubicBezTo>
                  <a:pt x="21575" y="14525"/>
                  <a:pt x="21538" y="14632"/>
                  <a:pt x="21530" y="14759"/>
                </a:cubicBezTo>
                <a:cubicBezTo>
                  <a:pt x="21530" y="14775"/>
                  <a:pt x="21530" y="14792"/>
                  <a:pt x="21530" y="14808"/>
                </a:cubicBezTo>
                <a:cubicBezTo>
                  <a:pt x="21703" y="14822"/>
                  <a:pt x="21746" y="14775"/>
                  <a:pt x="21779" y="14610"/>
                </a:cubicBezTo>
                <a:cubicBezTo>
                  <a:pt x="21689" y="14669"/>
                  <a:pt x="21651" y="14750"/>
                  <a:pt x="21630" y="14858"/>
                </a:cubicBezTo>
              </a:path>
              <a:path w="2952" h="5631">
                <a:moveTo>
                  <a:pt x="21134" y="14684"/>
                </a:moveTo>
                <a:cubicBezTo>
                  <a:pt x="21225" y="14684"/>
                  <a:pt x="21266" y="14684"/>
                  <a:pt x="21332" y="14684"/>
                </a:cubicBezTo>
              </a:path>
              <a:path w="2952" h="5631">
                <a:moveTo>
                  <a:pt x="21481" y="15230"/>
                </a:moveTo>
                <a:cubicBezTo>
                  <a:pt x="21575" y="15189"/>
                  <a:pt x="21589" y="15180"/>
                  <a:pt x="21704" y="15180"/>
                </a:cubicBezTo>
                <a:cubicBezTo>
                  <a:pt x="21639" y="15316"/>
                  <a:pt x="21569" y="15430"/>
                  <a:pt x="21481" y="15553"/>
                </a:cubicBezTo>
                <a:cubicBezTo>
                  <a:pt x="21614" y="15571"/>
                  <a:pt x="21672" y="15549"/>
                  <a:pt x="21803" y="15503"/>
                </a:cubicBezTo>
              </a:path>
              <a:path w="2952" h="5631">
                <a:moveTo>
                  <a:pt x="21828" y="13395"/>
                </a:moveTo>
                <a:cubicBezTo>
                  <a:pt x="21804" y="13323"/>
                  <a:pt x="21792" y="13433"/>
                  <a:pt x="21779" y="13469"/>
                </a:cubicBezTo>
                <a:cubicBezTo>
                  <a:pt x="21862" y="13478"/>
                  <a:pt x="21990" y="13427"/>
                  <a:pt x="21878" y="13345"/>
                </a:cubicBezTo>
                <a:cubicBezTo>
                  <a:pt x="21792" y="13282"/>
                  <a:pt x="21815" y="13349"/>
                  <a:pt x="21828" y="13395"/>
                </a:cubicBezTo>
              </a:path>
              <a:path w="2952" h="5631">
                <a:moveTo>
                  <a:pt x="22175" y="14610"/>
                </a:moveTo>
                <a:cubicBezTo>
                  <a:pt x="22098" y="14663"/>
                  <a:pt x="22169" y="14912"/>
                  <a:pt x="22175" y="15007"/>
                </a:cubicBezTo>
                <a:cubicBezTo>
                  <a:pt x="22175" y="15032"/>
                  <a:pt x="22175" y="15056"/>
                  <a:pt x="22175" y="15081"/>
                </a:cubicBezTo>
              </a:path>
              <a:path w="2952" h="5631">
                <a:moveTo>
                  <a:pt x="22126" y="15329"/>
                </a:moveTo>
                <a:cubicBezTo>
                  <a:pt x="22086" y="15439"/>
                  <a:pt x="22088" y="15489"/>
                  <a:pt x="22101" y="15602"/>
                </a:cubicBezTo>
                <a:cubicBezTo>
                  <a:pt x="22219" y="15583"/>
                  <a:pt x="22401" y="15481"/>
                  <a:pt x="22250" y="15329"/>
                </a:cubicBezTo>
                <a:cubicBezTo>
                  <a:pt x="22168" y="15308"/>
                  <a:pt x="22152" y="15300"/>
                  <a:pt x="22101" y="15304"/>
                </a:cubicBezTo>
              </a:path>
              <a:path w="2952" h="5631">
                <a:moveTo>
                  <a:pt x="22076" y="12874"/>
                </a:moveTo>
                <a:cubicBezTo>
                  <a:pt x="22141" y="12809"/>
                  <a:pt x="22203" y="12755"/>
                  <a:pt x="22275" y="12700"/>
                </a:cubicBezTo>
                <a:cubicBezTo>
                  <a:pt x="22311" y="12786"/>
                  <a:pt x="22301" y="12897"/>
                  <a:pt x="22225" y="12973"/>
                </a:cubicBezTo>
                <a:cubicBezTo>
                  <a:pt x="22225" y="12965"/>
                  <a:pt x="22225" y="12956"/>
                  <a:pt x="22225" y="12948"/>
                </a:cubicBezTo>
                <a:cubicBezTo>
                  <a:pt x="22321" y="12932"/>
                  <a:pt x="22430" y="12948"/>
                  <a:pt x="22374" y="13097"/>
                </a:cubicBezTo>
                <a:cubicBezTo>
                  <a:pt x="22323" y="13233"/>
                  <a:pt x="22233" y="13246"/>
                  <a:pt x="22126" y="13246"/>
                </a:cubicBezTo>
              </a:path>
              <a:path w="2952" h="5631">
                <a:moveTo>
                  <a:pt x="21729" y="15751"/>
                </a:moveTo>
                <a:cubicBezTo>
                  <a:pt x="21729" y="15711"/>
                  <a:pt x="21749" y="15977"/>
                  <a:pt x="21754" y="16024"/>
                </a:cubicBezTo>
                <a:cubicBezTo>
                  <a:pt x="21754" y="16040"/>
                  <a:pt x="21754" y="16057"/>
                  <a:pt x="21754" y="16073"/>
                </a:cubicBezTo>
              </a:path>
              <a:path w="2952" h="5631">
                <a:moveTo>
                  <a:pt x="22299" y="15701"/>
                </a:moveTo>
                <a:cubicBezTo>
                  <a:pt x="22234" y="15750"/>
                  <a:pt x="22063" y="15824"/>
                  <a:pt x="22175" y="15900"/>
                </a:cubicBezTo>
                <a:cubicBezTo>
                  <a:pt x="22258" y="15941"/>
                  <a:pt x="22275" y="15949"/>
                  <a:pt x="22324" y="15974"/>
                </a:cubicBezTo>
                <a:cubicBezTo>
                  <a:pt x="22294" y="16034"/>
                  <a:pt x="22277" y="16057"/>
                  <a:pt x="22225" y="16073"/>
                </a:cubicBezTo>
                <a:cubicBezTo>
                  <a:pt x="22128" y="15962"/>
                  <a:pt x="22202" y="15908"/>
                  <a:pt x="22299" y="15801"/>
                </a:cubicBezTo>
              </a:path>
              <a:path w="2952" h="5631">
                <a:moveTo>
                  <a:pt x="21183" y="15949"/>
                </a:moveTo>
                <a:cubicBezTo>
                  <a:pt x="21291" y="15949"/>
                  <a:pt x="21398" y="15949"/>
                  <a:pt x="21506" y="15949"/>
                </a:cubicBezTo>
              </a:path>
              <a:path w="2952" h="5631">
                <a:moveTo>
                  <a:pt x="22051" y="16321"/>
                </a:moveTo>
                <a:cubicBezTo>
                  <a:pt x="22164" y="16313"/>
                  <a:pt x="22274" y="16279"/>
                  <a:pt x="22374" y="16321"/>
                </a:cubicBezTo>
                <a:cubicBezTo>
                  <a:pt x="22338" y="16458"/>
                  <a:pt x="22277" y="16547"/>
                  <a:pt x="22225" y="16669"/>
                </a:cubicBezTo>
                <a:cubicBezTo>
                  <a:pt x="22290" y="16677"/>
                  <a:pt x="22541" y="16618"/>
                  <a:pt x="22597" y="16545"/>
                </a:cubicBezTo>
                <a:cubicBezTo>
                  <a:pt x="22605" y="16512"/>
                  <a:pt x="22614" y="16479"/>
                  <a:pt x="22622" y="16446"/>
                </a:cubicBezTo>
              </a:path>
              <a:path w="2952" h="5631">
                <a:moveTo>
                  <a:pt x="22622" y="14709"/>
                </a:moveTo>
                <a:cubicBezTo>
                  <a:pt x="22622" y="14972"/>
                  <a:pt x="22634" y="15243"/>
                  <a:pt x="22671" y="15503"/>
                </a:cubicBezTo>
                <a:cubicBezTo>
                  <a:pt x="22695" y="15672"/>
                  <a:pt x="22739" y="15840"/>
                  <a:pt x="22796" y="15999"/>
                </a:cubicBezTo>
              </a:path>
              <a:path w="2952" h="5631">
                <a:moveTo>
                  <a:pt x="22622" y="16371"/>
                </a:moveTo>
                <a:cubicBezTo>
                  <a:pt x="22642" y="16452"/>
                  <a:pt x="22667" y="16524"/>
                  <a:pt x="22671" y="16619"/>
                </a:cubicBezTo>
                <a:cubicBezTo>
                  <a:pt x="22671" y="16627"/>
                  <a:pt x="22671" y="16636"/>
                  <a:pt x="22671" y="16644"/>
                </a:cubicBezTo>
              </a:path>
              <a:path w="2952" h="5631">
                <a:moveTo>
                  <a:pt x="22547" y="12799"/>
                </a:moveTo>
                <a:cubicBezTo>
                  <a:pt x="22547" y="12731"/>
                  <a:pt x="22551" y="12709"/>
                  <a:pt x="22622" y="12700"/>
                </a:cubicBezTo>
                <a:cubicBezTo>
                  <a:pt x="22731" y="12687"/>
                  <a:pt x="22759" y="12813"/>
                  <a:pt x="22671" y="12874"/>
                </a:cubicBezTo>
                <a:cubicBezTo>
                  <a:pt x="22630" y="12874"/>
                  <a:pt x="22614" y="12866"/>
                  <a:pt x="22622" y="12898"/>
                </a:cubicBezTo>
                <a:cubicBezTo>
                  <a:pt x="22695" y="12898"/>
                  <a:pt x="22726" y="12877"/>
                  <a:pt x="22721" y="12998"/>
                </a:cubicBezTo>
                <a:cubicBezTo>
                  <a:pt x="22718" y="13091"/>
                  <a:pt x="22639" y="13109"/>
                  <a:pt x="22572" y="13146"/>
                </a:cubicBezTo>
              </a:path>
              <a:path w="2952" h="5631">
                <a:moveTo>
                  <a:pt x="22250" y="16867"/>
                </a:moveTo>
                <a:cubicBezTo>
                  <a:pt x="22316" y="16901"/>
                  <a:pt x="22355" y="17085"/>
                  <a:pt x="22374" y="17165"/>
                </a:cubicBezTo>
                <a:cubicBezTo>
                  <a:pt x="22374" y="17181"/>
                  <a:pt x="22374" y="17198"/>
                  <a:pt x="22374" y="17214"/>
                </a:cubicBezTo>
              </a:path>
              <a:path w="2952" h="5631">
                <a:moveTo>
                  <a:pt x="22647" y="16768"/>
                </a:moveTo>
                <a:cubicBezTo>
                  <a:pt x="22531" y="16947"/>
                  <a:pt x="22573" y="16939"/>
                  <a:pt x="22746" y="17041"/>
                </a:cubicBezTo>
                <a:cubicBezTo>
                  <a:pt x="22771" y="17057"/>
                  <a:pt x="22795" y="17074"/>
                  <a:pt x="22820" y="17090"/>
                </a:cubicBezTo>
                <a:cubicBezTo>
                  <a:pt x="22768" y="17152"/>
                  <a:pt x="22756" y="17156"/>
                  <a:pt x="22671" y="17165"/>
                </a:cubicBezTo>
                <a:cubicBezTo>
                  <a:pt x="22692" y="17063"/>
                  <a:pt x="22721" y="16923"/>
                  <a:pt x="22796" y="16867"/>
                </a:cubicBezTo>
              </a:path>
              <a:path w="2952" h="5631">
                <a:moveTo>
                  <a:pt x="22175" y="17487"/>
                </a:moveTo>
                <a:cubicBezTo>
                  <a:pt x="22414" y="17443"/>
                  <a:pt x="22674" y="17357"/>
                  <a:pt x="22920" y="17388"/>
                </a:cubicBezTo>
                <a:cubicBezTo>
                  <a:pt x="22928" y="17396"/>
                  <a:pt x="22936" y="17405"/>
                  <a:pt x="22944" y="17413"/>
                </a:cubicBezTo>
              </a:path>
              <a:path w="2952" h="5631">
                <a:moveTo>
                  <a:pt x="22746" y="17537"/>
                </a:moveTo>
                <a:cubicBezTo>
                  <a:pt x="22793" y="17442"/>
                  <a:pt x="22806" y="17460"/>
                  <a:pt x="22895" y="17438"/>
                </a:cubicBezTo>
                <a:cubicBezTo>
                  <a:pt x="23005" y="17548"/>
                  <a:pt x="22883" y="17571"/>
                  <a:pt x="22845" y="17661"/>
                </a:cubicBezTo>
                <a:cubicBezTo>
                  <a:pt x="22853" y="17661"/>
                  <a:pt x="22862" y="17661"/>
                  <a:pt x="22870" y="17661"/>
                </a:cubicBezTo>
                <a:cubicBezTo>
                  <a:pt x="22991" y="17651"/>
                  <a:pt x="23095" y="17704"/>
                  <a:pt x="22969" y="17835"/>
                </a:cubicBezTo>
                <a:cubicBezTo>
                  <a:pt x="22892" y="17886"/>
                  <a:pt x="22864" y="17902"/>
                  <a:pt x="22796" y="17884"/>
                </a:cubicBezTo>
              </a:path>
              <a:path w="2952" h="5631">
                <a:moveTo>
                  <a:pt x="22349" y="13196"/>
                </a:moveTo>
                <a:cubicBezTo>
                  <a:pt x="22343" y="13203"/>
                  <a:pt x="22275" y="13294"/>
                  <a:pt x="22275" y="13295"/>
                </a:cubicBezTo>
                <a:cubicBezTo>
                  <a:pt x="22280" y="13318"/>
                  <a:pt x="22405" y="13254"/>
                  <a:pt x="22423" y="13246"/>
                </a:cubicBezTo>
                <a:cubicBezTo>
                  <a:pt x="22393" y="13283"/>
                  <a:pt x="22300" y="13352"/>
                  <a:pt x="22250" y="13395"/>
                </a:cubicBezTo>
                <a:cubicBezTo>
                  <a:pt x="22297" y="13368"/>
                  <a:pt x="22501" y="13295"/>
                  <a:pt x="22448" y="13295"/>
                </a:cubicBezTo>
                <a:cubicBezTo>
                  <a:pt x="22432" y="13295"/>
                  <a:pt x="22415" y="13295"/>
                  <a:pt x="22399" y="13295"/>
                </a:cubicBezTo>
              </a:path>
              <a:path w="2952" h="5631">
                <a:moveTo>
                  <a:pt x="22175" y="12502"/>
                </a:moveTo>
                <a:cubicBezTo>
                  <a:pt x="22191" y="12424"/>
                  <a:pt x="22239" y="12265"/>
                  <a:pt x="22349" y="12254"/>
                </a:cubicBezTo>
                <a:cubicBezTo>
                  <a:pt x="22447" y="12244"/>
                  <a:pt x="22496" y="12324"/>
                  <a:pt x="22547" y="12353"/>
                </a:cubicBezTo>
                <a:cubicBezTo>
                  <a:pt x="22593" y="12379"/>
                  <a:pt x="22572" y="12367"/>
                  <a:pt x="22572" y="12278"/>
                </a:cubicBezTo>
                <a:cubicBezTo>
                  <a:pt x="22572" y="12270"/>
                  <a:pt x="22572" y="12262"/>
                  <a:pt x="22572" y="12254"/>
                </a:cubicBezTo>
                <a:cubicBezTo>
                  <a:pt x="22621" y="12270"/>
                  <a:pt x="22573" y="12281"/>
                  <a:pt x="22547" y="12328"/>
                </a:cubicBezTo>
                <a:cubicBezTo>
                  <a:pt x="22531" y="12356"/>
                  <a:pt x="22531" y="12467"/>
                  <a:pt x="22473" y="12427"/>
                </a:cubicBezTo>
                <a:cubicBezTo>
                  <a:pt x="22392" y="12370"/>
                  <a:pt x="22375" y="12390"/>
                  <a:pt x="22448" y="12402"/>
                </a:cubicBezTo>
              </a:path>
              <a:path w="2952" h="5631">
                <a:moveTo>
                  <a:pt x="23589" y="12353"/>
                </a:moveTo>
                <a:cubicBezTo>
                  <a:pt x="23597" y="12336"/>
                  <a:pt x="23606" y="12320"/>
                  <a:pt x="23614" y="12303"/>
                </a:cubicBezTo>
                <a:cubicBezTo>
                  <a:pt x="23614" y="12442"/>
                  <a:pt x="23645" y="12611"/>
                  <a:pt x="23664" y="12750"/>
                </a:cubicBezTo>
                <a:cubicBezTo>
                  <a:pt x="23682" y="12824"/>
                  <a:pt x="23690" y="12831"/>
                  <a:pt x="2368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46840" y="2152800"/>
            <a:ext cx="98280" cy="1774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6619" y="6052"/>
                </a:moveTo>
                <a:cubicBezTo>
                  <a:pt x="16635" y="5991"/>
                  <a:pt x="16649" y="6006"/>
                  <a:pt x="16718" y="5978"/>
                </a:cubicBezTo>
                <a:cubicBezTo>
                  <a:pt x="16817" y="6187"/>
                  <a:pt x="16804" y="6331"/>
                  <a:pt x="16594" y="6474"/>
                </a:cubicBezTo>
                <a:cubicBezTo>
                  <a:pt x="16578" y="6474"/>
                  <a:pt x="16561" y="6474"/>
                  <a:pt x="16545" y="6474"/>
                </a:cubicBezTo>
                <a:cubicBezTo>
                  <a:pt x="16533" y="6330"/>
                  <a:pt x="16567" y="6272"/>
                  <a:pt x="16718" y="6350"/>
                </a:cubicBezTo>
                <a:cubicBezTo>
                  <a:pt x="16775" y="6388"/>
                  <a:pt x="16800" y="6382"/>
                  <a:pt x="16793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7920" y="474192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6871" y="13345"/>
                </a:moveTo>
                <a:cubicBezTo>
                  <a:pt x="6871" y="13254"/>
                  <a:pt x="6842" y="13234"/>
                  <a:pt x="6747" y="13196"/>
                </a:cubicBezTo>
                <a:cubicBezTo>
                  <a:pt x="6511" y="13102"/>
                  <a:pt x="6549" y="13391"/>
                  <a:pt x="6573" y="13519"/>
                </a:cubicBezTo>
                <a:cubicBezTo>
                  <a:pt x="6731" y="13489"/>
                  <a:pt x="6788" y="13465"/>
                  <a:pt x="6821" y="13295"/>
                </a:cubicBezTo>
                <a:cubicBezTo>
                  <a:pt x="6821" y="13477"/>
                  <a:pt x="6821" y="13659"/>
                  <a:pt x="6821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28960" y="4911840"/>
            <a:ext cx="115920" cy="22356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8334" y="13667"/>
                </a:moveTo>
                <a:cubicBezTo>
                  <a:pt x="8305" y="13849"/>
                  <a:pt x="8183" y="14006"/>
                  <a:pt x="8136" y="14188"/>
                </a:cubicBezTo>
                <a:cubicBezTo>
                  <a:pt x="8136" y="14213"/>
                  <a:pt x="8136" y="14238"/>
                  <a:pt x="8136" y="14263"/>
                </a:cubicBezTo>
                <a:cubicBezTo>
                  <a:pt x="8364" y="14213"/>
                  <a:pt x="8449" y="14085"/>
                  <a:pt x="8458" y="13841"/>
                </a:cubicBezTo>
                <a:cubicBezTo>
                  <a:pt x="8465" y="13650"/>
                  <a:pt x="8332" y="13658"/>
                  <a:pt x="8334" y="13667"/>
                </a:cubicBezTo>
                <a:cubicBezTo>
                  <a:pt x="8351" y="13700"/>
                  <a:pt x="8367" y="13734"/>
                  <a:pt x="8384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93040" y="4321080"/>
            <a:ext cx="465120" cy="447840"/>
          </a:xfrm>
          <a:custGeom>
            <a:avLst/>
            <a:gdLst/>
            <a:ahLst/>
            <a:rect l="l" t="t" r="r" b="b"/>
            <a:pathLst>
              <a:path w="1291" h="1242">
                <a:moveTo>
                  <a:pt x="23912" y="12229"/>
                </a:moveTo>
                <a:cubicBezTo>
                  <a:pt x="24010" y="12196"/>
                  <a:pt x="24015" y="12148"/>
                  <a:pt x="24110" y="12129"/>
                </a:cubicBezTo>
                <a:cubicBezTo>
                  <a:pt x="24110" y="12233"/>
                  <a:pt x="24107" y="12312"/>
                  <a:pt x="24011" y="12378"/>
                </a:cubicBezTo>
                <a:cubicBezTo>
                  <a:pt x="24003" y="12378"/>
                  <a:pt x="23994" y="12378"/>
                  <a:pt x="23986" y="12378"/>
                </a:cubicBezTo>
                <a:cubicBezTo>
                  <a:pt x="24070" y="12282"/>
                  <a:pt x="24234" y="12228"/>
                  <a:pt x="24259" y="12427"/>
                </a:cubicBezTo>
                <a:cubicBezTo>
                  <a:pt x="24284" y="12622"/>
                  <a:pt x="24129" y="12665"/>
                  <a:pt x="23986" y="12675"/>
                </a:cubicBezTo>
              </a:path>
              <a:path w="1291" h="1242">
                <a:moveTo>
                  <a:pt x="23564" y="13196"/>
                </a:moveTo>
                <a:cubicBezTo>
                  <a:pt x="23804" y="13242"/>
                  <a:pt x="24014" y="13241"/>
                  <a:pt x="24234" y="13097"/>
                </a:cubicBezTo>
                <a:cubicBezTo>
                  <a:pt x="24428" y="12970"/>
                  <a:pt x="24663" y="12623"/>
                  <a:pt x="24606" y="12378"/>
                </a:cubicBezTo>
                <a:cubicBezTo>
                  <a:pt x="24520" y="12008"/>
                  <a:pt x="24022" y="11949"/>
                  <a:pt x="23713" y="12005"/>
                </a:cubicBezTo>
                <a:cubicBezTo>
                  <a:pt x="23224" y="12094"/>
                  <a:pt x="23193" y="12693"/>
                  <a:pt x="23515" y="12998"/>
                </a:cubicBezTo>
                <a:cubicBezTo>
                  <a:pt x="23606" y="13039"/>
                  <a:pt x="23697" y="13081"/>
                  <a:pt x="23788" y="13122"/>
                </a:cubicBezTo>
              </a:path>
              <a:path w="1291" h="1242">
                <a:moveTo>
                  <a:pt x="23887" y="12824"/>
                </a:moveTo>
                <a:cubicBezTo>
                  <a:pt x="23904" y="12773"/>
                  <a:pt x="23934" y="12828"/>
                  <a:pt x="23961" y="12774"/>
                </a:cubicBezTo>
                <a:cubicBezTo>
                  <a:pt x="23961" y="12766"/>
                  <a:pt x="23961" y="12758"/>
                  <a:pt x="23961" y="12750"/>
                </a:cubicBezTo>
                <a:cubicBezTo>
                  <a:pt x="23922" y="12776"/>
                  <a:pt x="23949" y="12868"/>
                  <a:pt x="23986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You and your 4 siblings are splitting the cost of a new tv for your parents.  The total cost of the television is $524.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Part A: To the nearest cent, how much will each person need to give? 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Part B: Use what you know about decimal division to explain how you found your answer?  Use words and/or numbers in your expla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02200" y="4626000"/>
            <a:ext cx="1125720" cy="2224080"/>
          </a:xfrm>
          <a:custGeom>
            <a:avLst/>
            <a:gdLst/>
            <a:ahLst/>
            <a:rect l="l" t="t" r="r" b="b"/>
            <a:pathLst>
              <a:path w="3126" h="6177">
                <a:moveTo>
                  <a:pt x="17537" y="14238"/>
                </a:moveTo>
                <a:cubicBezTo>
                  <a:pt x="17446" y="14261"/>
                  <a:pt x="17420" y="14313"/>
                  <a:pt x="17388" y="14412"/>
                </a:cubicBezTo>
                <a:cubicBezTo>
                  <a:pt x="17330" y="14593"/>
                  <a:pt x="17353" y="14791"/>
                  <a:pt x="17438" y="14957"/>
                </a:cubicBezTo>
                <a:cubicBezTo>
                  <a:pt x="17454" y="14982"/>
                  <a:pt x="17471" y="15007"/>
                  <a:pt x="17487" y="15032"/>
                </a:cubicBezTo>
                <a:cubicBezTo>
                  <a:pt x="17609" y="14964"/>
                  <a:pt x="17686" y="14889"/>
                  <a:pt x="17686" y="14734"/>
                </a:cubicBezTo>
                <a:cubicBezTo>
                  <a:pt x="17686" y="14647"/>
                  <a:pt x="17651" y="14517"/>
                  <a:pt x="17562" y="14486"/>
                </a:cubicBezTo>
                <a:cubicBezTo>
                  <a:pt x="17545" y="14486"/>
                  <a:pt x="17529" y="14486"/>
                  <a:pt x="17512" y="14486"/>
                </a:cubicBezTo>
              </a:path>
              <a:path w="3126" h="6177">
                <a:moveTo>
                  <a:pt x="17611" y="15304"/>
                </a:moveTo>
                <a:cubicBezTo>
                  <a:pt x="17616" y="15240"/>
                  <a:pt x="17626" y="15192"/>
                  <a:pt x="17636" y="15131"/>
                </a:cubicBezTo>
                <a:cubicBezTo>
                  <a:pt x="17636" y="15123"/>
                  <a:pt x="17636" y="15114"/>
                  <a:pt x="17636" y="15106"/>
                </a:cubicBezTo>
                <a:cubicBezTo>
                  <a:pt x="17660" y="15184"/>
                  <a:pt x="17702" y="15287"/>
                  <a:pt x="17711" y="15379"/>
                </a:cubicBezTo>
                <a:cubicBezTo>
                  <a:pt x="17726" y="15536"/>
                  <a:pt x="17714" y="15694"/>
                  <a:pt x="17735" y="15850"/>
                </a:cubicBezTo>
                <a:cubicBezTo>
                  <a:pt x="17752" y="15978"/>
                  <a:pt x="17760" y="16093"/>
                  <a:pt x="17760" y="16222"/>
                </a:cubicBezTo>
                <a:cubicBezTo>
                  <a:pt x="17760" y="16343"/>
                  <a:pt x="17774" y="16452"/>
                  <a:pt x="17785" y="16570"/>
                </a:cubicBezTo>
                <a:cubicBezTo>
                  <a:pt x="17796" y="16685"/>
                  <a:pt x="17800" y="16804"/>
                  <a:pt x="17810" y="16917"/>
                </a:cubicBezTo>
                <a:cubicBezTo>
                  <a:pt x="17822" y="17050"/>
                  <a:pt x="17848" y="17182"/>
                  <a:pt x="17859" y="17314"/>
                </a:cubicBezTo>
                <a:cubicBezTo>
                  <a:pt x="17869" y="17438"/>
                  <a:pt x="17858" y="17564"/>
                  <a:pt x="17884" y="17686"/>
                </a:cubicBezTo>
                <a:cubicBezTo>
                  <a:pt x="17907" y="17792"/>
                  <a:pt x="17931" y="17874"/>
                  <a:pt x="17934" y="17983"/>
                </a:cubicBezTo>
                <a:cubicBezTo>
                  <a:pt x="17938" y="18107"/>
                  <a:pt x="17934" y="18231"/>
                  <a:pt x="17934" y="18355"/>
                </a:cubicBezTo>
              </a:path>
              <a:path w="3126" h="6177">
                <a:moveTo>
                  <a:pt x="18157" y="18306"/>
                </a:moveTo>
                <a:cubicBezTo>
                  <a:pt x="18115" y="18278"/>
                  <a:pt x="18081" y="18389"/>
                  <a:pt x="18058" y="18455"/>
                </a:cubicBezTo>
                <a:cubicBezTo>
                  <a:pt x="18039" y="18510"/>
                  <a:pt x="17944" y="18761"/>
                  <a:pt x="18107" y="18728"/>
                </a:cubicBezTo>
                <a:cubicBezTo>
                  <a:pt x="18264" y="18696"/>
                  <a:pt x="18238" y="18480"/>
                  <a:pt x="18182" y="18380"/>
                </a:cubicBezTo>
                <a:cubicBezTo>
                  <a:pt x="18179" y="18375"/>
                  <a:pt x="18119" y="18358"/>
                  <a:pt x="18107" y="18355"/>
                </a:cubicBezTo>
              </a:path>
              <a:path w="3126" h="6177">
                <a:moveTo>
                  <a:pt x="17363" y="14312"/>
                </a:moveTo>
                <a:cubicBezTo>
                  <a:pt x="17486" y="14216"/>
                  <a:pt x="17537" y="14335"/>
                  <a:pt x="17587" y="14461"/>
                </a:cubicBezTo>
                <a:cubicBezTo>
                  <a:pt x="17642" y="14600"/>
                  <a:pt x="17636" y="14714"/>
                  <a:pt x="17636" y="14858"/>
                </a:cubicBezTo>
              </a:path>
              <a:path w="3126" h="6177">
                <a:moveTo>
                  <a:pt x="16793" y="14064"/>
                </a:moveTo>
                <a:cubicBezTo>
                  <a:pt x="17000" y="14007"/>
                  <a:pt x="17221" y="13935"/>
                  <a:pt x="17438" y="13940"/>
                </a:cubicBezTo>
                <a:cubicBezTo>
                  <a:pt x="17495" y="13959"/>
                  <a:pt x="17520" y="13985"/>
                  <a:pt x="17512" y="13940"/>
                </a:cubicBezTo>
              </a:path>
              <a:path w="3126" h="6177">
                <a:moveTo>
                  <a:pt x="17264" y="13271"/>
                </a:moveTo>
                <a:cubicBezTo>
                  <a:pt x="17209" y="13361"/>
                  <a:pt x="17189" y="13483"/>
                  <a:pt x="17165" y="13593"/>
                </a:cubicBezTo>
                <a:cubicBezTo>
                  <a:pt x="17152" y="13652"/>
                  <a:pt x="17109" y="13855"/>
                  <a:pt x="17214" y="13866"/>
                </a:cubicBezTo>
                <a:cubicBezTo>
                  <a:pt x="17343" y="13880"/>
                  <a:pt x="17379" y="13807"/>
                  <a:pt x="17388" y="13692"/>
                </a:cubicBezTo>
                <a:cubicBezTo>
                  <a:pt x="17388" y="13667"/>
                  <a:pt x="17388" y="13643"/>
                  <a:pt x="17388" y="13618"/>
                </a:cubicBezTo>
                <a:cubicBezTo>
                  <a:pt x="17310" y="13664"/>
                  <a:pt x="17283" y="13749"/>
                  <a:pt x="17264" y="13841"/>
                </a:cubicBezTo>
              </a:path>
              <a:path w="3126" h="6177">
                <a:moveTo>
                  <a:pt x="18182" y="18852"/>
                </a:moveTo>
                <a:cubicBezTo>
                  <a:pt x="18199" y="18901"/>
                  <a:pt x="18252" y="18841"/>
                  <a:pt x="18306" y="18827"/>
                </a:cubicBezTo>
                <a:cubicBezTo>
                  <a:pt x="18375" y="18809"/>
                  <a:pt x="18361" y="18863"/>
                  <a:pt x="18331" y="18901"/>
                </a:cubicBezTo>
                <a:cubicBezTo>
                  <a:pt x="18323" y="18909"/>
                  <a:pt x="18314" y="18918"/>
                  <a:pt x="18306" y="18926"/>
                </a:cubicBezTo>
                <a:cubicBezTo>
                  <a:pt x="18362" y="18912"/>
                  <a:pt x="18355" y="18909"/>
                  <a:pt x="18430" y="18901"/>
                </a:cubicBezTo>
                <a:cubicBezTo>
                  <a:pt x="18366" y="19016"/>
                  <a:pt x="18381" y="18998"/>
                  <a:pt x="18256" y="19025"/>
                </a:cubicBezTo>
              </a:path>
              <a:path w="3126" h="6177">
                <a:moveTo>
                  <a:pt x="18653" y="18604"/>
                </a:moveTo>
                <a:cubicBezTo>
                  <a:pt x="18583" y="18726"/>
                  <a:pt x="18517" y="18787"/>
                  <a:pt x="18604" y="18901"/>
                </a:cubicBezTo>
                <a:cubicBezTo>
                  <a:pt x="18673" y="18860"/>
                  <a:pt x="18866" y="18745"/>
                  <a:pt x="18752" y="18678"/>
                </a:cubicBezTo>
                <a:cubicBezTo>
                  <a:pt x="18695" y="18659"/>
                  <a:pt x="18688" y="18650"/>
                  <a:pt x="18653" y="18653"/>
                </a:cubicBezTo>
              </a:path>
              <a:path w="3126" h="6177">
                <a:moveTo>
                  <a:pt x="19149" y="18479"/>
                </a:moveTo>
                <a:cubicBezTo>
                  <a:pt x="19064" y="18645"/>
                  <a:pt x="18984" y="18825"/>
                  <a:pt x="18876" y="18976"/>
                </a:cubicBezTo>
              </a:path>
              <a:path w="3126" h="6177">
                <a:moveTo>
                  <a:pt x="19298" y="18653"/>
                </a:moveTo>
                <a:cubicBezTo>
                  <a:pt x="19298" y="18732"/>
                  <a:pt x="19312" y="18799"/>
                  <a:pt x="19323" y="18876"/>
                </a:cubicBezTo>
                <a:cubicBezTo>
                  <a:pt x="19423" y="18860"/>
                  <a:pt x="19517" y="18794"/>
                  <a:pt x="19521" y="18678"/>
                </a:cubicBezTo>
                <a:cubicBezTo>
                  <a:pt x="19526" y="18539"/>
                  <a:pt x="19406" y="18624"/>
                  <a:pt x="19348" y="18653"/>
                </a:cubicBezTo>
              </a:path>
              <a:path w="3126" h="6177">
                <a:moveTo>
                  <a:pt x="16520" y="13990"/>
                </a:moveTo>
                <a:cubicBezTo>
                  <a:pt x="16583" y="13990"/>
                  <a:pt x="16598" y="14012"/>
                  <a:pt x="16669" y="14015"/>
                </a:cubicBezTo>
                <a:cubicBezTo>
                  <a:pt x="16726" y="14017"/>
                  <a:pt x="16785" y="14015"/>
                  <a:pt x="16842" y="14015"/>
                </a:cubicBezTo>
                <a:cubicBezTo>
                  <a:pt x="16739" y="14015"/>
                  <a:pt x="16646" y="14034"/>
                  <a:pt x="16545" y="14039"/>
                </a:cubicBezTo>
                <a:cubicBezTo>
                  <a:pt x="16472" y="14043"/>
                  <a:pt x="16727" y="14042"/>
                  <a:pt x="16743" y="14039"/>
                </a:cubicBezTo>
                <a:cubicBezTo>
                  <a:pt x="16962" y="14005"/>
                  <a:pt x="16574" y="14012"/>
                  <a:pt x="16545" y="14015"/>
                </a:cubicBezTo>
                <a:cubicBezTo>
                  <a:pt x="16284" y="14047"/>
                  <a:pt x="16641" y="13995"/>
                  <a:pt x="16669" y="13990"/>
                </a:cubicBezTo>
                <a:cubicBezTo>
                  <a:pt x="16945" y="13937"/>
                  <a:pt x="16807" y="13963"/>
                  <a:pt x="16669" y="13990"/>
                </a:cubicBezTo>
                <a:cubicBezTo>
                  <a:pt x="16521" y="14018"/>
                  <a:pt x="16339" y="14051"/>
                  <a:pt x="16619" y="13990"/>
                </a:cubicBezTo>
                <a:cubicBezTo>
                  <a:pt x="16706" y="13971"/>
                  <a:pt x="16906" y="13950"/>
                  <a:pt x="16669" y="13990"/>
                </a:cubicBezTo>
                <a:cubicBezTo>
                  <a:pt x="16562" y="14008"/>
                  <a:pt x="16339" y="14030"/>
                  <a:pt x="16446" y="14015"/>
                </a:cubicBezTo>
                <a:cubicBezTo>
                  <a:pt x="16508" y="14006"/>
                  <a:pt x="16995" y="13910"/>
                  <a:pt x="16669" y="13965"/>
                </a:cubicBezTo>
                <a:cubicBezTo>
                  <a:pt x="16579" y="13980"/>
                  <a:pt x="16249" y="14067"/>
                  <a:pt x="16570" y="13965"/>
                </a:cubicBezTo>
                <a:cubicBezTo>
                  <a:pt x="16718" y="13922"/>
                  <a:pt x="16750" y="13912"/>
                  <a:pt x="16842" y="13891"/>
                </a:cubicBezTo>
                <a:cubicBezTo>
                  <a:pt x="16720" y="13906"/>
                  <a:pt x="16576" y="13923"/>
                  <a:pt x="16470" y="13990"/>
                </a:cubicBezTo>
                <a:cubicBezTo>
                  <a:pt x="16375" y="14049"/>
                  <a:pt x="16683" y="13937"/>
                  <a:pt x="16793" y="13915"/>
                </a:cubicBezTo>
                <a:cubicBezTo>
                  <a:pt x="16909" y="13892"/>
                  <a:pt x="16556" y="13946"/>
                  <a:pt x="16446" y="13990"/>
                </a:cubicBezTo>
                <a:cubicBezTo>
                  <a:pt x="16345" y="14030"/>
                  <a:pt x="16662" y="13967"/>
                  <a:pt x="16768" y="13940"/>
                </a:cubicBezTo>
                <a:cubicBezTo>
                  <a:pt x="16769" y="13940"/>
                  <a:pt x="16380" y="13997"/>
                  <a:pt x="16421" y="14015"/>
                </a:cubicBezTo>
                <a:cubicBezTo>
                  <a:pt x="16513" y="14057"/>
                  <a:pt x="16617" y="13998"/>
                  <a:pt x="16694" y="13965"/>
                </a:cubicBezTo>
              </a:path>
              <a:path w="3126" h="6177">
                <a:moveTo>
                  <a:pt x="16669" y="13097"/>
                </a:moveTo>
                <a:cubicBezTo>
                  <a:pt x="16600" y="13074"/>
                  <a:pt x="16689" y="13020"/>
                  <a:pt x="16718" y="12973"/>
                </a:cubicBezTo>
                <a:cubicBezTo>
                  <a:pt x="16785" y="12864"/>
                  <a:pt x="16847" y="12874"/>
                  <a:pt x="16966" y="12874"/>
                </a:cubicBezTo>
                <a:cubicBezTo>
                  <a:pt x="17041" y="12874"/>
                  <a:pt x="17145" y="12892"/>
                  <a:pt x="17190" y="12948"/>
                </a:cubicBezTo>
                <a:cubicBezTo>
                  <a:pt x="17219" y="12984"/>
                  <a:pt x="17229" y="12994"/>
                  <a:pt x="17239" y="13022"/>
                </a:cubicBezTo>
                <a:cubicBezTo>
                  <a:pt x="17239" y="12964"/>
                  <a:pt x="17239" y="12907"/>
                  <a:pt x="17239" y="12849"/>
                </a:cubicBezTo>
                <a:cubicBezTo>
                  <a:pt x="17273" y="12894"/>
                  <a:pt x="17297" y="12965"/>
                  <a:pt x="17314" y="13022"/>
                </a:cubicBezTo>
                <a:cubicBezTo>
                  <a:pt x="17314" y="13030"/>
                  <a:pt x="17314" y="13039"/>
                  <a:pt x="17314" y="13047"/>
                </a:cubicBezTo>
                <a:cubicBezTo>
                  <a:pt x="17226" y="13037"/>
                  <a:pt x="17176" y="13039"/>
                  <a:pt x="17090" y="13047"/>
                </a:cubicBezTo>
                <a:cubicBezTo>
                  <a:pt x="17066" y="13047"/>
                  <a:pt x="17058" y="13047"/>
                  <a:pt x="17066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24240" y="4776840"/>
            <a:ext cx="2170080" cy="2036880"/>
          </a:xfrm>
          <a:custGeom>
            <a:avLst/>
            <a:gdLst/>
            <a:ahLst/>
            <a:rect l="l" t="t" r="r" b="b"/>
            <a:pathLst>
              <a:path w="6028" h="5656">
                <a:moveTo>
                  <a:pt x="12923" y="14238"/>
                </a:moveTo>
                <a:cubicBezTo>
                  <a:pt x="13115" y="14217"/>
                  <a:pt x="13319" y="14223"/>
                  <a:pt x="13519" y="14213"/>
                </a:cubicBezTo>
                <a:cubicBezTo>
                  <a:pt x="13925" y="14193"/>
                  <a:pt x="14329" y="14177"/>
                  <a:pt x="14734" y="14139"/>
                </a:cubicBezTo>
                <a:cubicBezTo>
                  <a:pt x="14989" y="14115"/>
                  <a:pt x="15248" y="14102"/>
                  <a:pt x="15503" y="14089"/>
                </a:cubicBezTo>
                <a:cubicBezTo>
                  <a:pt x="15703" y="14079"/>
                  <a:pt x="15900" y="14056"/>
                  <a:pt x="16098" y="14039"/>
                </a:cubicBezTo>
                <a:cubicBezTo>
                  <a:pt x="16319" y="14020"/>
                  <a:pt x="16548" y="14031"/>
                  <a:pt x="16768" y="14015"/>
                </a:cubicBezTo>
                <a:cubicBezTo>
                  <a:pt x="16853" y="14009"/>
                  <a:pt x="16836" y="14010"/>
                  <a:pt x="16917" y="14039"/>
                </a:cubicBezTo>
              </a:path>
              <a:path w="6028" h="5656">
                <a:moveTo>
                  <a:pt x="14213" y="14263"/>
                </a:moveTo>
                <a:cubicBezTo>
                  <a:pt x="14040" y="14326"/>
                  <a:pt x="13898" y="14324"/>
                  <a:pt x="13717" y="14312"/>
                </a:cubicBezTo>
                <a:cubicBezTo>
                  <a:pt x="13692" y="14312"/>
                  <a:pt x="13684" y="14312"/>
                  <a:pt x="13667" y="14312"/>
                </a:cubicBezTo>
                <a:cubicBezTo>
                  <a:pt x="13667" y="14436"/>
                  <a:pt x="13667" y="14560"/>
                  <a:pt x="13667" y="14684"/>
                </a:cubicBezTo>
                <a:cubicBezTo>
                  <a:pt x="13771" y="14667"/>
                  <a:pt x="13964" y="14580"/>
                  <a:pt x="14064" y="14635"/>
                </a:cubicBezTo>
                <a:cubicBezTo>
                  <a:pt x="14364" y="14799"/>
                  <a:pt x="14030" y="15128"/>
                  <a:pt x="13841" y="15180"/>
                </a:cubicBezTo>
                <a:cubicBezTo>
                  <a:pt x="13727" y="15211"/>
                  <a:pt x="13611" y="15184"/>
                  <a:pt x="13519" y="15131"/>
                </a:cubicBezTo>
              </a:path>
              <a:path w="6028" h="5656">
                <a:moveTo>
                  <a:pt x="14486" y="14486"/>
                </a:moveTo>
                <a:cubicBezTo>
                  <a:pt x="14559" y="14455"/>
                  <a:pt x="14629" y="14417"/>
                  <a:pt x="14709" y="14387"/>
                </a:cubicBezTo>
                <a:cubicBezTo>
                  <a:pt x="14843" y="14610"/>
                  <a:pt x="14867" y="14893"/>
                  <a:pt x="14560" y="15032"/>
                </a:cubicBezTo>
                <a:cubicBezTo>
                  <a:pt x="14387" y="15053"/>
                  <a:pt x="14341" y="15076"/>
                  <a:pt x="14263" y="14982"/>
                </a:cubicBezTo>
                <a:cubicBezTo>
                  <a:pt x="14391" y="14792"/>
                  <a:pt x="14575" y="14788"/>
                  <a:pt x="14759" y="14957"/>
                </a:cubicBezTo>
                <a:cubicBezTo>
                  <a:pt x="14811" y="15004"/>
                  <a:pt x="14808" y="15106"/>
                  <a:pt x="14808" y="15106"/>
                </a:cubicBezTo>
              </a:path>
              <a:path w="6028" h="5656">
                <a:moveTo>
                  <a:pt x="15156" y="14362"/>
                </a:moveTo>
                <a:cubicBezTo>
                  <a:pt x="15156" y="14489"/>
                  <a:pt x="15162" y="14622"/>
                  <a:pt x="15230" y="14734"/>
                </a:cubicBezTo>
                <a:cubicBezTo>
                  <a:pt x="15325" y="14890"/>
                  <a:pt x="15438" y="14785"/>
                  <a:pt x="15553" y="14734"/>
                </a:cubicBezTo>
              </a:path>
              <a:path w="6028" h="5656">
                <a:moveTo>
                  <a:pt x="15478" y="14263"/>
                </a:moveTo>
                <a:cubicBezTo>
                  <a:pt x="15478" y="14512"/>
                  <a:pt x="15456" y="14758"/>
                  <a:pt x="15453" y="15007"/>
                </a:cubicBezTo>
                <a:cubicBezTo>
                  <a:pt x="15452" y="15104"/>
                  <a:pt x="15404" y="15279"/>
                  <a:pt x="15478" y="15205"/>
                </a:cubicBezTo>
              </a:path>
              <a:path w="6028" h="5656">
                <a:moveTo>
                  <a:pt x="15900" y="15032"/>
                </a:moveTo>
                <a:cubicBezTo>
                  <a:pt x="15889" y="15075"/>
                  <a:pt x="15852" y="15090"/>
                  <a:pt x="15900" y="15106"/>
                </a:cubicBezTo>
              </a:path>
              <a:path w="6028" h="5656">
                <a:moveTo>
                  <a:pt x="16321" y="14337"/>
                </a:moveTo>
                <a:cubicBezTo>
                  <a:pt x="16333" y="14457"/>
                  <a:pt x="16275" y="14929"/>
                  <a:pt x="16346" y="15007"/>
                </a:cubicBezTo>
                <a:cubicBezTo>
                  <a:pt x="16363" y="14999"/>
                  <a:pt x="16379" y="14990"/>
                  <a:pt x="16396" y="14982"/>
                </a:cubicBezTo>
              </a:path>
              <a:path w="6028" h="5656">
                <a:moveTo>
                  <a:pt x="16570" y="14238"/>
                </a:moveTo>
                <a:cubicBezTo>
                  <a:pt x="16677" y="14189"/>
                  <a:pt x="16912" y="14067"/>
                  <a:pt x="16991" y="14238"/>
                </a:cubicBezTo>
                <a:cubicBezTo>
                  <a:pt x="17063" y="14394"/>
                  <a:pt x="16902" y="14515"/>
                  <a:pt x="16818" y="14610"/>
                </a:cubicBezTo>
                <a:cubicBezTo>
                  <a:pt x="16883" y="14534"/>
                  <a:pt x="17125" y="14425"/>
                  <a:pt x="17140" y="14635"/>
                </a:cubicBezTo>
                <a:cubicBezTo>
                  <a:pt x="17159" y="14897"/>
                  <a:pt x="16948" y="15007"/>
                  <a:pt x="16743" y="15032"/>
                </a:cubicBezTo>
                <a:cubicBezTo>
                  <a:pt x="16735" y="15032"/>
                  <a:pt x="16726" y="15032"/>
                  <a:pt x="16718" y="15032"/>
                </a:cubicBezTo>
              </a:path>
              <a:path w="6028" h="5656">
                <a:moveTo>
                  <a:pt x="12998" y="14312"/>
                </a:moveTo>
                <a:cubicBezTo>
                  <a:pt x="12998" y="14418"/>
                  <a:pt x="12982" y="14507"/>
                  <a:pt x="12973" y="14610"/>
                </a:cubicBezTo>
                <a:cubicBezTo>
                  <a:pt x="12961" y="14754"/>
                  <a:pt x="12932" y="14889"/>
                  <a:pt x="12898" y="15032"/>
                </a:cubicBezTo>
                <a:cubicBezTo>
                  <a:pt x="12876" y="15122"/>
                  <a:pt x="12828" y="15202"/>
                  <a:pt x="12774" y="15280"/>
                </a:cubicBezTo>
                <a:cubicBezTo>
                  <a:pt x="12752" y="15312"/>
                  <a:pt x="12744" y="15351"/>
                  <a:pt x="12725" y="15379"/>
                </a:cubicBezTo>
                <a:cubicBezTo>
                  <a:pt x="12706" y="15407"/>
                  <a:pt x="12658" y="15464"/>
                  <a:pt x="12650" y="15478"/>
                </a:cubicBezTo>
                <a:cubicBezTo>
                  <a:pt x="12631" y="15510"/>
                  <a:pt x="12644" y="15526"/>
                  <a:pt x="12626" y="15553"/>
                </a:cubicBezTo>
                <a:cubicBezTo>
                  <a:pt x="12618" y="15561"/>
                  <a:pt x="12609" y="15569"/>
                  <a:pt x="12601" y="15577"/>
                </a:cubicBezTo>
              </a:path>
              <a:path w="6028" h="5656">
                <a:moveTo>
                  <a:pt x="12328" y="14387"/>
                </a:moveTo>
                <a:cubicBezTo>
                  <a:pt x="12180" y="14440"/>
                  <a:pt x="12041" y="14484"/>
                  <a:pt x="11881" y="14511"/>
                </a:cubicBezTo>
                <a:cubicBezTo>
                  <a:pt x="11873" y="14511"/>
                  <a:pt x="11865" y="14511"/>
                  <a:pt x="11857" y="14511"/>
                </a:cubicBezTo>
                <a:cubicBezTo>
                  <a:pt x="11866" y="14628"/>
                  <a:pt x="11894" y="14742"/>
                  <a:pt x="11906" y="14858"/>
                </a:cubicBezTo>
                <a:cubicBezTo>
                  <a:pt x="11906" y="14916"/>
                  <a:pt x="11906" y="14924"/>
                  <a:pt x="11906" y="14957"/>
                </a:cubicBezTo>
                <a:cubicBezTo>
                  <a:pt x="11961" y="14909"/>
                  <a:pt x="12055" y="14815"/>
                  <a:pt x="12154" y="14808"/>
                </a:cubicBezTo>
                <a:cubicBezTo>
                  <a:pt x="12366" y="14793"/>
                  <a:pt x="12417" y="15050"/>
                  <a:pt x="12353" y="15205"/>
                </a:cubicBezTo>
                <a:cubicBezTo>
                  <a:pt x="12251" y="15450"/>
                  <a:pt x="11994" y="15444"/>
                  <a:pt x="11782" y="15379"/>
                </a:cubicBezTo>
                <a:cubicBezTo>
                  <a:pt x="11754" y="15379"/>
                  <a:pt x="11743" y="15377"/>
                  <a:pt x="11733" y="15354"/>
                </a:cubicBezTo>
              </a:path>
              <a:path w="6028" h="5656">
                <a:moveTo>
                  <a:pt x="13816" y="13469"/>
                </a:moveTo>
                <a:cubicBezTo>
                  <a:pt x="13816" y="13444"/>
                  <a:pt x="13816" y="13420"/>
                  <a:pt x="13816" y="13395"/>
                </a:cubicBezTo>
                <a:cubicBezTo>
                  <a:pt x="13816" y="13597"/>
                  <a:pt x="13813" y="13791"/>
                  <a:pt x="13791" y="13990"/>
                </a:cubicBezTo>
                <a:cubicBezTo>
                  <a:pt x="13791" y="13998"/>
                  <a:pt x="13791" y="14007"/>
                  <a:pt x="13791" y="14015"/>
                </a:cubicBezTo>
              </a:path>
              <a:path w="6028" h="5656">
                <a:moveTo>
                  <a:pt x="13915" y="15280"/>
                </a:moveTo>
                <a:cubicBezTo>
                  <a:pt x="13832" y="15292"/>
                  <a:pt x="13750" y="15317"/>
                  <a:pt x="13667" y="15329"/>
                </a:cubicBezTo>
                <a:cubicBezTo>
                  <a:pt x="13667" y="15434"/>
                  <a:pt x="13663" y="15529"/>
                  <a:pt x="13692" y="15627"/>
                </a:cubicBezTo>
                <a:cubicBezTo>
                  <a:pt x="13692" y="15550"/>
                  <a:pt x="13738" y="15518"/>
                  <a:pt x="13816" y="15503"/>
                </a:cubicBezTo>
                <a:cubicBezTo>
                  <a:pt x="13841" y="15503"/>
                  <a:pt x="13866" y="15503"/>
                  <a:pt x="13891" y="15503"/>
                </a:cubicBezTo>
                <a:cubicBezTo>
                  <a:pt x="13924" y="15607"/>
                  <a:pt x="13934" y="15695"/>
                  <a:pt x="13816" y="15751"/>
                </a:cubicBezTo>
                <a:cubicBezTo>
                  <a:pt x="13755" y="15779"/>
                  <a:pt x="13705" y="15776"/>
                  <a:pt x="13643" y="15776"/>
                </a:cubicBezTo>
              </a:path>
              <a:path w="6028" h="5656">
                <a:moveTo>
                  <a:pt x="13271" y="15453"/>
                </a:moveTo>
                <a:cubicBezTo>
                  <a:pt x="13328" y="15425"/>
                  <a:pt x="13374" y="15429"/>
                  <a:pt x="13444" y="15429"/>
                </a:cubicBezTo>
              </a:path>
              <a:path w="6028" h="5656">
                <a:moveTo>
                  <a:pt x="13097" y="15850"/>
                </a:moveTo>
                <a:cubicBezTo>
                  <a:pt x="13363" y="15850"/>
                  <a:pt x="13625" y="15828"/>
                  <a:pt x="13891" y="15825"/>
                </a:cubicBezTo>
                <a:cubicBezTo>
                  <a:pt x="14007" y="15824"/>
                  <a:pt x="14122" y="15825"/>
                  <a:pt x="14238" y="15825"/>
                </a:cubicBezTo>
              </a:path>
              <a:path w="6028" h="5656">
                <a:moveTo>
                  <a:pt x="13915" y="15999"/>
                </a:moveTo>
                <a:cubicBezTo>
                  <a:pt x="13905" y="15966"/>
                  <a:pt x="13855" y="15951"/>
                  <a:pt x="13816" y="15949"/>
                </a:cubicBezTo>
                <a:cubicBezTo>
                  <a:pt x="13782" y="15947"/>
                  <a:pt x="13630" y="15973"/>
                  <a:pt x="13618" y="16024"/>
                </a:cubicBezTo>
                <a:cubicBezTo>
                  <a:pt x="13605" y="16080"/>
                  <a:pt x="13618" y="16183"/>
                  <a:pt x="13618" y="16247"/>
                </a:cubicBezTo>
                <a:cubicBezTo>
                  <a:pt x="13733" y="16238"/>
                  <a:pt x="13801" y="16218"/>
                  <a:pt x="13891" y="16148"/>
                </a:cubicBezTo>
                <a:cubicBezTo>
                  <a:pt x="13931" y="16117"/>
                  <a:pt x="13977" y="16012"/>
                  <a:pt x="13915" y="15974"/>
                </a:cubicBezTo>
                <a:cubicBezTo>
                  <a:pt x="13903" y="15967"/>
                  <a:pt x="13836" y="15974"/>
                  <a:pt x="13816" y="15974"/>
                </a:cubicBezTo>
              </a:path>
              <a:path w="6028" h="5656">
                <a:moveTo>
                  <a:pt x="14461" y="15156"/>
                </a:moveTo>
                <a:cubicBezTo>
                  <a:pt x="14446" y="15314"/>
                  <a:pt x="14416" y="15467"/>
                  <a:pt x="14412" y="15627"/>
                </a:cubicBezTo>
                <a:cubicBezTo>
                  <a:pt x="14412" y="15701"/>
                  <a:pt x="14412" y="15710"/>
                  <a:pt x="14412" y="15751"/>
                </a:cubicBezTo>
              </a:path>
              <a:path w="6028" h="5656">
                <a:moveTo>
                  <a:pt x="14337" y="15974"/>
                </a:moveTo>
                <a:cubicBezTo>
                  <a:pt x="14346" y="15924"/>
                  <a:pt x="14351" y="15899"/>
                  <a:pt x="14387" y="15875"/>
                </a:cubicBezTo>
                <a:cubicBezTo>
                  <a:pt x="14450" y="15832"/>
                  <a:pt x="14462" y="15816"/>
                  <a:pt x="14511" y="15825"/>
                </a:cubicBezTo>
                <a:cubicBezTo>
                  <a:pt x="14596" y="15889"/>
                  <a:pt x="14537" y="15984"/>
                  <a:pt x="14486" y="16073"/>
                </a:cubicBezTo>
                <a:cubicBezTo>
                  <a:pt x="14433" y="16167"/>
                  <a:pt x="14387" y="16173"/>
                  <a:pt x="14288" y="16173"/>
                </a:cubicBezTo>
                <a:cubicBezTo>
                  <a:pt x="14263" y="16173"/>
                  <a:pt x="14255" y="16173"/>
                  <a:pt x="14263" y="16148"/>
                </a:cubicBezTo>
                <a:cubicBezTo>
                  <a:pt x="14320" y="16134"/>
                  <a:pt x="14306" y="16142"/>
                  <a:pt x="14362" y="16148"/>
                </a:cubicBezTo>
                <a:cubicBezTo>
                  <a:pt x="14436" y="16156"/>
                  <a:pt x="14482" y="16135"/>
                  <a:pt x="14560" y="16148"/>
                </a:cubicBezTo>
              </a:path>
              <a:path w="6028" h="5656">
                <a:moveTo>
                  <a:pt x="14536" y="13469"/>
                </a:moveTo>
                <a:cubicBezTo>
                  <a:pt x="14490" y="13478"/>
                  <a:pt x="14415" y="13498"/>
                  <a:pt x="14387" y="13543"/>
                </a:cubicBezTo>
                <a:cubicBezTo>
                  <a:pt x="14311" y="13665"/>
                  <a:pt x="14312" y="13778"/>
                  <a:pt x="14312" y="13915"/>
                </a:cubicBezTo>
                <a:cubicBezTo>
                  <a:pt x="14312" y="13965"/>
                  <a:pt x="14312" y="14014"/>
                  <a:pt x="14312" y="14064"/>
                </a:cubicBezTo>
                <a:cubicBezTo>
                  <a:pt x="14407" y="14064"/>
                  <a:pt x="14452" y="14070"/>
                  <a:pt x="14536" y="14015"/>
                </a:cubicBezTo>
                <a:cubicBezTo>
                  <a:pt x="14569" y="13993"/>
                  <a:pt x="14622" y="13904"/>
                  <a:pt x="14635" y="13866"/>
                </a:cubicBezTo>
                <a:cubicBezTo>
                  <a:pt x="14645" y="13836"/>
                  <a:pt x="14692" y="13746"/>
                  <a:pt x="14684" y="13717"/>
                </a:cubicBezTo>
                <a:cubicBezTo>
                  <a:pt x="14671" y="13669"/>
                  <a:pt x="14644" y="13610"/>
                  <a:pt x="14635" y="13568"/>
                </a:cubicBezTo>
                <a:cubicBezTo>
                  <a:pt x="14618" y="13491"/>
                  <a:pt x="14618" y="13487"/>
                  <a:pt x="14560" y="13444"/>
                </a:cubicBezTo>
              </a:path>
              <a:path w="6028" h="5656">
                <a:moveTo>
                  <a:pt x="14486" y="16346"/>
                </a:moveTo>
                <a:cubicBezTo>
                  <a:pt x="14445" y="16346"/>
                  <a:pt x="14415" y="16336"/>
                  <a:pt x="14387" y="16371"/>
                </a:cubicBezTo>
                <a:cubicBezTo>
                  <a:pt x="14330" y="16444"/>
                  <a:pt x="14318" y="16497"/>
                  <a:pt x="14362" y="16570"/>
                </a:cubicBezTo>
                <a:cubicBezTo>
                  <a:pt x="14461" y="16548"/>
                  <a:pt x="14503" y="16527"/>
                  <a:pt x="14511" y="16421"/>
                </a:cubicBezTo>
                <a:cubicBezTo>
                  <a:pt x="14516" y="16358"/>
                  <a:pt x="14488" y="16346"/>
                  <a:pt x="14436" y="16346"/>
                </a:cubicBezTo>
              </a:path>
              <a:path w="6028" h="5656">
                <a:moveTo>
                  <a:pt x="13767" y="16718"/>
                </a:moveTo>
                <a:cubicBezTo>
                  <a:pt x="13914" y="16718"/>
                  <a:pt x="14068" y="16710"/>
                  <a:pt x="14213" y="16694"/>
                </a:cubicBezTo>
                <a:cubicBezTo>
                  <a:pt x="14313" y="16683"/>
                  <a:pt x="14535" y="16645"/>
                  <a:pt x="14585" y="16594"/>
                </a:cubicBezTo>
              </a:path>
              <a:path w="6028" h="5656">
                <a:moveTo>
                  <a:pt x="14486" y="16842"/>
                </a:moveTo>
                <a:cubicBezTo>
                  <a:pt x="14518" y="16819"/>
                  <a:pt x="14529" y="16817"/>
                  <a:pt x="14560" y="16793"/>
                </a:cubicBezTo>
                <a:cubicBezTo>
                  <a:pt x="14548" y="16857"/>
                  <a:pt x="14523" y="16935"/>
                  <a:pt x="14486" y="16991"/>
                </a:cubicBezTo>
                <a:cubicBezTo>
                  <a:pt x="14469" y="17018"/>
                  <a:pt x="14434" y="17043"/>
                  <a:pt x="14412" y="17066"/>
                </a:cubicBezTo>
                <a:cubicBezTo>
                  <a:pt x="14494" y="17066"/>
                  <a:pt x="14507" y="17039"/>
                  <a:pt x="14585" y="17016"/>
                </a:cubicBezTo>
                <a:cubicBezTo>
                  <a:pt x="14689" y="16986"/>
                  <a:pt x="14653" y="17068"/>
                  <a:pt x="14709" y="16942"/>
                </a:cubicBezTo>
              </a:path>
              <a:path w="6028" h="5656">
                <a:moveTo>
                  <a:pt x="15255" y="15230"/>
                </a:moveTo>
                <a:cubicBezTo>
                  <a:pt x="15193" y="15291"/>
                  <a:pt x="15230" y="15572"/>
                  <a:pt x="15230" y="15677"/>
                </a:cubicBezTo>
                <a:cubicBezTo>
                  <a:pt x="15230" y="15853"/>
                  <a:pt x="15222" y="16030"/>
                  <a:pt x="15205" y="16197"/>
                </a:cubicBezTo>
                <a:cubicBezTo>
                  <a:pt x="15196" y="16282"/>
                  <a:pt x="15188" y="16366"/>
                  <a:pt x="15180" y="16446"/>
                </a:cubicBezTo>
                <a:cubicBezTo>
                  <a:pt x="15180" y="16454"/>
                  <a:pt x="15180" y="16462"/>
                  <a:pt x="15180" y="16470"/>
                </a:cubicBezTo>
              </a:path>
              <a:path w="6028" h="5656">
                <a:moveTo>
                  <a:pt x="15106" y="16594"/>
                </a:moveTo>
                <a:cubicBezTo>
                  <a:pt x="15106" y="16540"/>
                  <a:pt x="15071" y="16685"/>
                  <a:pt x="15056" y="16718"/>
                </a:cubicBezTo>
                <a:cubicBezTo>
                  <a:pt x="15146" y="16738"/>
                  <a:pt x="15205" y="16708"/>
                  <a:pt x="15304" y="16694"/>
                </a:cubicBezTo>
              </a:path>
              <a:path w="6028" h="5656">
                <a:moveTo>
                  <a:pt x="15280" y="16495"/>
                </a:moveTo>
                <a:cubicBezTo>
                  <a:pt x="15264" y="16626"/>
                  <a:pt x="15240" y="16760"/>
                  <a:pt x="15230" y="16892"/>
                </a:cubicBezTo>
                <a:cubicBezTo>
                  <a:pt x="15230" y="16966"/>
                  <a:pt x="15230" y="16975"/>
                  <a:pt x="15230" y="17016"/>
                </a:cubicBezTo>
              </a:path>
              <a:path w="6028" h="5656">
                <a:moveTo>
                  <a:pt x="15032" y="13469"/>
                </a:moveTo>
                <a:cubicBezTo>
                  <a:pt x="15023" y="13546"/>
                  <a:pt x="14995" y="13616"/>
                  <a:pt x="14982" y="13692"/>
                </a:cubicBezTo>
                <a:cubicBezTo>
                  <a:pt x="15065" y="13692"/>
                  <a:pt x="15147" y="13692"/>
                  <a:pt x="15230" y="13692"/>
                </a:cubicBezTo>
              </a:path>
              <a:path w="6028" h="5656">
                <a:moveTo>
                  <a:pt x="15205" y="13271"/>
                </a:moveTo>
                <a:cubicBezTo>
                  <a:pt x="15226" y="13413"/>
                  <a:pt x="15230" y="13546"/>
                  <a:pt x="15230" y="13692"/>
                </a:cubicBezTo>
                <a:cubicBezTo>
                  <a:pt x="15230" y="13750"/>
                  <a:pt x="15230" y="13758"/>
                  <a:pt x="15230" y="13791"/>
                </a:cubicBezTo>
              </a:path>
              <a:path w="6028" h="5656">
                <a:moveTo>
                  <a:pt x="14610" y="17214"/>
                </a:moveTo>
                <a:cubicBezTo>
                  <a:pt x="14661" y="17173"/>
                  <a:pt x="14693" y="17140"/>
                  <a:pt x="14759" y="17140"/>
                </a:cubicBezTo>
                <a:cubicBezTo>
                  <a:pt x="14759" y="17283"/>
                  <a:pt x="14751" y="17329"/>
                  <a:pt x="14660" y="17438"/>
                </a:cubicBezTo>
                <a:cubicBezTo>
                  <a:pt x="14635" y="17462"/>
                  <a:pt x="14626" y="17470"/>
                  <a:pt x="14610" y="17487"/>
                </a:cubicBezTo>
                <a:cubicBezTo>
                  <a:pt x="14689" y="17487"/>
                  <a:pt x="14757" y="17455"/>
                  <a:pt x="14833" y="17438"/>
                </a:cubicBezTo>
                <a:cubicBezTo>
                  <a:pt x="14898" y="17424"/>
                  <a:pt x="14859" y="17462"/>
                  <a:pt x="14908" y="17388"/>
                </a:cubicBezTo>
              </a:path>
              <a:path w="6028" h="5656">
                <a:moveTo>
                  <a:pt x="15205" y="17041"/>
                </a:moveTo>
                <a:cubicBezTo>
                  <a:pt x="15176" y="16955"/>
                  <a:pt x="15116" y="17166"/>
                  <a:pt x="15106" y="17190"/>
                </a:cubicBezTo>
                <a:cubicBezTo>
                  <a:pt x="15076" y="17266"/>
                  <a:pt x="15053" y="17388"/>
                  <a:pt x="15180" y="17388"/>
                </a:cubicBezTo>
                <a:cubicBezTo>
                  <a:pt x="15321" y="17388"/>
                  <a:pt x="15323" y="17239"/>
                  <a:pt x="15329" y="17140"/>
                </a:cubicBezTo>
                <a:cubicBezTo>
                  <a:pt x="15332" y="17091"/>
                  <a:pt x="15265" y="17115"/>
                  <a:pt x="15230" y="17115"/>
                </a:cubicBezTo>
              </a:path>
              <a:path w="6028" h="5656">
                <a:moveTo>
                  <a:pt x="14188" y="17214"/>
                </a:moveTo>
                <a:cubicBezTo>
                  <a:pt x="14299" y="17214"/>
                  <a:pt x="14401" y="17231"/>
                  <a:pt x="14511" y="17239"/>
                </a:cubicBezTo>
              </a:path>
              <a:path w="6028" h="5656">
                <a:moveTo>
                  <a:pt x="14436" y="17611"/>
                </a:moveTo>
                <a:cubicBezTo>
                  <a:pt x="14710" y="17548"/>
                  <a:pt x="14973" y="17517"/>
                  <a:pt x="15255" y="17512"/>
                </a:cubicBezTo>
                <a:cubicBezTo>
                  <a:pt x="15379" y="17512"/>
                  <a:pt x="15404" y="17512"/>
                  <a:pt x="15478" y="17512"/>
                </a:cubicBezTo>
              </a:path>
              <a:path w="6028" h="5656">
                <a:moveTo>
                  <a:pt x="15354" y="17686"/>
                </a:moveTo>
                <a:cubicBezTo>
                  <a:pt x="15345" y="17730"/>
                  <a:pt x="15335" y="17764"/>
                  <a:pt x="15329" y="17810"/>
                </a:cubicBezTo>
                <a:cubicBezTo>
                  <a:pt x="15421" y="17810"/>
                  <a:pt x="15527" y="17797"/>
                  <a:pt x="15602" y="17735"/>
                </a:cubicBezTo>
                <a:cubicBezTo>
                  <a:pt x="15602" y="17700"/>
                  <a:pt x="15597" y="17683"/>
                  <a:pt x="15577" y="17661"/>
                </a:cubicBezTo>
              </a:path>
              <a:path w="6028" h="5656">
                <a:moveTo>
                  <a:pt x="15528" y="17562"/>
                </a:moveTo>
                <a:cubicBezTo>
                  <a:pt x="15528" y="17684"/>
                  <a:pt x="15534" y="17789"/>
                  <a:pt x="15528" y="17909"/>
                </a:cubicBezTo>
                <a:cubicBezTo>
                  <a:pt x="15528" y="17994"/>
                  <a:pt x="15522" y="18014"/>
                  <a:pt x="15553" y="18058"/>
                </a:cubicBezTo>
              </a:path>
              <a:path w="6028" h="5656">
                <a:moveTo>
                  <a:pt x="15602" y="13767"/>
                </a:moveTo>
                <a:cubicBezTo>
                  <a:pt x="15602" y="13791"/>
                  <a:pt x="15615" y="13956"/>
                  <a:pt x="15677" y="13841"/>
                </a:cubicBezTo>
                <a:cubicBezTo>
                  <a:pt x="15677" y="13824"/>
                  <a:pt x="15677" y="13808"/>
                  <a:pt x="15677" y="13791"/>
                </a:cubicBezTo>
                <a:cubicBezTo>
                  <a:pt x="15652" y="13797"/>
                  <a:pt x="15565" y="13851"/>
                  <a:pt x="15602" y="13891"/>
                </a:cubicBezTo>
                <a:cubicBezTo>
                  <a:pt x="15675" y="13971"/>
                  <a:pt x="15698" y="13832"/>
                  <a:pt x="15677" y="13816"/>
                </a:cubicBezTo>
                <a:cubicBezTo>
                  <a:pt x="15643" y="13789"/>
                  <a:pt x="15652" y="13891"/>
                  <a:pt x="15677" y="13816"/>
                </a:cubicBezTo>
              </a:path>
              <a:path w="6028" h="5656">
                <a:moveTo>
                  <a:pt x="16321" y="15230"/>
                </a:moveTo>
                <a:cubicBezTo>
                  <a:pt x="16306" y="15273"/>
                  <a:pt x="16278" y="15331"/>
                  <a:pt x="16272" y="15379"/>
                </a:cubicBezTo>
                <a:cubicBezTo>
                  <a:pt x="16261" y="15463"/>
                  <a:pt x="16233" y="15547"/>
                  <a:pt x="16222" y="15627"/>
                </a:cubicBezTo>
                <a:cubicBezTo>
                  <a:pt x="16209" y="15727"/>
                  <a:pt x="16214" y="15826"/>
                  <a:pt x="16197" y="15925"/>
                </a:cubicBezTo>
                <a:cubicBezTo>
                  <a:pt x="16179" y="16035"/>
                  <a:pt x="16138" y="16138"/>
                  <a:pt x="16123" y="16247"/>
                </a:cubicBezTo>
                <a:cubicBezTo>
                  <a:pt x="16109" y="16346"/>
                  <a:pt x="16089" y="16446"/>
                  <a:pt x="16073" y="16545"/>
                </a:cubicBezTo>
                <a:cubicBezTo>
                  <a:pt x="16053" y="16664"/>
                  <a:pt x="16049" y="16770"/>
                  <a:pt x="16049" y="16892"/>
                </a:cubicBezTo>
                <a:cubicBezTo>
                  <a:pt x="16049" y="16987"/>
                  <a:pt x="16028" y="17072"/>
                  <a:pt x="16024" y="17165"/>
                </a:cubicBezTo>
                <a:cubicBezTo>
                  <a:pt x="16022" y="17223"/>
                  <a:pt x="16013" y="17260"/>
                  <a:pt x="15999" y="17314"/>
                </a:cubicBezTo>
                <a:cubicBezTo>
                  <a:pt x="15975" y="17410"/>
                  <a:pt x="15988" y="17433"/>
                  <a:pt x="15999" y="17512"/>
                </a:cubicBezTo>
                <a:cubicBezTo>
                  <a:pt x="15999" y="17554"/>
                  <a:pt x="15999" y="17562"/>
                  <a:pt x="15999" y="17587"/>
                </a:cubicBezTo>
              </a:path>
              <a:path w="6028" h="5656">
                <a:moveTo>
                  <a:pt x="16024" y="17611"/>
                </a:moveTo>
                <a:cubicBezTo>
                  <a:pt x="16024" y="17720"/>
                  <a:pt x="15995" y="17870"/>
                  <a:pt x="16049" y="17959"/>
                </a:cubicBezTo>
              </a:path>
              <a:path w="6028" h="5656">
                <a:moveTo>
                  <a:pt x="16123" y="13444"/>
                </a:moveTo>
                <a:cubicBezTo>
                  <a:pt x="16123" y="13372"/>
                  <a:pt x="16100" y="13389"/>
                  <a:pt x="16024" y="13419"/>
                </a:cubicBezTo>
                <a:cubicBezTo>
                  <a:pt x="15974" y="13444"/>
                  <a:pt x="15958" y="13452"/>
                  <a:pt x="15925" y="13469"/>
                </a:cubicBezTo>
                <a:cubicBezTo>
                  <a:pt x="15981" y="13609"/>
                  <a:pt x="16112" y="13628"/>
                  <a:pt x="16197" y="13742"/>
                </a:cubicBezTo>
                <a:cubicBezTo>
                  <a:pt x="16284" y="13858"/>
                  <a:pt x="16149" y="13901"/>
                  <a:pt x="16073" y="13915"/>
                </a:cubicBezTo>
                <a:cubicBezTo>
                  <a:pt x="16017" y="13820"/>
                  <a:pt x="16086" y="13739"/>
                  <a:pt x="16123" y="13643"/>
                </a:cubicBezTo>
                <a:cubicBezTo>
                  <a:pt x="16150" y="13573"/>
                  <a:pt x="16193" y="13569"/>
                  <a:pt x="16148" y="13519"/>
                </a:cubicBezTo>
                <a:cubicBezTo>
                  <a:pt x="16140" y="13511"/>
                  <a:pt x="16131" y="13502"/>
                  <a:pt x="16123" y="13494"/>
                </a:cubicBezTo>
              </a:path>
              <a:path w="6028" h="5656">
                <a:moveTo>
                  <a:pt x="15478" y="18132"/>
                </a:moveTo>
                <a:cubicBezTo>
                  <a:pt x="15478" y="18182"/>
                  <a:pt x="15478" y="18231"/>
                  <a:pt x="15478" y="18281"/>
                </a:cubicBezTo>
                <a:cubicBezTo>
                  <a:pt x="15522" y="18256"/>
                  <a:pt x="15542" y="18242"/>
                  <a:pt x="15577" y="18207"/>
                </a:cubicBezTo>
              </a:path>
              <a:path w="6028" h="5656">
                <a:moveTo>
                  <a:pt x="15528" y="18083"/>
                </a:moveTo>
                <a:cubicBezTo>
                  <a:pt x="15528" y="18166"/>
                  <a:pt x="15528" y="18248"/>
                  <a:pt x="15528" y="18331"/>
                </a:cubicBezTo>
              </a:path>
              <a:path w="6028" h="5656">
                <a:moveTo>
                  <a:pt x="15925" y="17983"/>
                </a:moveTo>
                <a:cubicBezTo>
                  <a:pt x="15898" y="18054"/>
                  <a:pt x="15784" y="18220"/>
                  <a:pt x="15875" y="18281"/>
                </a:cubicBezTo>
                <a:cubicBezTo>
                  <a:pt x="15963" y="18340"/>
                  <a:pt x="16113" y="18231"/>
                  <a:pt x="16098" y="18132"/>
                </a:cubicBezTo>
                <a:cubicBezTo>
                  <a:pt x="16063" y="18097"/>
                  <a:pt x="16041" y="18084"/>
                  <a:pt x="15999" y="18083"/>
                </a:cubicBezTo>
              </a:path>
              <a:path w="6028" h="5656">
                <a:moveTo>
                  <a:pt x="15007" y="18579"/>
                </a:moveTo>
                <a:cubicBezTo>
                  <a:pt x="15202" y="18561"/>
                  <a:pt x="15383" y="18487"/>
                  <a:pt x="15577" y="18455"/>
                </a:cubicBezTo>
                <a:cubicBezTo>
                  <a:pt x="15765" y="18424"/>
                  <a:pt x="15966" y="18414"/>
                  <a:pt x="16148" y="18380"/>
                </a:cubicBezTo>
                <a:cubicBezTo>
                  <a:pt x="16156" y="18380"/>
                  <a:pt x="16165" y="18380"/>
                  <a:pt x="16173" y="18380"/>
                </a:cubicBezTo>
              </a:path>
              <a:path w="6028" h="5656">
                <a:moveTo>
                  <a:pt x="16222" y="18479"/>
                </a:moveTo>
                <a:cubicBezTo>
                  <a:pt x="16222" y="18414"/>
                  <a:pt x="16200" y="18658"/>
                  <a:pt x="16197" y="18678"/>
                </a:cubicBezTo>
                <a:cubicBezTo>
                  <a:pt x="16197" y="18686"/>
                  <a:pt x="16197" y="18695"/>
                  <a:pt x="16197" y="18703"/>
                </a:cubicBezTo>
              </a:path>
              <a:path w="6028" h="5656">
                <a:moveTo>
                  <a:pt x="16966" y="15131"/>
                </a:moveTo>
                <a:cubicBezTo>
                  <a:pt x="16915" y="15248"/>
                  <a:pt x="16900" y="15374"/>
                  <a:pt x="16892" y="15503"/>
                </a:cubicBezTo>
                <a:cubicBezTo>
                  <a:pt x="16881" y="15678"/>
                  <a:pt x="16853" y="15876"/>
                  <a:pt x="16867" y="16049"/>
                </a:cubicBezTo>
                <a:cubicBezTo>
                  <a:pt x="16883" y="16248"/>
                  <a:pt x="16892" y="16442"/>
                  <a:pt x="16892" y="16644"/>
                </a:cubicBezTo>
                <a:cubicBezTo>
                  <a:pt x="16892" y="16801"/>
                  <a:pt x="16892" y="16961"/>
                  <a:pt x="16867" y="17115"/>
                </a:cubicBezTo>
                <a:cubicBezTo>
                  <a:pt x="16841" y="17272"/>
                  <a:pt x="16839" y="17430"/>
                  <a:pt x="16818" y="17587"/>
                </a:cubicBezTo>
                <a:cubicBezTo>
                  <a:pt x="16803" y="17697"/>
                  <a:pt x="16762" y="17805"/>
                  <a:pt x="16743" y="17909"/>
                </a:cubicBezTo>
                <a:cubicBezTo>
                  <a:pt x="16729" y="17987"/>
                  <a:pt x="16722" y="18078"/>
                  <a:pt x="16718" y="18157"/>
                </a:cubicBezTo>
                <a:cubicBezTo>
                  <a:pt x="16718" y="18174"/>
                  <a:pt x="16718" y="18190"/>
                  <a:pt x="16718" y="18207"/>
                </a:cubicBezTo>
              </a:path>
              <a:path w="6028" h="5656">
                <a:moveTo>
                  <a:pt x="16594" y="18380"/>
                </a:moveTo>
                <a:cubicBezTo>
                  <a:pt x="16624" y="18301"/>
                  <a:pt x="16698" y="18240"/>
                  <a:pt x="16793" y="18207"/>
                </a:cubicBezTo>
                <a:cubicBezTo>
                  <a:pt x="16883" y="18175"/>
                  <a:pt x="16812" y="18355"/>
                  <a:pt x="16793" y="18380"/>
                </a:cubicBezTo>
                <a:cubicBezTo>
                  <a:pt x="16776" y="18397"/>
                  <a:pt x="16760" y="18413"/>
                  <a:pt x="16743" y="18430"/>
                </a:cubicBezTo>
                <a:cubicBezTo>
                  <a:pt x="16700" y="18430"/>
                  <a:pt x="16765" y="18408"/>
                  <a:pt x="16793" y="18430"/>
                </a:cubicBezTo>
                <a:cubicBezTo>
                  <a:pt x="16883" y="18500"/>
                  <a:pt x="16709" y="18574"/>
                  <a:pt x="16669" y="18579"/>
                </a:cubicBezTo>
                <a:cubicBezTo>
                  <a:pt x="16644" y="18579"/>
                  <a:pt x="16636" y="18579"/>
                  <a:pt x="16619" y="18579"/>
                </a:cubicBezTo>
              </a:path>
              <a:path w="6028" h="5656">
                <a:moveTo>
                  <a:pt x="16619" y="13345"/>
                </a:moveTo>
                <a:cubicBezTo>
                  <a:pt x="16619" y="13389"/>
                  <a:pt x="16621" y="13384"/>
                  <a:pt x="16594" y="13419"/>
                </a:cubicBezTo>
                <a:cubicBezTo>
                  <a:pt x="16599" y="13397"/>
                  <a:pt x="16653" y="13238"/>
                  <a:pt x="16718" y="13320"/>
                </a:cubicBezTo>
                <a:cubicBezTo>
                  <a:pt x="16822" y="13452"/>
                  <a:pt x="16703" y="13666"/>
                  <a:pt x="16619" y="13767"/>
                </a:cubicBezTo>
                <a:cubicBezTo>
                  <a:pt x="16531" y="13872"/>
                  <a:pt x="16523" y="13892"/>
                  <a:pt x="16421" y="13866"/>
                </a:cubicBezTo>
                <a:cubicBezTo>
                  <a:pt x="16421" y="13775"/>
                  <a:pt x="16480" y="13755"/>
                  <a:pt x="16570" y="13742"/>
                </a:cubicBezTo>
                <a:cubicBezTo>
                  <a:pt x="16682" y="13726"/>
                  <a:pt x="16682" y="13772"/>
                  <a:pt x="16743" y="13791"/>
                </a:cubicBezTo>
              </a:path>
              <a:path w="6028" h="5656">
                <a:moveTo>
                  <a:pt x="16470" y="18703"/>
                </a:moveTo>
                <a:cubicBezTo>
                  <a:pt x="16478" y="18695"/>
                  <a:pt x="16487" y="18686"/>
                  <a:pt x="16495" y="18678"/>
                </a:cubicBezTo>
                <a:cubicBezTo>
                  <a:pt x="16548" y="18731"/>
                  <a:pt x="16543" y="18766"/>
                  <a:pt x="16570" y="18827"/>
                </a:cubicBezTo>
                <a:cubicBezTo>
                  <a:pt x="16578" y="18835"/>
                  <a:pt x="16586" y="18844"/>
                  <a:pt x="16594" y="18852"/>
                </a:cubicBezTo>
              </a:path>
              <a:path w="6028" h="5656">
                <a:moveTo>
                  <a:pt x="16966" y="18529"/>
                </a:moveTo>
                <a:cubicBezTo>
                  <a:pt x="16966" y="18598"/>
                  <a:pt x="16924" y="18635"/>
                  <a:pt x="16917" y="18703"/>
                </a:cubicBezTo>
                <a:cubicBezTo>
                  <a:pt x="16917" y="18719"/>
                  <a:pt x="16917" y="18736"/>
                  <a:pt x="16917" y="18752"/>
                </a:cubicBezTo>
                <a:cubicBezTo>
                  <a:pt x="16969" y="18746"/>
                  <a:pt x="17090" y="18732"/>
                  <a:pt x="17090" y="18653"/>
                </a:cubicBezTo>
                <a:cubicBezTo>
                  <a:pt x="17090" y="18513"/>
                  <a:pt x="17053" y="18553"/>
                  <a:pt x="16966" y="18579"/>
                </a:cubicBezTo>
              </a:path>
              <a:path w="6028" h="5656">
                <a:moveTo>
                  <a:pt x="17413" y="18380"/>
                </a:moveTo>
                <a:cubicBezTo>
                  <a:pt x="17413" y="18501"/>
                  <a:pt x="17303" y="18657"/>
                  <a:pt x="17239" y="18752"/>
                </a:cubicBezTo>
                <a:cubicBezTo>
                  <a:pt x="17206" y="18793"/>
                  <a:pt x="17173" y="18835"/>
                  <a:pt x="17140" y="18876"/>
                </a:cubicBezTo>
              </a:path>
              <a:path w="6028" h="5656">
                <a:moveTo>
                  <a:pt x="17512" y="18604"/>
                </a:moveTo>
                <a:cubicBezTo>
                  <a:pt x="17566" y="18593"/>
                  <a:pt x="17714" y="18495"/>
                  <a:pt x="17686" y="18604"/>
                </a:cubicBezTo>
                <a:cubicBezTo>
                  <a:pt x="17661" y="18653"/>
                  <a:pt x="17652" y="18670"/>
                  <a:pt x="17636" y="18703"/>
                </a:cubicBezTo>
                <a:cubicBezTo>
                  <a:pt x="17628" y="18703"/>
                  <a:pt x="17619" y="18703"/>
                  <a:pt x="17611" y="18703"/>
                </a:cubicBezTo>
                <a:cubicBezTo>
                  <a:pt x="17694" y="18689"/>
                  <a:pt x="17751" y="18647"/>
                  <a:pt x="17760" y="18752"/>
                </a:cubicBezTo>
                <a:cubicBezTo>
                  <a:pt x="17773" y="18898"/>
                  <a:pt x="17666" y="18916"/>
                  <a:pt x="17562" y="18901"/>
                </a:cubicBezTo>
                <a:cubicBezTo>
                  <a:pt x="17554" y="18901"/>
                  <a:pt x="17545" y="18901"/>
                  <a:pt x="17537" y="189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4960" y="6054840"/>
            <a:ext cx="679320" cy="758880"/>
          </a:xfrm>
          <a:custGeom>
            <a:avLst/>
            <a:gdLst/>
            <a:ahLst/>
            <a:rect l="l" t="t" r="r" b="b"/>
            <a:pathLst>
              <a:path w="1886" h="2109">
                <a:moveTo>
                  <a:pt x="14486" y="16842"/>
                </a:moveTo>
                <a:cubicBezTo>
                  <a:pt x="14486" y="16834"/>
                  <a:pt x="14486" y="16826"/>
                  <a:pt x="14486" y="16818"/>
                </a:cubicBezTo>
              </a:path>
              <a:path w="1886" h="2109">
                <a:moveTo>
                  <a:pt x="14932" y="18207"/>
                </a:moveTo>
                <a:cubicBezTo>
                  <a:pt x="14975" y="18207"/>
                  <a:pt x="15000" y="18212"/>
                  <a:pt x="15032" y="18231"/>
                </a:cubicBezTo>
              </a:path>
              <a:path w="1886" h="2109">
                <a:moveTo>
                  <a:pt x="16173" y="18926"/>
                </a:moveTo>
                <a:cubicBezTo>
                  <a:pt x="16235" y="18910"/>
                  <a:pt x="16300" y="18894"/>
                  <a:pt x="16371" y="188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00920" y="4599000"/>
            <a:ext cx="1581120" cy="1044720"/>
          </a:xfrm>
          <a:custGeom>
            <a:avLst/>
            <a:gdLst/>
            <a:ahLst/>
            <a:rect l="l" t="t" r="r" b="b"/>
            <a:pathLst>
              <a:path w="4391" h="2904">
                <a:moveTo>
                  <a:pt x="20216" y="13692"/>
                </a:moveTo>
                <a:cubicBezTo>
                  <a:pt x="20224" y="13700"/>
                  <a:pt x="20233" y="13709"/>
                  <a:pt x="20241" y="13717"/>
                </a:cubicBezTo>
                <a:cubicBezTo>
                  <a:pt x="20270" y="13657"/>
                  <a:pt x="20194" y="13608"/>
                  <a:pt x="20117" y="13618"/>
                </a:cubicBezTo>
                <a:cubicBezTo>
                  <a:pt x="20013" y="13631"/>
                  <a:pt x="19971" y="13716"/>
                  <a:pt x="19918" y="13791"/>
                </a:cubicBezTo>
                <a:cubicBezTo>
                  <a:pt x="20044" y="13854"/>
                  <a:pt x="20113" y="13829"/>
                  <a:pt x="20191" y="13940"/>
                </a:cubicBezTo>
                <a:cubicBezTo>
                  <a:pt x="20159" y="14038"/>
                  <a:pt x="20067" y="14146"/>
                  <a:pt x="19943" y="14064"/>
                </a:cubicBezTo>
                <a:cubicBezTo>
                  <a:pt x="19923" y="14024"/>
                  <a:pt x="19914" y="14018"/>
                  <a:pt x="19918" y="13990"/>
                </a:cubicBezTo>
              </a:path>
              <a:path w="4391" h="2904">
                <a:moveTo>
                  <a:pt x="20117" y="13543"/>
                </a:moveTo>
                <a:cubicBezTo>
                  <a:pt x="20117" y="13678"/>
                  <a:pt x="20134" y="13806"/>
                  <a:pt x="20141" y="13940"/>
                </a:cubicBezTo>
                <a:cubicBezTo>
                  <a:pt x="20146" y="14040"/>
                  <a:pt x="20166" y="14139"/>
                  <a:pt x="20166" y="14238"/>
                </a:cubicBezTo>
              </a:path>
              <a:path w="4391" h="2904">
                <a:moveTo>
                  <a:pt x="20513" y="13717"/>
                </a:moveTo>
                <a:cubicBezTo>
                  <a:pt x="20513" y="13827"/>
                  <a:pt x="20531" y="13931"/>
                  <a:pt x="20538" y="14039"/>
                </a:cubicBezTo>
                <a:cubicBezTo>
                  <a:pt x="20544" y="14129"/>
                  <a:pt x="20553" y="14201"/>
                  <a:pt x="20563" y="14288"/>
                </a:cubicBezTo>
              </a:path>
              <a:path w="4391" h="2904">
                <a:moveTo>
                  <a:pt x="20836" y="13816"/>
                </a:moveTo>
                <a:cubicBezTo>
                  <a:pt x="20858" y="13809"/>
                  <a:pt x="20875" y="13774"/>
                  <a:pt x="20886" y="13742"/>
                </a:cubicBezTo>
                <a:cubicBezTo>
                  <a:pt x="20886" y="13734"/>
                  <a:pt x="20886" y="13725"/>
                  <a:pt x="20886" y="13717"/>
                </a:cubicBezTo>
                <a:cubicBezTo>
                  <a:pt x="20840" y="13875"/>
                  <a:pt x="20816" y="14024"/>
                  <a:pt x="20811" y="14188"/>
                </a:cubicBezTo>
                <a:cubicBezTo>
                  <a:pt x="20811" y="14205"/>
                  <a:pt x="20811" y="14221"/>
                  <a:pt x="20811" y="14238"/>
                </a:cubicBezTo>
                <a:cubicBezTo>
                  <a:pt x="20896" y="14247"/>
                  <a:pt x="21011" y="14216"/>
                  <a:pt x="21059" y="14114"/>
                </a:cubicBezTo>
                <a:cubicBezTo>
                  <a:pt x="21115" y="13993"/>
                  <a:pt x="21058" y="13905"/>
                  <a:pt x="20960" y="13841"/>
                </a:cubicBezTo>
                <a:cubicBezTo>
                  <a:pt x="20915" y="13812"/>
                  <a:pt x="20901" y="13769"/>
                  <a:pt x="20886" y="13816"/>
                </a:cubicBezTo>
              </a:path>
              <a:path w="4391" h="2904">
                <a:moveTo>
                  <a:pt x="21183" y="13791"/>
                </a:moveTo>
                <a:cubicBezTo>
                  <a:pt x="21231" y="13886"/>
                  <a:pt x="21155" y="13978"/>
                  <a:pt x="21282" y="14015"/>
                </a:cubicBezTo>
                <a:cubicBezTo>
                  <a:pt x="21329" y="14029"/>
                  <a:pt x="21406" y="14015"/>
                  <a:pt x="21456" y="14015"/>
                </a:cubicBezTo>
              </a:path>
              <a:path w="4391" h="2904">
                <a:moveTo>
                  <a:pt x="21332" y="13593"/>
                </a:moveTo>
                <a:cubicBezTo>
                  <a:pt x="21354" y="13765"/>
                  <a:pt x="21413" y="13923"/>
                  <a:pt x="21456" y="14089"/>
                </a:cubicBezTo>
                <a:cubicBezTo>
                  <a:pt x="21458" y="14097"/>
                  <a:pt x="21481" y="14341"/>
                  <a:pt x="21481" y="14288"/>
                </a:cubicBezTo>
              </a:path>
              <a:path w="4391" h="2904">
                <a:moveTo>
                  <a:pt x="21853" y="14163"/>
                </a:moveTo>
                <a:cubicBezTo>
                  <a:pt x="21853" y="14193"/>
                  <a:pt x="21841" y="14339"/>
                  <a:pt x="21903" y="14263"/>
                </a:cubicBezTo>
                <a:cubicBezTo>
                  <a:pt x="21919" y="14238"/>
                  <a:pt x="21936" y="14213"/>
                  <a:pt x="21952" y="14188"/>
                </a:cubicBezTo>
                <a:cubicBezTo>
                  <a:pt x="21915" y="14197"/>
                  <a:pt x="21863" y="14218"/>
                  <a:pt x="21903" y="14238"/>
                </a:cubicBezTo>
              </a:path>
              <a:path w="4391" h="2904">
                <a:moveTo>
                  <a:pt x="22547" y="13742"/>
                </a:moveTo>
                <a:cubicBezTo>
                  <a:pt x="22625" y="13716"/>
                  <a:pt x="22547" y="13663"/>
                  <a:pt x="22498" y="13643"/>
                </a:cubicBezTo>
                <a:cubicBezTo>
                  <a:pt x="22428" y="13614"/>
                  <a:pt x="22231" y="13582"/>
                  <a:pt x="22200" y="13692"/>
                </a:cubicBezTo>
                <a:cubicBezTo>
                  <a:pt x="22154" y="13857"/>
                  <a:pt x="22352" y="13927"/>
                  <a:pt x="22448" y="14015"/>
                </a:cubicBezTo>
                <a:cubicBezTo>
                  <a:pt x="22604" y="14158"/>
                  <a:pt x="22306" y="14168"/>
                  <a:pt x="22225" y="14163"/>
                </a:cubicBezTo>
                <a:cubicBezTo>
                  <a:pt x="22211" y="13989"/>
                  <a:pt x="22305" y="13957"/>
                  <a:pt x="22399" y="13816"/>
                </a:cubicBezTo>
                <a:cubicBezTo>
                  <a:pt x="22399" y="13808"/>
                  <a:pt x="22399" y="13799"/>
                  <a:pt x="22399" y="13791"/>
                </a:cubicBezTo>
              </a:path>
              <a:path w="4391" h="2904">
                <a:moveTo>
                  <a:pt x="22721" y="13767"/>
                </a:moveTo>
                <a:cubicBezTo>
                  <a:pt x="22721" y="13693"/>
                  <a:pt x="22802" y="13643"/>
                  <a:pt x="22870" y="13618"/>
                </a:cubicBezTo>
                <a:cubicBezTo>
                  <a:pt x="22887" y="13618"/>
                  <a:pt x="22903" y="13618"/>
                  <a:pt x="22920" y="13618"/>
                </a:cubicBezTo>
                <a:cubicBezTo>
                  <a:pt x="22973" y="13753"/>
                  <a:pt x="22977" y="13775"/>
                  <a:pt x="22870" y="13866"/>
                </a:cubicBezTo>
                <a:cubicBezTo>
                  <a:pt x="22834" y="13896"/>
                  <a:pt x="22833" y="13906"/>
                  <a:pt x="22820" y="13866"/>
                </a:cubicBezTo>
                <a:cubicBezTo>
                  <a:pt x="22930" y="13882"/>
                  <a:pt x="23080" y="13903"/>
                  <a:pt x="23019" y="14064"/>
                </a:cubicBezTo>
                <a:cubicBezTo>
                  <a:pt x="22972" y="14188"/>
                  <a:pt x="22802" y="14188"/>
                  <a:pt x="22696" y="14188"/>
                </a:cubicBezTo>
              </a:path>
              <a:path w="4391" h="2904">
                <a:moveTo>
                  <a:pt x="22473" y="13717"/>
                </a:moveTo>
                <a:cubicBezTo>
                  <a:pt x="22473" y="13692"/>
                  <a:pt x="22473" y="13684"/>
                  <a:pt x="22498" y="13692"/>
                </a:cubicBezTo>
                <a:cubicBezTo>
                  <a:pt x="22529" y="13739"/>
                  <a:pt x="22494" y="13758"/>
                  <a:pt x="22448" y="13816"/>
                </a:cubicBezTo>
              </a:path>
              <a:path w="4391" h="2904">
                <a:moveTo>
                  <a:pt x="21183" y="13295"/>
                </a:moveTo>
                <a:cubicBezTo>
                  <a:pt x="21126" y="13263"/>
                  <a:pt x="21051" y="13198"/>
                  <a:pt x="20985" y="13171"/>
                </a:cubicBezTo>
                <a:cubicBezTo>
                  <a:pt x="20809" y="13098"/>
                  <a:pt x="20568" y="13047"/>
                  <a:pt x="20389" y="13072"/>
                </a:cubicBezTo>
                <a:cubicBezTo>
                  <a:pt x="20246" y="13092"/>
                  <a:pt x="20120" y="13140"/>
                  <a:pt x="19993" y="13221"/>
                </a:cubicBezTo>
                <a:cubicBezTo>
                  <a:pt x="19819" y="13331"/>
                  <a:pt x="19592" y="13571"/>
                  <a:pt x="19521" y="13767"/>
                </a:cubicBezTo>
                <a:cubicBezTo>
                  <a:pt x="19435" y="14005"/>
                  <a:pt x="19447" y="14240"/>
                  <a:pt x="19472" y="14486"/>
                </a:cubicBezTo>
                <a:cubicBezTo>
                  <a:pt x="19502" y="14778"/>
                  <a:pt x="19591" y="15089"/>
                  <a:pt x="19769" y="15329"/>
                </a:cubicBezTo>
                <a:cubicBezTo>
                  <a:pt x="19875" y="15472"/>
                  <a:pt x="20112" y="15624"/>
                  <a:pt x="20290" y="15652"/>
                </a:cubicBezTo>
                <a:cubicBezTo>
                  <a:pt x="20537" y="15690"/>
                  <a:pt x="20765" y="15642"/>
                  <a:pt x="21010" y="15627"/>
                </a:cubicBezTo>
                <a:cubicBezTo>
                  <a:pt x="21216" y="15614"/>
                  <a:pt x="21424" y="15588"/>
                  <a:pt x="21630" y="15577"/>
                </a:cubicBezTo>
                <a:cubicBezTo>
                  <a:pt x="21873" y="15564"/>
                  <a:pt x="22086" y="15520"/>
                  <a:pt x="22324" y="15478"/>
                </a:cubicBezTo>
                <a:cubicBezTo>
                  <a:pt x="22607" y="15428"/>
                  <a:pt x="22840" y="15343"/>
                  <a:pt x="23093" y="15205"/>
                </a:cubicBezTo>
                <a:cubicBezTo>
                  <a:pt x="23331" y="15075"/>
                  <a:pt x="23539" y="14889"/>
                  <a:pt x="23688" y="14660"/>
                </a:cubicBezTo>
                <a:cubicBezTo>
                  <a:pt x="23868" y="14383"/>
                  <a:pt x="23863" y="14006"/>
                  <a:pt x="23812" y="13692"/>
                </a:cubicBezTo>
                <a:cubicBezTo>
                  <a:pt x="23783" y="13515"/>
                  <a:pt x="23727" y="13422"/>
                  <a:pt x="23639" y="13271"/>
                </a:cubicBezTo>
                <a:cubicBezTo>
                  <a:pt x="23559" y="13133"/>
                  <a:pt x="23437" y="13001"/>
                  <a:pt x="23292" y="12923"/>
                </a:cubicBezTo>
                <a:cubicBezTo>
                  <a:pt x="23118" y="12830"/>
                  <a:pt x="22866" y="12787"/>
                  <a:pt x="22671" y="12774"/>
                </a:cubicBezTo>
                <a:cubicBezTo>
                  <a:pt x="22334" y="12752"/>
                  <a:pt x="21984" y="12783"/>
                  <a:pt x="21654" y="12849"/>
                </a:cubicBezTo>
                <a:cubicBezTo>
                  <a:pt x="21215" y="12937"/>
                  <a:pt x="20693" y="13068"/>
                  <a:pt x="20315" y="13320"/>
                </a:cubicBezTo>
                <a:cubicBezTo>
                  <a:pt x="20298" y="13337"/>
                  <a:pt x="20282" y="13353"/>
                  <a:pt x="20265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1 Homewor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Workbook pg. 49 7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Power Football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ry algebra style for a challen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  <a:hlinkClick r:id="rId2"/>
              </a:rPr>
              <a:t>ClassZ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apter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67760" y="866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464" y="2406"/>
                </a:moveTo>
                <a:lnTo>
                  <a:pt x="20464" y="240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56280" y="785880"/>
            <a:ext cx="839880" cy="465120"/>
          </a:xfrm>
          <a:custGeom>
            <a:avLst/>
            <a:gdLst/>
            <a:ahLst/>
            <a:rect l="l" t="t" r="r" b="b"/>
            <a:pathLst>
              <a:path w="2332" h="1291">
                <a:moveTo>
                  <a:pt x="19521" y="2183"/>
                </a:moveTo>
                <a:cubicBezTo>
                  <a:pt x="19462" y="2394"/>
                  <a:pt x="19350" y="2575"/>
                  <a:pt x="19323" y="2803"/>
                </a:cubicBezTo>
                <a:cubicBezTo>
                  <a:pt x="19295" y="3042"/>
                  <a:pt x="19328" y="3103"/>
                  <a:pt x="19496" y="3225"/>
                </a:cubicBezTo>
              </a:path>
              <a:path w="2332" h="1291">
                <a:moveTo>
                  <a:pt x="19869" y="2877"/>
                </a:moveTo>
                <a:cubicBezTo>
                  <a:pt x="19885" y="3070"/>
                  <a:pt x="19893" y="3254"/>
                  <a:pt x="19893" y="3448"/>
                </a:cubicBezTo>
                <a:cubicBezTo>
                  <a:pt x="19837" y="3487"/>
                  <a:pt x="19795" y="3209"/>
                  <a:pt x="19794" y="3175"/>
                </a:cubicBezTo>
                <a:cubicBezTo>
                  <a:pt x="19787" y="2918"/>
                  <a:pt x="19850" y="2736"/>
                  <a:pt x="20017" y="2555"/>
                </a:cubicBezTo>
                <a:cubicBezTo>
                  <a:pt x="20124" y="2618"/>
                  <a:pt x="20282" y="2777"/>
                  <a:pt x="20166" y="2927"/>
                </a:cubicBezTo>
                <a:cubicBezTo>
                  <a:pt x="20075" y="3045"/>
                  <a:pt x="19917" y="3044"/>
                  <a:pt x="19794" y="3026"/>
                </a:cubicBezTo>
              </a:path>
              <a:path w="2332" h="1291">
                <a:moveTo>
                  <a:pt x="20489" y="2704"/>
                </a:moveTo>
                <a:cubicBezTo>
                  <a:pt x="20489" y="2823"/>
                  <a:pt x="20526" y="2933"/>
                  <a:pt x="20538" y="3051"/>
                </a:cubicBezTo>
                <a:cubicBezTo>
                  <a:pt x="20538" y="3076"/>
                  <a:pt x="20538" y="3100"/>
                  <a:pt x="20538" y="3125"/>
                </a:cubicBezTo>
              </a:path>
              <a:path w="2332" h="1291">
                <a:moveTo>
                  <a:pt x="21109" y="2828"/>
                </a:moveTo>
                <a:cubicBezTo>
                  <a:pt x="21109" y="2773"/>
                  <a:pt x="21130" y="2690"/>
                  <a:pt x="21084" y="2654"/>
                </a:cubicBezTo>
                <a:cubicBezTo>
                  <a:pt x="20963" y="2561"/>
                  <a:pt x="20912" y="2740"/>
                  <a:pt x="20886" y="2828"/>
                </a:cubicBezTo>
                <a:cubicBezTo>
                  <a:pt x="20842" y="2974"/>
                  <a:pt x="20891" y="3169"/>
                  <a:pt x="21084" y="3125"/>
                </a:cubicBezTo>
                <a:cubicBezTo>
                  <a:pt x="21193" y="3071"/>
                  <a:pt x="21232" y="3045"/>
                  <a:pt x="21258" y="2952"/>
                </a:cubicBezTo>
              </a:path>
              <a:path w="2332" h="1291">
                <a:moveTo>
                  <a:pt x="21208" y="2356"/>
                </a:moveTo>
                <a:cubicBezTo>
                  <a:pt x="21248" y="2554"/>
                  <a:pt x="21291" y="2748"/>
                  <a:pt x="21307" y="2952"/>
                </a:cubicBezTo>
                <a:cubicBezTo>
                  <a:pt x="21311" y="3010"/>
                  <a:pt x="21307" y="3134"/>
                  <a:pt x="21307" y="3076"/>
                </a:cubicBezTo>
              </a:path>
              <a:path w="2332" h="1291">
                <a:moveTo>
                  <a:pt x="21530" y="2530"/>
                </a:moveTo>
                <a:cubicBezTo>
                  <a:pt x="21485" y="2651"/>
                  <a:pt x="21463" y="2735"/>
                  <a:pt x="21332" y="2778"/>
                </a:cubicBezTo>
                <a:cubicBezTo>
                  <a:pt x="21432" y="2778"/>
                  <a:pt x="21539" y="2787"/>
                  <a:pt x="21605" y="2877"/>
                </a:cubicBezTo>
                <a:cubicBezTo>
                  <a:pt x="21644" y="2975"/>
                  <a:pt x="21660" y="2989"/>
                  <a:pt x="21654" y="30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010360" y="696960"/>
            <a:ext cx="320760" cy="490320"/>
          </a:xfrm>
          <a:custGeom>
            <a:avLst/>
            <a:gdLst/>
            <a:ahLst/>
            <a:rect l="l" t="t" r="r" b="b"/>
            <a:pathLst>
              <a:path w="894" h="1365">
                <a:moveTo>
                  <a:pt x="22498" y="2456"/>
                </a:moveTo>
                <a:cubicBezTo>
                  <a:pt x="22466" y="2462"/>
                  <a:pt x="22340" y="2467"/>
                  <a:pt x="22324" y="2480"/>
                </a:cubicBezTo>
                <a:cubicBezTo>
                  <a:pt x="22275" y="2521"/>
                  <a:pt x="22241" y="2738"/>
                  <a:pt x="22250" y="2803"/>
                </a:cubicBezTo>
                <a:cubicBezTo>
                  <a:pt x="22258" y="2811"/>
                  <a:pt x="22267" y="2820"/>
                  <a:pt x="22275" y="2828"/>
                </a:cubicBezTo>
                <a:cubicBezTo>
                  <a:pt x="22357" y="2780"/>
                  <a:pt x="22505" y="2734"/>
                  <a:pt x="22597" y="2803"/>
                </a:cubicBezTo>
                <a:cubicBezTo>
                  <a:pt x="22763" y="2927"/>
                  <a:pt x="22569" y="3049"/>
                  <a:pt x="22448" y="3051"/>
                </a:cubicBezTo>
                <a:cubicBezTo>
                  <a:pt x="22326" y="3031"/>
                  <a:pt x="22295" y="3041"/>
                  <a:pt x="22250" y="2977"/>
                </a:cubicBezTo>
              </a:path>
              <a:path w="894" h="1365">
                <a:moveTo>
                  <a:pt x="22597" y="1935"/>
                </a:moveTo>
                <a:cubicBezTo>
                  <a:pt x="22785" y="2105"/>
                  <a:pt x="22999" y="2359"/>
                  <a:pt x="23093" y="2604"/>
                </a:cubicBezTo>
                <a:cubicBezTo>
                  <a:pt x="23187" y="2849"/>
                  <a:pt x="23129" y="3081"/>
                  <a:pt x="22969" y="3274"/>
                </a:cubicBezTo>
                <a:cubicBezTo>
                  <a:pt x="22961" y="3282"/>
                  <a:pt x="22952" y="3291"/>
                  <a:pt x="22944" y="32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21T18:04:38Z</dcterms:modified>
  <cp:revision>32</cp:revision>
  <dc:subject/>
  <dc:title>Unit 1 – Variables and Equations </dc:title>
</cp:coreProperties>
</file>